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21DC-A6DD-47E1-800C-CA4926FBEE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máme druhý případ komplexního modelu. Cytoskelet je modelován tensegritní strukturou, a ostatní složky buňky jsou modelovány jako k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37B-B4FB-4F34-BD8F-A599DA3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CF5-0D67-4234-B105-CAC710BF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E7E-3642-4998-834E-FFD08DA0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E20-81BB-48AC-B8F9-1114BA94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758-FFC4-472F-87E8-81563D22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CBD-2440-44E0-ADCC-412AE6C1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86A-B91A-434F-A709-FC53AAF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DDB-67B2-47CF-992D-E7E26A90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1C1-0FB4-429A-BD06-AB4B56A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B6C-52AC-4223-AF28-D234A39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1F9-B9F1-4125-AB82-E356D8ED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75F-7BA2-4A27-9140-410803A5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B02E-835C-4AE8-BDF0-DD9478CE1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Komplexní model buňky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 tensegritní soustavou modelující cytoskle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55640" y="1484280"/>
            <a:ext cx="7777080" cy="4897440"/>
            <a:chOff x="755640" y="1484280"/>
            <a:chExt cx="7777080" cy="489744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7546" t="6999" r="28074" b="6999"/>
            <a:stretch/>
          </p:blipFill>
          <p:spPr>
            <a:xfrm>
              <a:off x="1512720" y="2146320"/>
              <a:ext cx="2949840" cy="3549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1" name=""/>
            <p:cNvGraphicFramePr/>
            <p:nvPr/>
          </p:nvGraphicFramePr>
          <p:xfrm>
            <a:off x="4457880" y="2467080"/>
            <a:ext cx="2908080" cy="3078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57880" y="2467080"/>
                      <a:ext cx="29080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1512720" y="5670720"/>
              <a:ext cx="6359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br. X: Model hladké svalové buň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ádro, cytoplazma a membránový skelet modelovaný skořepinovými prvk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(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ýztužná tensegritní struktura buňky – model hlubokého endoskeletu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12720" y="5076720"/>
              <a:ext cx="4716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57880" y="5076720"/>
              <a:ext cx="469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055160" y="2733840"/>
              <a:ext cx="824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055160" y="2263680"/>
              <a:ext cx="824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55800" y="2263680"/>
              <a:ext cx="47160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55800" y="2733840"/>
              <a:ext cx="706320" cy="82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341520" y="2381400"/>
              <a:ext cx="471600" cy="12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98720" y="2381400"/>
              <a:ext cx="1060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313320" y="2851200"/>
              <a:ext cx="4716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0520" y="2851200"/>
              <a:ext cx="941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5627520" y="2146320"/>
              <a:ext cx="47160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8720" y="1674720"/>
              <a:ext cx="15825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membrá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vý  ske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6920" y="2381400"/>
              <a:ext cx="1295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ytoplas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51280" y="1989000"/>
              <a:ext cx="106056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ád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84720" y="2146320"/>
              <a:ext cx="153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84720" y="1484280"/>
              <a:ext cx="1295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ah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88000" y="2205000"/>
              <a:ext cx="141300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lakové čle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5640" y="5734080"/>
              <a:ext cx="77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nsegritní soustava je vložena do kontinuálního modelu buňk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oužití komplexního strukturního modelu pro modelování buňky na podlož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J. McGarry G., Prendergast P.J., A three-dimensional finite element model of an      adherent eukaryotic cell, European cells and</a:t>
            </a:r>
            <a:r>
              <a:rPr b="1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áles,27-34,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mplexní výpočtový model buň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ný komplexní strukturní model buňky je tvořen těmito prv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Bunečná membrána (sarkolemma) a membránový skelet – modelovány pomocí skořepinov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yt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modelována pomocí 3D solid prvků jako velmi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dro a přilehlé organely modelováno pomocí 3D solid prvků jako méně poddajné kontinu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luboký cytoskelet - modelovaný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segritní soustav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reprezentující síť mikrotubulů a mikrofila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Komplexní strukturní model </a:t>
            </a:r>
            <a:br>
              <a:rPr sz="3600"/>
            </a:b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e složitější tensegritní strukturou cytoskele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222200" y="1773360"/>
            <a:ext cx="6805800" cy="4534920"/>
            <a:chOff x="1222200" y="1773360"/>
            <a:chExt cx="6805800" cy="4534920"/>
          </a:xfrm>
        </p:grpSpPr>
        <p:pic>
          <p:nvPicPr>
            <p:cNvPr id="79" name="" descr=""/>
            <p:cNvPicPr/>
            <p:nvPr/>
          </p:nvPicPr>
          <p:blipFill>
            <a:blip r:embed="rId1"/>
            <a:srcRect l="14518" t="5618" r="17192" b="4969"/>
            <a:stretch/>
          </p:blipFill>
          <p:spPr>
            <a:xfrm>
              <a:off x="4908600" y="1952280"/>
              <a:ext cx="3060360" cy="37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rcRect l="15707" t="5744" r="16792" b="3705"/>
            <a:stretch/>
          </p:blipFill>
          <p:spPr>
            <a:xfrm>
              <a:off x="1505520" y="1773360"/>
              <a:ext cx="3230280" cy="39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22200" y="1778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plaz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89200" y="561204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á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2960" y="5616000"/>
              <a:ext cx="19850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ový 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41240" y="1773360"/>
              <a:ext cx="1417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2200" y="2121840"/>
              <a:ext cx="9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4360" y="2121840"/>
              <a:ext cx="141480" cy="5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41240" y="2121840"/>
              <a:ext cx="85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92280" y="2121840"/>
              <a:ext cx="226836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340880" y="2121840"/>
              <a:ext cx="850680" cy="10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9200" y="5960880"/>
              <a:ext cx="4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14360" y="3864960"/>
              <a:ext cx="850680" cy="20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42960" y="5956920"/>
              <a:ext cx="155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617080" y="4561920"/>
              <a:ext cx="425160" cy="13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2400" y="5608440"/>
              <a:ext cx="1701360" cy="69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ové recep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2400" y="5956920"/>
              <a:ext cx="170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5191920" y="4039560"/>
              <a:ext cx="141480" cy="19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334120" y="2782440"/>
              <a:ext cx="432360" cy="31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Tvorba komplexního strukturního modelu </a:t>
            </a:r>
            <a:br>
              <a:rPr sz="36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buňky přilnuté k podlož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4195" t="2940" r="14363" b="2450"/>
          <a:stretch/>
        </p:blipFill>
        <p:spPr>
          <a:xfrm>
            <a:off x="1076400" y="2205000"/>
            <a:ext cx="2558880" cy="255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139400" y="1916280"/>
            <a:ext cx="2424240" cy="1871280"/>
            <a:chOff x="1139400" y="1916280"/>
            <a:chExt cx="2424240" cy="1871280"/>
          </a:xfrm>
        </p:grpSpPr>
        <p:sp>
          <p:nvSpPr>
            <p:cNvPr id="101" name=""/>
            <p:cNvSpPr/>
            <p:nvPr/>
          </p:nvSpPr>
          <p:spPr>
            <a:xfrm flipH="1">
              <a:off x="1375560" y="2504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982880" y="214380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356200" y="19162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727000" y="21211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344760" y="25218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6600" y="27730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61840" y="31284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755000" y="2756160"/>
              <a:ext cx="144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39400" y="314820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757160" y="350388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60280" y="3519720"/>
              <a:ext cx="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rcRect l="11367" t="27078" r="11872" b="27260"/>
          <a:stretch/>
        </p:blipFill>
        <p:spPr>
          <a:xfrm>
            <a:off x="4572000" y="1628640"/>
            <a:ext cx="3745080" cy="157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20030" t="41985" r="17572" b="15113"/>
          <a:stretch/>
        </p:blipFill>
        <p:spPr>
          <a:xfrm>
            <a:off x="4067280" y="3760920"/>
            <a:ext cx="4825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01:12Z</dcterms:created>
  <dc:creator>Jiri Bursa</dc:creator>
  <dc:description/>
  <dc:language>en-US</dc:language>
  <cp:lastModifiedBy>Jiří Burša</cp:lastModifiedBy>
  <dcterms:modified xsi:type="dcterms:W3CDTF">2009-03-31T14:13:17Z</dcterms:modified>
  <cp:revision>9</cp:revision>
  <dc:subject/>
  <dc:title>Komplexní model buňky  s tensegritní soustavou modelující cytosklelet</dc:title>
</cp:coreProperties>
</file>