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7767A-DB8A-408C-B871-768BC033B2A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ro modelování všech komponent buňky používáme lineárně elastický    konstitutivní model, který vzhledem k malému počtu konstitutivních parametrů usnadňuje jejich identifikaci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V tabulce jsou hodnoty elastických konstant, které jsme použili jako výchozi pro citlivostní analýz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BAA0-CAC9-481B-A7B5-AAB6DE07B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DF55-C5EE-4FDC-A4D8-AF126C0A6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1BED-7AD3-461A-B98F-78084E515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7E3C-3089-48EE-AD38-F3F9CB1FD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CF30-0A58-4FA9-AD79-01D31FCAE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E85D-A74F-450D-899B-0DD0F3E6C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563A-C8C6-4894-8605-7F1DE7F3D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2230-A359-4E9A-846D-50A689F43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5A6C-043E-478E-944D-BB1D8CE25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255F-7CA7-451A-80E2-DEF5837D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C6E9-D1DC-428F-AEF6-C9C2FA15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A4C7-6DBD-4455-AA2A-10EB18DA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078B7-AC4F-4B40-92C9-25BCC46B6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ff"/>
                </a:solidFill>
                <a:latin typeface="Arial"/>
              </a:rPr>
              <a:t>Materiálové vlastnosti mode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šechny složky jsou modelovány jako lineárně elastické izotropní materiály (kvůli snížení počtu parametrů, které je třeba identifikovat)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ro dosažení odezvy (tj. křivky hloubka vtlačení – síla) modelu odpovídající experimentům byly zvoleny elastické parametry jednotlivých komponent modelu podle následující tabulk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85800" y="3921120"/>
          <a:ext cx="7772400" cy="2100240"/>
        </p:xfrm>
        <a:graphic>
          <a:graphicData uri="http://schemas.openxmlformats.org/drawingml/2006/table">
            <a:tbl>
              <a:tblPr/>
              <a:tblGrid>
                <a:gridCol w="1941480"/>
                <a:gridCol w="1008000"/>
                <a:gridCol w="1224000"/>
                <a:gridCol w="1728720"/>
                <a:gridCol w="1008360"/>
                <a:gridCol w="86184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-tubul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-filament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br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nový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kel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to-plaz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ád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ul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ružnosti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kPa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e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e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sson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o číslo [-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7T20:39:17Z</dcterms:created>
  <dc:creator>Jiri Bursa</dc:creator>
  <dc:description/>
  <dc:language>en-US</dc:language>
  <cp:lastModifiedBy>Jiri Bursa</cp:lastModifiedBy>
  <dcterms:modified xsi:type="dcterms:W3CDTF">2007-01-07T20:45:14Z</dcterms:modified>
  <cp:revision>2</cp:revision>
  <dc:subject/>
  <dc:title>Materiálové vlastnosti modelu</dc:title>
</cp:coreProperties>
</file>