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BC7-6C6E-4375-A1EC-F23CBBE4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A45-08B0-43C4-B1CD-4122AE61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CDF-2A82-4CCB-BDB5-4CE3B089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8A62-BCDB-4384-BFEC-05335A916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11A-DCF9-47AB-A785-4448A8A3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B03-020B-4F47-8CAA-B294D2D5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139-4ADA-4142-8B95-33552FF6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04E-EE07-4A97-B017-1324A85E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878-D8F5-45D9-827C-B1295B2C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EA08-E60C-4E03-9062-C910CBE3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E4DF-C083-4A3F-9D23-28E47D90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66A-1FF2-412E-98D0-35CABCFD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1009-3E64-4B37-B76F-D345BAFA0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039320"/>
            <a:ext cx="842472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U soustavy tvaru pravidelného pětiúhelníka se dvěma úhlopříčnými pruty nelze pouhou změnou  uspořádání prutů vytvořit tensegritní (staticky neurčitou) soustavu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idáním jednoho prutu vznikne staticky neurčitá soustava vykazující charakteristické vlastnosti tensegritní soustavy; přestože má pouze jedinou osu symetrie, změnou délky kteréhokoli  prutu vznikne v ní předpětí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47000" y="260280"/>
            <a:ext cx="566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oustava tvaru pětiúhelní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7544" t="9334" r="17544" b="9334"/>
          <a:stretch/>
        </p:blipFill>
        <p:spPr>
          <a:xfrm>
            <a:off x="468360" y="2637000"/>
            <a:ext cx="3738600" cy="3512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7544" t="9334" r="17544" b="9334"/>
          <a:stretch/>
        </p:blipFill>
        <p:spPr>
          <a:xfrm>
            <a:off x="4681440" y="2637000"/>
            <a:ext cx="37782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0:04Z</dcterms:created>
  <dc:creator>Jiri Bursa</dc:creator>
  <dc:description/>
  <dc:language>en-US</dc:language>
  <cp:lastModifiedBy>Jiri Bursa</cp:lastModifiedBy>
  <dcterms:modified xsi:type="dcterms:W3CDTF">2006-12-28T12:21:29Z</dcterms:modified>
  <cp:revision>1</cp:revision>
  <dc:subject/>
  <dc:title>- U soustavy tvaru pravidelného pětiúhelníka se dvěma úhlopříčnými pruty nelze pouhou změnou  uspořádání prutů vytvořit tensegritní (staticky neurčitou) soustavu.  - Přidáním jednoho prutu vznikne staticky neurčitá soustava vykazující charakteristické vlastnosti tensegritní soustavy; přestože má pouze jedinou osu symetrie, změnou délky kteréhokoli  prutu vznikne v ní předpětí. </dc:title>
</cp:coreProperties>
</file>