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8321-16F3-4DAB-AD0F-B7E27A8D3F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de je model strukturní diskrétní. Pro modelování mechanického chování cytoskeletu se někdy využívá tzv. tensegritních struktur ,které vykazují podobné mechanické vlastnosti jako buňky. O těchto strukturách si něco řekneme za chví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B2F-E378-4136-985B-641E0972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02A-E661-45A5-B350-87B0F2CB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C29-1A8C-4410-A61E-744EBF77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31B-5785-458D-9A73-B2CF82A6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6D21-DFD4-492D-8C99-974837A8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05F-B858-45B6-B3C6-A45B0D5A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497-39A8-4ACB-BD59-C377807D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A4A-3F42-434C-A867-8F97A1CE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4DBA-4158-4A0F-9F99-0F5F08F4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651-1445-4000-BB9F-F71E61B8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AA1-5137-4DE3-8C17-929F0AE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93F-D596-4923-A3E4-59EB547C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8699-FF60-4EA1-A25A-1763E5B7D9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Arial"/>
              </a:rPr>
              <a:t>Strukturní model – diskrétní </a:t>
            </a:r>
            <a:br>
              <a:rPr sz="3700"/>
            </a:b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(tensegritní soust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Sultan C.; Stamenovic D.; Ingber D.E., A Computational Tensegrity Model Predicts Dynamic Rheological Behaviors in Living Cells, Annals of Biomedical Engineering, Vol. 32, No. 4, pp. 520–530,  2004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305160" cy="2943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2421" r="0" b="3323"/>
          <a:stretch/>
        </p:blipFill>
        <p:spPr>
          <a:xfrm>
            <a:off x="4724280" y="198108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4:29:21Z</dcterms:created>
  <dc:creator>Jiří Burša</dc:creator>
  <dc:description/>
  <dc:language>en-US</dc:language>
  <cp:lastModifiedBy>Jiří Burša</cp:lastModifiedBy>
  <dcterms:modified xsi:type="dcterms:W3CDTF">2007-01-04T14:29:45Z</dcterms:modified>
  <cp:revision>1</cp:revision>
  <dc:subject/>
  <dc:title>Strukturní model – diskrétní  (tensegritní soustava)</dc:title>
</cp:coreProperties>
</file>