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5D0-3813-47BD-A817-1A2B9F9D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AF6-2F3D-41CC-96A6-128B90FC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CFA0-3DBC-4075-B832-88287089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CF8-84A8-4BD6-9F44-AB0FAFDB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B47-1832-48B5-AB75-1C93C6E0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23E-429D-441C-8B48-7A26A9E1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00A-9C6B-4467-92FD-5F000CF7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86E-C677-418E-8078-79216223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859-7AF6-41DB-B06C-8472B9AA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6F3-2740-47A0-9B9A-1B177E43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376-7DC1-4B34-AADC-38D4A3FE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1FB-8D51-42EB-9430-52915655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8A16-DED1-4245-9AA0-D44C5E84A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ustava tvaru šestiúhelní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268280"/>
            <a:ext cx="8424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uspořádání úhlopříčných prutů do trojúhelníka nebo vějíře je soustava staticky určitá. Přestože se obě topologie liší počtem os symetrie, ani jedna z obou konfigurací nevykazuje tensegritní vlast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7544" t="9334" r="17544" b="9334"/>
          <a:stretch/>
        </p:blipFill>
        <p:spPr>
          <a:xfrm>
            <a:off x="4772160" y="2852640"/>
            <a:ext cx="3760560" cy="337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7546" t="9332" r="17546" b="9332"/>
          <a:stretch/>
        </p:blipFill>
        <p:spPr>
          <a:xfrm>
            <a:off x="684360" y="2852640"/>
            <a:ext cx="3809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oustava tvaru šestiúhelní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981000"/>
            <a:ext cx="8496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egritní soustavu lze vytvořit dvěma následujícími způsob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přeuspořádáním úhlopříčných prutů do tvaru hvězdy, bez změny jejich počtu, jen změnou symetrie soustav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 přidáním dalších tří prutů v trojúhelníkovém uspořádání; oba trojúhelníky jsou vzájemně pootoče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7546" t="9332" r="17546" b="9332"/>
          <a:stretch/>
        </p:blipFill>
        <p:spPr>
          <a:xfrm>
            <a:off x="685800" y="2604960"/>
            <a:ext cx="3843360" cy="3573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17544" t="9334" r="17544" b="9334"/>
          <a:stretch/>
        </p:blipFill>
        <p:spPr>
          <a:xfrm>
            <a:off x="4716360" y="2637000"/>
            <a:ext cx="38689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1:18Z</dcterms:created>
  <dc:creator>Jiri Bursa</dc:creator>
  <dc:description/>
  <dc:language>en-US</dc:language>
  <cp:lastModifiedBy>umt</cp:lastModifiedBy>
  <dcterms:modified xsi:type="dcterms:W3CDTF">2007-01-08T13:18:00Z</dcterms:modified>
  <cp:revision>4</cp:revision>
  <dc:subject/>
  <dc:title>Regular hexagonal structure</dc:title>
</cp:coreProperties>
</file>