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A44-B041-41A5-B343-5DCB1567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566-5FBA-4151-8134-2EE9BB8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8F0-D9C3-4CB7-AD47-B094B616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DD0-DA44-4E30-93BB-BDD57956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955-1D98-4112-B098-E658B55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F2E-DA83-4D32-95A8-2DC8FA06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E31-CC67-490F-838E-54B161E6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F9C-6381-4E03-AC26-B23C4BD0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7D5-1B82-444B-AE8B-81DBCF5E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A12-0EF7-4BEA-A6EB-44B0737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8E2-3FF1-44EC-984E-38CEA335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B6D-3C47-4627-94A5-021B9890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5B70-A0BF-40BF-A88C-78200EAC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zkou&#353;ka_tahem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estrukturní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Lze použít pro modelování libovolné mechanické zkoušky buňky například </a:t>
            </a:r>
            <a:r>
              <a:rPr b="0" lang="cs-CZ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koušky tahem</a:t>
            </a: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. Jeho nevýhodou je, že je příliš zjednodušený a není schopen zohlednit namáhání jednotlivých strukturních komponent buňky, takže není použitelný pro vyšetřování principu mechanotransduk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6:10:13Z</dcterms:created>
  <dc:creator>Jiri Bursa</dc:creator>
  <dc:description/>
  <dc:language>en-US</dc:language>
  <cp:lastModifiedBy>umt</cp:lastModifiedBy>
  <dcterms:modified xsi:type="dcterms:W3CDTF">2007-01-08T12:57:37Z</dcterms:modified>
  <cp:revision>3</cp:revision>
  <dc:subject/>
  <dc:title>Snímek 1</dc:title>
</cp:coreProperties>
</file>