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9F62-BD0F-4AA8-97B6-BC5565D7A0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případ nestruktutního modelu, v tomto případě se jedná o výpočtovou simulaci aspiračního testu mikropipet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B37-C630-42FD-9817-93963299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23E-8B58-43A3-AC3B-2ECA9854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B92-C513-403B-85A7-B0A1B174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E483-A150-443B-AB28-7A4DA75F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841-A9F0-4C2F-8770-C10B063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4E2-8C0F-4E05-BA1F-BA4AF16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2EF-8EA1-484D-98CF-CFE7E37C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8F6-A43D-4335-A538-4DFDF6FD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E5D-FCC9-48E6-8D52-1F4DC3A8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D3A-64F5-4335-AD75-E6BDA1B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728-1832-4395-91EA-0514816D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3AA-973D-46A4-ACE3-A7E2542C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ECF-503A-4211-882B-5734967FE0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632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Fotografie aspirační zkoušk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55558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rickey, W., F. Baaijens, T. Laursen, L. Alexopoulos, and F. Guilak., Determination of the Poisson’s ratio of the cell: Recovery properties of chondrocytes after release from complete micropipette aspiration. J. Biomechanics, 2004.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23403"/>
          <a:stretch/>
        </p:blipFill>
        <p:spPr>
          <a:xfrm>
            <a:off x="766800" y="1606680"/>
            <a:ext cx="733428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strukturní MKP model aspirační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6014" t="20522" r="0" b="0"/>
          <a:stretch/>
        </p:blipFill>
        <p:spPr>
          <a:xfrm>
            <a:off x="112680" y="1346040"/>
            <a:ext cx="4819680" cy="30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75360" y="3173400"/>
            <a:ext cx="3429000" cy="313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076720" y="1916280"/>
            <a:ext cx="2087640" cy="9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eformovaná MKP sí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4924440"/>
            <a:ext cx="20876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ormovaná MKP síť v mikropipe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26:30Z</dcterms:created>
  <dc:creator>Jiří Burša</dc:creator>
  <dc:description/>
  <dc:language>en-US</dc:language>
  <cp:lastModifiedBy>Jiri Bursa</cp:lastModifiedBy>
  <dcterms:modified xsi:type="dcterms:W3CDTF">2007-01-07T14:42:07Z</dcterms:modified>
  <cp:revision>4</cp:revision>
  <dc:subject/>
  <dc:title>Nestrukturní model Modelování aspirační zkoušky</dc:title>
</cp:coreProperties>
</file>