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BAEB-D129-4DC7-9F1C-F9E3A835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9A9A-F2F0-4688-BD15-5A165CE9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5911-66A8-4A05-921D-0A5AC7D6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F9FC-26C7-426D-A72C-79B02561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0219-6A4A-4DB1-B160-992010E0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47BF-3EB8-4300-A91B-06766B86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BF91-AE87-45C5-821F-0FEA9E39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FA45-323C-4CCC-A040-052572EF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5165-9BC4-4909-8F9C-801384EC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F1F5-9C34-4274-B5FB-31FEA642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1136-7E91-4E24-B2B5-4C6E5CD2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3569-8987-4239-A727-1D187880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3366-C6E3-49A6-9503-361A5AB83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85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Porovnání výsledků vtlačovací zkoušky s MKP simulac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xperimentální křivky (plné černé čáry) v porovnání se simulací s hrotem umístěným na centrálním membránovém receptoru (modrá čárkovaná čára), mimo receptor (červená tečkovaná čára dolní) a na bočním receptoru (červená tečkovaná čára horní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116000" y="1700280"/>
            <a:ext cx="7128000" cy="3960720"/>
            <a:chOff x="1116000" y="1700280"/>
            <a:chExt cx="7128000" cy="396072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1116000" y="1700280"/>
              <a:ext cx="7128000" cy="3960720"/>
            </a:xfrm>
            <a:prstGeom prst="rect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</p:pic>
        <p:sp>
          <p:nvSpPr>
            <p:cNvPr id="44" name=""/>
            <p:cNvSpPr/>
            <p:nvPr/>
          </p:nvSpPr>
          <p:spPr>
            <a:xfrm>
              <a:off x="2264400" y="1997640"/>
              <a:ext cx="5428440" cy="2944800"/>
            </a:xfrm>
            <a:custGeom>
              <a:avLst/>
              <a:gdLst/>
              <a:ahLst/>
              <a:rect l="l" t="t" r="r" b="b"/>
              <a:pathLst>
                <a:path w="5400" h="3600">
                  <a:moveTo>
                    <a:pt x="0" y="3600"/>
                  </a:moveTo>
                  <a:cubicBezTo>
                    <a:pt x="450" y="3450"/>
                    <a:pt x="900" y="3300"/>
                    <a:pt x="1800" y="2700"/>
                  </a:cubicBezTo>
                  <a:cubicBezTo>
                    <a:pt x="2700" y="2100"/>
                    <a:pt x="4800" y="420"/>
                    <a:pt x="5400" y="0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360160" y="3634200"/>
              <a:ext cx="5332680" cy="1338840"/>
            </a:xfrm>
            <a:custGeom>
              <a:avLst/>
              <a:gdLst/>
              <a:ahLst/>
              <a:rect l="l" t="t" r="r" b="b"/>
              <a:pathLst>
                <a:path w="5400" h="1620">
                  <a:moveTo>
                    <a:pt x="0" y="1620"/>
                  </a:moveTo>
                  <a:cubicBezTo>
                    <a:pt x="900" y="1395"/>
                    <a:pt x="1800" y="1170"/>
                    <a:pt x="2700" y="900"/>
                  </a:cubicBezTo>
                  <a:cubicBezTo>
                    <a:pt x="3600" y="630"/>
                    <a:pt x="4920" y="30"/>
                    <a:pt x="540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338200" y="1700280"/>
              <a:ext cx="1976760" cy="3316680"/>
            </a:xfrm>
            <a:custGeom>
              <a:avLst/>
              <a:gdLst/>
              <a:ahLst/>
              <a:rect l="l" t="t" r="r" b="b"/>
              <a:pathLst>
                <a:path w="1800" h="3870">
                  <a:moveTo>
                    <a:pt x="0" y="3780"/>
                  </a:moveTo>
                  <a:cubicBezTo>
                    <a:pt x="390" y="3825"/>
                    <a:pt x="780" y="3870"/>
                    <a:pt x="1080" y="3240"/>
                  </a:cubicBezTo>
                  <a:cubicBezTo>
                    <a:pt x="1380" y="2610"/>
                    <a:pt x="1680" y="510"/>
                    <a:pt x="180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539640" y="5661000"/>
            <a:ext cx="81327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xperimenty podle: Miyazaki et al. (200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: Tensile properties and local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iffness of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372280"/>
            <a:ext cx="24476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oubka vtlačení [μm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rot="10800000">
            <a:off x="1316520" y="2707920"/>
            <a:ext cx="44604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íla [n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13:41:35Z</dcterms:created>
  <dc:creator>Jiří Burša</dc:creator>
  <dc:description/>
  <dc:language>en-US</dc:language>
  <cp:lastModifiedBy>Jiří Burša</cp:lastModifiedBy>
  <dcterms:modified xsi:type="dcterms:W3CDTF">2007-01-04T13:55:08Z</dcterms:modified>
  <cp:revision>7</cp:revision>
  <dc:subject/>
  <dc:title>Experimental curves (solid black lines) compared with simulations with the tip located at central membrane receptor (blue dashed line) or outside this receptor (red dotted lines)</dc:title>
</cp:coreProperties>
</file>