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B95-EB55-48DE-9FC1-65DE4923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798-7174-4960-A8BC-16D240CB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C48-FEF3-4101-A933-B4771655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774-359C-4261-A11C-3E588982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2DD-A06E-46F7-97D2-8E7DA045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088-6E0C-42D8-8744-1745BADA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F9C-D6BC-4F18-A15A-30BEFE68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C62-CE36-44A9-B7A2-423DAD17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246-37CD-4005-8112-4F2E030E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B9D-D19C-412A-9BC5-E1E61B55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7CF-75EB-4E0C-8C35-EEFFB99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5A0-1ED7-421A-BF4D-B74E442E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E901-F038-4EDD-B08B-73F84389DDF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agnetick&#225;_pinzeta.ppt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Kontinuální strukturní model - příklad (</a:t>
            </a:r>
            <a:r>
              <a:rPr b="0" lang="cs-CZ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gnetická pinzeta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1258920" y="2276640"/>
            <a:ext cx="7859160" cy="3159000"/>
            <a:chOff x="1258920" y="2276640"/>
            <a:chExt cx="7859160" cy="3159000"/>
          </a:xfrm>
        </p:grpSpPr>
        <p:pic>
          <p:nvPicPr>
            <p:cNvPr id="43" name="Picture 8" descr=""/>
            <p:cNvPicPr/>
            <p:nvPr/>
          </p:nvPicPr>
          <p:blipFill>
            <a:blip r:embed="rId2"/>
            <a:stretch/>
          </p:blipFill>
          <p:spPr>
            <a:xfrm>
              <a:off x="1258920" y="2276640"/>
              <a:ext cx="7846920" cy="31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9"/>
            <p:cNvSpPr/>
            <p:nvPr/>
          </p:nvSpPr>
          <p:spPr>
            <a:xfrm>
              <a:off x="2136960" y="2523960"/>
              <a:ext cx="336276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Magnetická kulička Φ 4.5 µ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0"/>
            <p:cNvSpPr/>
            <p:nvPr/>
          </p:nvSpPr>
          <p:spPr>
            <a:xfrm>
              <a:off x="7048800" y="3487680"/>
              <a:ext cx="206928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Membrá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1"/>
            <p:cNvSpPr/>
            <p:nvPr/>
          </p:nvSpPr>
          <p:spPr>
            <a:xfrm>
              <a:off x="7055280" y="4115160"/>
              <a:ext cx="1549080" cy="35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ytoplaz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6:00:03Z</dcterms:created>
  <dc:creator>Jiri Bursa</dc:creator>
  <dc:description/>
  <dc:language>en-US</dc:language>
  <cp:lastModifiedBy>Jiří Burša</cp:lastModifiedBy>
  <dcterms:modified xsi:type="dcterms:W3CDTF">2012-03-28T08:17:01Z</dcterms:modified>
  <cp:revision>3</cp:revision>
  <dc:subject/>
  <dc:title>Kontinuální strukturní model - příklad (magnetická pinzeta)</dc:title>
</cp:coreProperties>
</file>