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922-41C7-475C-9390-186EA244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DA2-90C9-47A2-8B92-690AB109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43B-04F9-4DB0-9D23-7A0B4675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C606-13DB-4795-92A3-1D617D45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CF23-D4B0-4030-B8A0-378B8220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5D4-BFBD-4616-A9CB-2CA975CE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3BD-B487-4179-BB40-3CF0B243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6EB-2951-4143-8337-B6A80DC1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EC7-7263-45DA-96C8-46D585FC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F1E-26D8-44C6-AE09-4DE65E05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157-47C3-4B19-BEC9-CC2C388F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26A-8E5C-494F-AC77-C3EA611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5B22-AD11-4AC8-B78D-A7EDBD108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chéma zkoušky tlakem 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mikrodestič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097080" cy="22971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564000" y="1484280"/>
            <a:ext cx="5257800" cy="5113440"/>
            <a:chOff x="3564000" y="1484280"/>
            <a:chExt cx="5257800" cy="511344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564000" y="1484280"/>
              <a:ext cx="5257800" cy="51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259960" y="4501800"/>
              <a:ext cx="94356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23440" y="5172480"/>
              <a:ext cx="53712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ěsně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01200" y="5388480"/>
              <a:ext cx="765720" cy="33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bjektiv mikrosko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485240" y="5783400"/>
              <a:ext cx="66168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Čo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21680" y="5160960"/>
              <a:ext cx="517680" cy="24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81120" y="5002920"/>
              <a:ext cx="354960" cy="30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k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818760" y="5082480"/>
              <a:ext cx="210960" cy="19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82160" y="3424320"/>
              <a:ext cx="987120" cy="2516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esilova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66680" y="3944160"/>
              <a:ext cx="987120" cy="25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81080" y="2774160"/>
              <a:ext cx="986760" cy="489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Piezoelktrick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akční čl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05200" y="2936160"/>
              <a:ext cx="597600" cy="226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žá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41840" y="2796840"/>
              <a:ext cx="796680" cy="226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66200" y="2554200"/>
              <a:ext cx="37620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ň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48720" y="3320640"/>
              <a:ext cx="79668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u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8320" y="4388040"/>
              <a:ext cx="94356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20040" y="5154480"/>
              <a:ext cx="363240" cy="226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73680" y="5353200"/>
              <a:ext cx="943560" cy="226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krodesti</a:t>
              </a:r>
              <a:r>
                <a:rPr b="0" lang="cs-CZ" sz="1000" spc="-1" strike="noStrike">
                  <a:solidFill>
                    <a:srgbClr val="000000"/>
                  </a:solidFill>
                  <a:latin typeface="Arial"/>
                </a:rPr>
                <a:t>č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33640" y="6201720"/>
              <a:ext cx="943560" cy="22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D kame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957800" y="443700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ň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3:54:42Z</dcterms:created>
  <dc:creator>umt</dc:creator>
  <dc:description/>
  <dc:language>en-US</dc:language>
  <cp:lastModifiedBy>umt</cp:lastModifiedBy>
  <dcterms:modified xsi:type="dcterms:W3CDTF">2007-01-08T13:57:06Z</dcterms:modified>
  <cp:revision>2</cp:revision>
  <dc:subject/>
  <dc:title>Snímek 1</dc:title>
</cp:coreProperties>
</file>