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83D-487D-4AE0-BC56-A4714F10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682-AA04-4376-8EA2-A5A9EC7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C78-C7BA-4099-BC89-E3A56720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666-AF8B-4993-9562-3F2D703C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521-16EF-489A-B66F-B4D2ADA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695-5717-4B50-A949-C75C6DD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5AD-4FCF-481F-9BB8-F1E5D551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813-A040-43B1-962E-84FD2912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995-E202-44D0-86E8-C7EB051A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21E-1F78-494E-93AF-EC64F8E1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CB1-E228-413E-A77A-5FD6626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51F-81B1-4220-93D7-059614DC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BE94-0228-4B95-87CC-3C3C1895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609120"/>
            <a:ext cx="828036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erarchické úrovně struktury příčně pruhovaného svalu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 podle Smith T.: Lidské tělo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ortuna pri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raha, 199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2240" y="1760400"/>
            <a:ext cx="7566120" cy="4116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215280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é snopce (fascik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508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alová vlákna (bu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rko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7640" y="26701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é myofila-mentum (myos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6000" y="4470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nké myo-filamentum (aktin, tropo-myosi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16:58Z</dcterms:created>
  <dc:creator>Jiří Burša</dc:creator>
  <dc:description/>
  <dc:language>en-US</dc:language>
  <cp:lastModifiedBy>Jiri Bursa</cp:lastModifiedBy>
  <dcterms:modified xsi:type="dcterms:W3CDTF">2007-01-07T10:40:49Z</dcterms:modified>
  <cp:revision>2</cp:revision>
  <dc:subject/>
  <dc:title>Hierarchické úrovně struktury příčně pruhovaného svalu ( podle Smith T.: Lidské tělo. Fortuna print, Praha, 1996).</dc:title>
</cp:coreProperties>
</file>