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335-24E5-4CA4-A4A2-07E9F3B4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1B3-079A-4517-B15D-513282FE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343-8F36-45E4-9C96-A898AF85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018F-C8B2-4FDB-9794-9F3DD565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F24-432A-4B30-8F9A-9378B3C2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148-F1D5-49AB-A0F9-C7E1F06B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3ED-2EEE-463F-BA27-416B19E3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A33-AC6F-417C-8891-77B3A92D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765D-C095-47A2-9847-DE2DA747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589-C0AA-4F04-B1BD-10EB7AD6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A77-20F3-4518-BE03-BAB822F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8FC3-AC26-4DAC-A5D9-631DAC5E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1C69-FD48-45DD-A9BB-1F70CCD9B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orovnání experimentální a simulované křivky -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mogenní nelineárně elastický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4784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2565360"/>
          <a:ext cx="741204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65360"/>
                    <a:ext cx="741204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0:50:27Z</dcterms:created>
  <dc:creator>Jiri Bursa</dc:creator>
  <dc:description/>
  <dc:language>en-US</dc:language>
  <cp:lastModifiedBy>Jiri Bursa</cp:lastModifiedBy>
  <dcterms:modified xsi:type="dcterms:W3CDTF">2007-01-07T10:53:21Z</dcterms:modified>
  <cp:revision>2</cp:revision>
  <dc:subject/>
  <dc:title>Comparison of experimental and simulated curves - homogeneous non-linear elastic model</dc:title>
</cp:coreProperties>
</file>