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66C-7D6F-496C-8B41-B2335F20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FD52-2A5A-4C66-AE68-BF8C9B1C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75F5-A4F9-48CE-858F-B84302D9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253B-CA88-4F8D-9653-D22574D3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4E8-01D7-4A92-8CDD-4307029D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2A7-DB1F-465F-A633-71F96911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72F-86C9-46A3-BB27-BF046D8B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034E-1B74-434D-9816-9B642136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8B7-3441-4914-B693-5C3D9767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6BFF-5D44-4B3D-8DEA-3BCBF1A2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0C70-9FC0-492C-9D1A-ACB4FAFF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C4ED-F56E-4DCD-88FA-50EE3522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A36E-D3A3-4E67-ADF1-5846F1753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Arial"/>
              </a:rPr>
              <a:t>Molekulární struktura kolagenových fibril 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(podle Biochemie, Vo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6840720" cy="4319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24000" y="1940040"/>
            <a:ext cx="792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bri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2637000"/>
            <a:ext cx="1224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pořádání molek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297972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ázdná zó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2952720"/>
            <a:ext cx="151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óna překry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43120" y="462276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ojitá šroubo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65320" y="3730680"/>
            <a:ext cx="1081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lekula kolag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90680" y="5950080"/>
            <a:ext cx="1871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ypická sekv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2:52:48Z</dcterms:created>
  <dc:creator>Jiri Bursa</dc:creator>
  <dc:description/>
  <dc:language>en-US</dc:language>
  <cp:lastModifiedBy>Jiri Bursa</cp:lastModifiedBy>
  <dcterms:modified xsi:type="dcterms:W3CDTF">2006-12-27T13:04:48Z</dcterms:modified>
  <cp:revision>4</cp:revision>
  <dc:subject/>
  <dc:title>Mollecular structure of collagen fibril (from Biochemie, Voet)</dc:title>
</cp:coreProperties>
</file>