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A70-E860-4D0D-A144-B9973DCE3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F5D-AD01-436C-B629-00CDC31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16D-1EBE-4BB0-9BCC-CE66B206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0AAE-F027-48D2-B950-8005AF0C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5D1-354A-4C7A-ACA3-26A10B1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172-6F53-4E8A-A536-46D66ADC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B7D-74CB-4DA9-8680-D468992C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D9B-5B04-4E19-8115-31C28F99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26E-D9D5-42BF-BE25-5CCDBF3C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A3D-45E2-4057-840D-2E023B70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688-756E-4580-86BB-DA88B7C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B89-911B-4EC4-A4F7-0C1498E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EDFB-64B6-452F-A34E-ED8949818D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Nejjednodušší 3D tensegritní so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4000" y="907920"/>
            <a:ext cx="27352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jednodušší 3D tensegritní soustava se dá vytvořit  se 3 tlakovými a 9 tahovými člen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tensegrity3D"/>
          <p:cNvPicPr/>
          <p:nvPr/>
        </p:nvPicPr>
        <p:blipFill>
          <a:blip r:embed="rId1"/>
          <a:srcRect l="14037" t="9332" r="17546" b="9332"/>
          <a:stretch/>
        </p:blipFill>
        <p:spPr>
          <a:xfrm>
            <a:off x="3132000" y="1700280"/>
            <a:ext cx="499608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11-14T14:16:23Z</dcterms:modified>
  <cp:revision>228</cp:revision>
  <dc:subject/>
  <dc:title>Biomechanics  of smooth muscle cells</dc:title>
</cp:coreProperties>
</file>