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CB4-F8A3-4466-B5AC-777B7F93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19A-5800-4211-A2CF-B53B19E8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F251-E5CF-4876-A152-0634EC9F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595-771A-4913-85D9-6E58EE17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603-7472-4EED-AD71-B5A8A0E4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ACBF-FE82-41F7-816A-7D000750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7AC-5F7C-424A-A4B1-48FC5D43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AD4-6176-4BF9-AC9E-C2D8BE23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F46-4DC2-4AC9-B717-04DD008C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937-AA5C-4ECC-8D56-0736AACF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9FB-A029-461E-9DFA-7DD3D30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5BA-1CA5-404D-9CF7-9BCE1DAE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E98C-63C6-4480-9EF8-704F458B0BF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96520"/>
            <a:ext cx="4752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Základní typy tkání </a:t>
            </a:r>
            <a:br>
              <a:rPr sz="3600"/>
            </a:b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 tepně s ateromatózním plá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73560" y="4219560"/>
            <a:ext cx="303516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olesterolové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ádro plátu – převážně pěnové buň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tepna7sateromem-geom"/>
          <p:cNvPicPr/>
          <p:nvPr/>
        </p:nvPicPr>
        <p:blipFill>
          <a:blip r:embed="rId1"/>
          <a:srcRect l="18116" t="10836" r="18116" b="21672"/>
          <a:stretch/>
        </p:blipFill>
        <p:spPr>
          <a:xfrm>
            <a:off x="539640" y="1724040"/>
            <a:ext cx="4967280" cy="4152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6083280" y="162864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dventit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6084720" y="2060640"/>
            <a:ext cx="259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odlišné mechanické vlastnosti ve zdravé části a pod aterom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084720" y="2924280"/>
            <a:ext cx="25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ntima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odlišné mechanické vlastnosti ve zdravé části a pod aterom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6083280" y="5300640"/>
            <a:ext cx="2089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Fibróz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kryt plá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2843280" y="1844640"/>
            <a:ext cx="3241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3348000" y="2276640"/>
            <a:ext cx="27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 flipH="1" flipV="1">
            <a:off x="3563640" y="2708280"/>
            <a:ext cx="2592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H="1" flipV="1">
            <a:off x="4067280" y="3860280"/>
            <a:ext cx="201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 flipH="1" flipV="1">
            <a:off x="2842920" y="4149720"/>
            <a:ext cx="331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6156360" y="5732640"/>
            <a:ext cx="208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ume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– zbytkový průtočný průř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 flipV="1">
            <a:off x="1907640" y="4149360"/>
            <a:ext cx="4248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17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384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3:09:08Z</dcterms:created>
  <dc:creator>Jiří Burša</dc:creator>
  <dc:description/>
  <dc:language>en-US</dc:language>
  <cp:lastModifiedBy>Jiří Burša</cp:lastModifiedBy>
  <dcterms:modified xsi:type="dcterms:W3CDTF">2011-09-05T07:58:05Z</dcterms:modified>
  <cp:revision>5</cp:revision>
  <dc:subject/>
  <dc:title>Základní typy tkání  v tepně s ateromatózním plátem</dc:title>
</cp:coreProperties>
</file>