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6D9-B5B7-43B1-BEA8-7B703E6D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94E-2537-4AD7-8E7E-12E0A5CC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BEB-36B1-4504-82F9-F7C00809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CFF-5E84-40EC-A5D7-297D6B8F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8FE-030C-4485-A9BC-F7C2655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EB9-C6C0-4148-B8A1-0FF2040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9F3-E408-4C27-AE06-F5E4E655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C52-DBDB-4C20-9212-8CA88998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695-A409-451B-BD1B-A7FD2DAE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700-E4AA-411C-B871-979B5A3E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454-33A8-4BF6-BECC-17D01B9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A47-A41E-4D86-87B4-03899186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EC4C-4F67-4877-BCBD-F71BABB67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chéma spojení „focal adhesion“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-transmembránové spojení mezi aktinovými filamenty a extracelulárními vlák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61672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343480"/>
            <a:ext cx="115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asilární membrá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191124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ktinová fila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6:16Z</dcterms:created>
  <dc:creator>Jiri Bursa</dc:creator>
  <dc:description/>
  <dc:language>en-US</dc:language>
  <cp:lastModifiedBy>Jiri Bursa</cp:lastModifiedBy>
  <dcterms:modified xsi:type="dcterms:W3CDTF">2006-12-27T12:44:46Z</dcterms:modified>
  <cp:revision>2</cp:revision>
  <dc:subject/>
  <dc:title>Schéma spojení „focal adhesion“  -transmembránové spojení mezi aktinovými filamenty a extracelulárními vlákny</dc:title>
</cp:coreProperties>
</file>