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77C-5C14-48C7-A0DD-D41E6446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B14-86C6-4B79-8BB8-FDE1031E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348-34A2-4BA6-BCBB-1D58B025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ED2-AFA2-410C-9E09-FA3860F6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5A7-8B82-48C8-9D8F-C0D502BF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FE1-E94F-4BCB-99C5-C9A2EB5F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575-18BD-4960-9035-211E9836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9DC-765D-400C-AC73-18B19799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CBE-8032-4E27-951E-2A83991C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560-CD04-4195-8780-B448186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101-0FFE-4BCD-B1B7-5C86972C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ED6-9988-46D8-A600-31219D2B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E45C-613A-4AD7-B1C4-CE36BFBDD1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Karcinoid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Chlopenní srdeční v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Základní typy vad chlop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enóz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- zmenšení průtočného průřezu při otevření chlopně – nedokonalé otevírání chlop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suficience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nedomykavost) - nedokonalé uzavírání chlopně – vyvolává zpětný tok krve (regurgita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říčiny chlopenních v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ngenitální (vrozen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nfekční endokarditida (záně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vmatický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egenerativní změny spojené s kalcifik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ilatace kořene aorty nebo plícn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karcinoid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neuroendokrinní nád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schemické (ruptura papilárního svalu po infarktu myokard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raumatické – mechanické poraně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jev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enokardie (bolest v srdeční krajině při námaz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uš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ruchy sinusového rytmu - fibrilace sí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toky dolních konče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ětšení j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2"/>
          <a:stretch/>
        </p:blipFill>
        <p:spPr>
          <a:xfrm>
            <a:off x="4284720" y="5373720"/>
            <a:ext cx="44640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Umělá srdeční chlopeň </a:t>
            </a: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Björk-Shi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3" name="Picture 7" descr="chlopen6"/>
          <p:cNvPicPr/>
          <p:nvPr/>
        </p:nvPicPr>
        <p:blipFill>
          <a:blip r:embed="rId1"/>
          <a:stretch/>
        </p:blipFill>
        <p:spPr>
          <a:xfrm>
            <a:off x="4456080" y="1025640"/>
            <a:ext cx="4292640" cy="5067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2dubna2"/>
          <p:cNvPicPr/>
          <p:nvPr/>
        </p:nvPicPr>
        <p:blipFill>
          <a:blip r:embed="rId2"/>
          <a:srcRect l="0" t="30339" r="75744" b="11515"/>
          <a:stretch/>
        </p:blipFill>
        <p:spPr>
          <a:xfrm>
            <a:off x="703440" y="1197000"/>
            <a:ext cx="3581280" cy="3490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9"/>
          <p:cNvSpPr/>
          <p:nvPr/>
        </p:nvSpPr>
        <p:spPr>
          <a:xfrm>
            <a:off x="468360" y="5157720"/>
            <a:ext cx="4608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některých provedení těchto chlopní (velkých mitrálních) docházelo (s pravděpodobností 2-3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‰ na rok života) k odlomení vtokové vzpěry – již se nepoužívají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ff"/>
                </a:solidFill>
                <a:latin typeface="Times New Roman"/>
              </a:rPr>
              <a:t>Umělé srdeční chlopně diskové</a:t>
            </a: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701800" y="1197000"/>
            <a:ext cx="2014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5640" y="4797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xtilní prstene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0" name="Picture 6" descr="u3v12"/>
          <p:cNvPicPr/>
          <p:nvPr/>
        </p:nvPicPr>
        <p:blipFill>
          <a:blip r:embed="rId1"/>
          <a:stretch/>
        </p:blipFill>
        <p:spPr>
          <a:xfrm>
            <a:off x="635040" y="1538280"/>
            <a:ext cx="3865680" cy="304308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 flipV="1">
            <a:off x="1042920" y="342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Line 8"/>
          <p:cNvSpPr/>
          <p:nvPr/>
        </p:nvSpPr>
        <p:spPr>
          <a:xfrm flipH="1" flipV="1">
            <a:off x="3132000" y="3715920"/>
            <a:ext cx="648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3059280" y="1557360"/>
            <a:ext cx="217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4" name="Picture 10" descr="chlopen8"/>
          <p:cNvPicPr/>
          <p:nvPr/>
        </p:nvPicPr>
        <p:blipFill>
          <a:blip r:embed="rId2"/>
          <a:stretch/>
        </p:blipFill>
        <p:spPr>
          <a:xfrm>
            <a:off x="4600440" y="1568520"/>
            <a:ext cx="3787920" cy="3012840"/>
          </a:xfrm>
          <a:prstGeom prst="rect">
            <a:avLst/>
          </a:prstGeom>
          <a:ln w="0">
            <a:noFill/>
          </a:ln>
        </p:spPr>
      </p:pic>
      <p:sp>
        <p:nvSpPr>
          <p:cNvPr id="95" name="Line 11"/>
          <p:cNvSpPr/>
          <p:nvPr/>
        </p:nvSpPr>
        <p:spPr>
          <a:xfrm flipV="1">
            <a:off x="3780000" y="3933360"/>
            <a:ext cx="20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755640" y="1052640"/>
            <a:ext cx="10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ěr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1403280" y="1413000"/>
            <a:ext cx="1800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403280" y="1413000"/>
            <a:ext cx="64764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755640" y="566100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jörk-Shiley – modifikovaná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al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Umělá srdeční chlopeň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kapko</a:t>
            </a: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á</a:t>
            </a:r>
            <a:br>
              <a:rPr sz="3600"/>
            </a:br>
            <a:r>
              <a:rPr b="1" lang="en-GB" sz="3200" spc="-1" strike="noStrike">
                <a:solidFill>
                  <a:srgbClr val="333399"/>
                </a:solidFill>
                <a:latin typeface="Times New Roman"/>
              </a:rPr>
              <a:t>Druckmüller-Dominik</a:t>
            </a:r>
            <a:r>
              <a:rPr b="1" lang="cs-CZ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55640" y="155736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kov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ličkov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apková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3" name="Picture 13" descr="2dubna2"/>
          <p:cNvPicPr/>
          <p:nvPr/>
        </p:nvPicPr>
        <p:blipFill>
          <a:blip r:embed="rId1"/>
          <a:stretch/>
        </p:blipFill>
        <p:spPr>
          <a:xfrm>
            <a:off x="320760" y="1844640"/>
            <a:ext cx="8643960" cy="3514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4"/>
          <p:cNvSpPr/>
          <p:nvPr/>
        </p:nvSpPr>
        <p:spPr>
          <a:xfrm>
            <a:off x="324000" y="5661000"/>
            <a:ext cx="828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apková chlopeň neuspěla, nevýhody převažovaly nad hydrodynamickými přednostmi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Umělé srdeční chlopn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11280" y="1125360"/>
            <a:ext cx="777708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oulistá (St. Jude Medical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protéza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5157720"/>
            <a:ext cx="410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xtilní prsten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9" name="Picture 7" descr="u3v13"/>
          <p:cNvPicPr/>
          <p:nvPr/>
        </p:nvPicPr>
        <p:blipFill>
          <a:blip r:embed="rId1"/>
          <a:stretch/>
        </p:blipFill>
        <p:spPr>
          <a:xfrm>
            <a:off x="611280" y="1557360"/>
            <a:ext cx="4289400" cy="3321000"/>
          </a:xfrm>
          <a:prstGeom prst="rect">
            <a:avLst/>
          </a:prstGeom>
          <a:ln w="0">
            <a:noFill/>
          </a:ln>
        </p:spPr>
      </p:pic>
      <p:sp>
        <p:nvSpPr>
          <p:cNvPr id="110" name="Line 8"/>
          <p:cNvSpPr/>
          <p:nvPr/>
        </p:nvSpPr>
        <p:spPr>
          <a:xfrm flipV="1">
            <a:off x="1690560" y="4508280"/>
            <a:ext cx="5050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 flipV="1">
            <a:off x="2700360" y="4292640"/>
            <a:ext cx="93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 flipV="1">
            <a:off x="900000" y="3573360"/>
            <a:ext cx="100800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6732720" y="429264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4" name="Picture 13" descr="u3v14"/>
          <p:cNvPicPr/>
          <p:nvPr/>
        </p:nvPicPr>
        <p:blipFill>
          <a:blip r:embed="rId2"/>
          <a:srcRect l="5187" t="0" r="10375" b="0"/>
          <a:stretch/>
        </p:blipFill>
        <p:spPr>
          <a:xfrm>
            <a:off x="5003640" y="1557360"/>
            <a:ext cx="3576960" cy="3672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4"/>
          <p:cNvSpPr/>
          <p:nvPr/>
        </p:nvSpPr>
        <p:spPr>
          <a:xfrm>
            <a:off x="4859280" y="5518080"/>
            <a:ext cx="1873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ípy chlopně z denaturovaného biologického materiálu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875640" y="573408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tužný prstenec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148360" y="2637000"/>
            <a:ext cx="360360" cy="28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5148360" y="3933720"/>
            <a:ext cx="151128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9" name="Line 18"/>
          <p:cNvSpPr/>
          <p:nvPr/>
        </p:nvSpPr>
        <p:spPr>
          <a:xfrm flipH="1" flipV="1">
            <a:off x="6300360" y="1773000"/>
            <a:ext cx="107964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7380360" y="3860280"/>
            <a:ext cx="50472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Implantovaná bioprotéza v mitrální poz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4" name="Picture 6" descr="kardio3"/>
          <p:cNvPicPr/>
          <p:nvPr/>
        </p:nvPicPr>
        <p:blipFill>
          <a:blip r:embed="rId1"/>
          <a:stretch/>
        </p:blipFill>
        <p:spPr>
          <a:xfrm>
            <a:off x="1589040" y="134784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Ukázka selhání umělé srdeční chlopně kulič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28" name="Picture 13" descr="2dubna1"/>
          <p:cNvPicPr/>
          <p:nvPr/>
        </p:nvPicPr>
        <p:blipFill>
          <a:blip r:embed="rId1"/>
          <a:stretch/>
        </p:blipFill>
        <p:spPr>
          <a:xfrm>
            <a:off x="1692360" y="1197000"/>
            <a:ext cx="575316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MKP model bioprotéz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39640" y="1052640"/>
            <a:ext cx="777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tevřená poloh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zavřená poloh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32" name="Picture 6" descr="chlopen7"/>
          <p:cNvPicPr/>
          <p:nvPr/>
        </p:nvPicPr>
        <p:blipFill>
          <a:blip r:embed="rId1"/>
          <a:stretch/>
        </p:blipFill>
        <p:spPr>
          <a:xfrm>
            <a:off x="623880" y="1700280"/>
            <a:ext cx="78948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236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Times New Roman"/>
              </a:rPr>
              <a:t>Schéma  anatomické struktury mitrální chlop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ázek 4" descr="mitrální.JPG"/>
          <p:cNvPicPr/>
          <p:nvPr/>
        </p:nvPicPr>
        <p:blipFill>
          <a:blip r:embed="rId1"/>
          <a:stretch/>
        </p:blipFill>
        <p:spPr>
          <a:xfrm>
            <a:off x="428760" y="1785960"/>
            <a:ext cx="828180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Léčba c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hlopen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srdeč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vad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GB" sz="2800" spc="-1" strike="noStrike">
                <a:solidFill>
                  <a:srgbClr val="0000ff"/>
                </a:solidFill>
                <a:latin typeface="Times New Roman"/>
              </a:rPr>
              <a:t>a její riz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218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éčb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dpůrná medikamentóz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lastika chlopně (např. perkutánní balonková pulmonální valvuloplast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áhrada vadné chlopně bioprotézou nebo mechanickou protézou – nejběžnější typ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ič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oulis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520" indent="-28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prot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izi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nik trombů v souvislosti s turbulencí - u umělých chlopní doživotní antikoagulační léč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fekční protetická endokarditida (záně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ysfunkce chlo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votnost - degenerace biologického chlopenního materiálu spojená s retrakcí cípů, kalcifikace způsobující změnu mechanických vlastnost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Morfologie a struktura aortální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74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storov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chema listů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lamely) aortální chlopně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erveně vyznačeno jejich uchycení ke stěně aortálního si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hlopen1"/>
          <p:cNvPicPr/>
          <p:nvPr/>
        </p:nvPicPr>
        <p:blipFill>
          <a:blip r:embed="rId1"/>
          <a:stretch/>
        </p:blipFill>
        <p:spPr>
          <a:xfrm>
            <a:off x="539640" y="1989000"/>
            <a:ext cx="225108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hlopen3"/>
          <p:cNvPicPr/>
          <p:nvPr/>
        </p:nvPicPr>
        <p:blipFill>
          <a:blip r:embed="rId2"/>
          <a:stretch/>
        </p:blipFill>
        <p:spPr>
          <a:xfrm>
            <a:off x="2916360" y="3213000"/>
            <a:ext cx="2708280" cy="2881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4140360" y="907920"/>
            <a:ext cx="4535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chema vrstevnaté struktury listu aortální chlopně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ff"/>
                </a:solidFill>
                <a:latin typeface="Times New Roman"/>
              </a:rPr>
              <a:t>Modr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fibrosa – vazivová vrstva s převahou obvodových kolagenních vláken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66"/>
                </a:solidFill>
                <a:latin typeface="Times New Roman"/>
              </a:rPr>
              <a:t>Červ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spongiosa – řídká želatinová trámčina – zajišťuje kluzné vlastnosti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66"/>
                </a:solidFill>
                <a:latin typeface="Times New Roman"/>
              </a:rPr>
              <a:t>Zelen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ventricularis – vrstva z elastinu a kolagenu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9" descr="chlopen5"/>
          <p:cNvPicPr/>
          <p:nvPr/>
        </p:nvPicPr>
        <p:blipFill>
          <a:blip r:embed="rId3"/>
          <a:srcRect l="3447" t="0" r="0" b="0"/>
          <a:stretch/>
        </p:blipFill>
        <p:spPr>
          <a:xfrm>
            <a:off x="5649840" y="3213000"/>
            <a:ext cx="302580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Struktura listu aortální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ísla udávají tlouštku listu v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hlopen2"/>
          <p:cNvPicPr/>
          <p:nvPr/>
        </p:nvPicPr>
        <p:blipFill>
          <a:blip r:embed="rId1"/>
          <a:stretch/>
        </p:blipFill>
        <p:spPr>
          <a:xfrm>
            <a:off x="971640" y="2060640"/>
            <a:ext cx="78483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Mechanické vlastnosti listu chlop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4103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dul pružnosti v tangenciálním směru 0,3-5 MPa; závisí 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vápenatění chlopně, které je ovlivněno jejím mechanickým namáhá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enaturaci – modul pružnosti klesá, tažnost ros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anedbatelná hystere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loušťka šipky –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élka šipky – ta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hlopen4"/>
          <p:cNvPicPr/>
          <p:nvPr/>
        </p:nvPicPr>
        <p:blipFill>
          <a:blip r:embed="rId1"/>
          <a:stretch/>
        </p:blipFill>
        <p:spPr>
          <a:xfrm>
            <a:off x="6019920" y="1341360"/>
            <a:ext cx="2368440" cy="1749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5942160" y="1052640"/>
            <a:ext cx="259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značení směrů na listu aortální chlopně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1" name="Picture 6" descr="chlopne-anizo"/>
          <p:cNvPicPr/>
          <p:nvPr/>
        </p:nvPicPr>
        <p:blipFill>
          <a:blip r:embed="rId2"/>
          <a:srcRect l="0" t="25752" r="0" b="0"/>
          <a:stretch/>
        </p:blipFill>
        <p:spPr>
          <a:xfrm>
            <a:off x="2700360" y="4294080"/>
            <a:ext cx="6048360" cy="1871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989440" y="4005360"/>
            <a:ext cx="5686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zotropní materiál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ibrosa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Ventriculari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Chlopně postižené stenóz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826920" y="1413000"/>
            <a:ext cx="756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z výrazné kalcifikac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ě kalcifikovaná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3" descr="kardio2"/>
          <p:cNvPicPr/>
          <p:nvPr/>
        </p:nvPicPr>
        <p:blipFill>
          <a:blip r:embed="rId1"/>
          <a:stretch/>
        </p:blipFill>
        <p:spPr>
          <a:xfrm>
            <a:off x="349200" y="1957320"/>
            <a:ext cx="4438800" cy="384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kardio1"/>
          <p:cNvPicPr/>
          <p:nvPr/>
        </p:nvPicPr>
        <p:blipFill>
          <a:blip r:embed="rId2"/>
          <a:stretch/>
        </p:blipFill>
        <p:spPr>
          <a:xfrm>
            <a:off x="4808520" y="1982880"/>
            <a:ext cx="39402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9032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ypy náhrad srdeční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h</a:t>
            </a: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 chlop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) Biologické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protézy)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 stentu umístěná denaturovaná chlopeň z prasete nebo listy vytvořeny z telecího perikar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ýhody – pozvolná kalcifikace, zvýšení tuhosti listů, vznik trhlinek v nejnamáhanějších místech – postupná degrad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éměř ideální hemodynam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ichý 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může dojít k náhlému sel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) Umělé – samočinné ventily různých konstrukčních princip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ípaté – není vhodný materiá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uličková (Starr-Edwards, Smeloff-Cu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á (Björk-Shiley, Beall) – menší setrvačná hmot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molý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modynamika- turbulence – vznik tromb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ivot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imes New Roman"/>
              </a:rPr>
              <a:t>Umělé srdeční chlopně kuličk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2" name="Picture 5" descr="u3v11"/>
          <p:cNvPicPr/>
          <p:nvPr/>
        </p:nvPicPr>
        <p:blipFill>
          <a:blip r:embed="rId1"/>
          <a:srcRect l="0" t="0" r="57721" b="0"/>
          <a:stretch/>
        </p:blipFill>
        <p:spPr>
          <a:xfrm>
            <a:off x="638280" y="1628640"/>
            <a:ext cx="3573360" cy="3395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u3v11"/>
          <p:cNvPicPr/>
          <p:nvPr/>
        </p:nvPicPr>
        <p:blipFill>
          <a:blip r:embed="rId2"/>
          <a:srcRect l="49476" t="0" r="0" b="0"/>
          <a:stretch/>
        </p:blipFill>
        <p:spPr>
          <a:xfrm>
            <a:off x="4260960" y="1628640"/>
            <a:ext cx="4343400" cy="3463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1238400" y="1125360"/>
            <a:ext cx="62132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rr-Edwars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meloff-Cutter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755640" y="5300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zavírací těles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kle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xtilní prstenec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" name="Line 9"/>
          <p:cNvSpPr/>
          <p:nvPr/>
        </p:nvSpPr>
        <p:spPr>
          <a:xfrm flipV="1">
            <a:off x="1403280" y="3573360"/>
            <a:ext cx="2890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 flipH="1" flipV="1">
            <a:off x="3058920" y="2349360"/>
            <a:ext cx="1152360" cy="295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Line 11"/>
          <p:cNvSpPr/>
          <p:nvPr/>
        </p:nvSpPr>
        <p:spPr>
          <a:xfrm flipV="1">
            <a:off x="4211640" y="2491920"/>
            <a:ext cx="136836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Line 12"/>
          <p:cNvSpPr/>
          <p:nvPr/>
        </p:nvSpPr>
        <p:spPr>
          <a:xfrm flipV="1">
            <a:off x="4211640" y="486864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Line 13"/>
          <p:cNvSpPr/>
          <p:nvPr/>
        </p:nvSpPr>
        <p:spPr>
          <a:xfrm flipV="1">
            <a:off x="6877080" y="407664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5:46Z</dcterms:modified>
  <cp:revision>283</cp:revision>
  <dc:subject/>
  <dc:title>Biomechanics  of smooth muscle cells </dc:title>
</cp:coreProperties>
</file>