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6025-8C02-43F5-8F36-63317C1D50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 jsme měnili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modul pružnosti každé z komponent (cytoplasma, membrána, jádro, mikrofilamenty, mikrotubuly) v rozsahu 50% - 200% výchozí hodnoty a prováděli výpočtové simulace s cílem zjistit, která z buněčných komponent má největší vliv na výsledky simul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9FE-DAE7-44B7-9FA5-ECA441DE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E26-6294-4AEE-92B2-1B0C1977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5B0-5FDB-4185-BE2D-C77B76FE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6FB-4CC7-4FC8-9DCE-4D9B43D6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EF6-0918-4A5B-9A45-08431DE8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B50E-2A09-433D-9B75-2491B0EA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1CB8-56D0-4851-93F1-42286EE1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669-68B6-41A9-8461-761EA1DC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554-F31E-4377-9940-917C378B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4351-4470-46DB-B705-571A01A3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D59-49D9-48AE-B6DB-FBE0EC41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C64-0F87-44A5-82B0-556292A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DB42-70BA-4436-ADE0-58EDD574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ff"/>
                </a:solidFill>
                <a:latin typeface="Times New Roman"/>
              </a:rPr>
              <a:t>Citlivostní analý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91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y pružnosti všech komponent modelu byly měněny v rozsahu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0% - 20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ůvodní hodnoty. Simulace vtlačovací zkoušky s těmito hodnotami ukazují vliv změn tuhosti jednotlivých komponent na průběh vtlačovací zkoušky. Tak byla vyšetřována závislost výsledků simulované zkoušky na tuh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toplaz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á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á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fil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rotubul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0:23:43Z</dcterms:created>
  <dc:creator>Jiri Bursa</dc:creator>
  <dc:description/>
  <dc:language>en-US</dc:language>
  <cp:lastModifiedBy>Jiří Burša</cp:lastModifiedBy>
  <dcterms:modified xsi:type="dcterms:W3CDTF">2007-01-08T09:59:38Z</dcterms:modified>
  <cp:revision>2</cp:revision>
  <dc:subject/>
  <dc:title>Citlivostní analýza</dc:title>
</cp:coreProperties>
</file>