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479-508A-4762-A723-2791E43A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962-A33F-4C09-B7C7-E33A533E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4D4-077D-47E1-B556-225E5559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0EE-1CC0-4029-86F1-9E9D7F12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575-5139-4E9C-B336-C4465E9F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D14-4595-4407-BA9C-BFB0229E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784-F29F-451A-9AC2-E0C5A42C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E63-A717-4B1C-8DE1-D729AD7B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CD0-FDB9-471E-A64C-F982E981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E58-D696-4A20-9026-15A0D847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B20-B805-4547-A6E6-411029CA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8FD-B943-44DD-9CD9-6932CF54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CEBD-F64D-4247-A857-144103824D8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ymezen&#237;.ppt" TargetMode="External"/><Relationship Id="rId2" Type="http://schemas.openxmlformats.org/officeDocument/2006/relationships/hyperlink" Target="file:///Medic&#237;nsk&#233;_z&#225;klady.ppt" TargetMode="External"/><Relationship Id="rId3" Type="http://schemas.openxmlformats.org/officeDocument/2006/relationships/hyperlink" Target="file:///Anatomie_srdce_c&#233;vy.ppt" TargetMode="External"/><Relationship Id="rId4" Type="http://schemas.openxmlformats.org/officeDocument/2006/relationships/hyperlink" Target="file:///Fyziologie.ppt" TargetMode="External"/><Relationship Id="rId5" Type="http://schemas.openxmlformats.org/officeDocument/2006/relationships/hyperlink" Target="file:///Krev-vlastnosti.ppt" TargetMode="External"/><Relationship Id="rId6" Type="http://schemas.openxmlformats.org/officeDocument/2006/relationships/hyperlink" Target="file:///Histologie.ppt" TargetMode="External"/><Relationship Id="rId7" Type="http://schemas.openxmlformats.org/officeDocument/2006/relationships/hyperlink" Target="file:///Tepny_vlastnosti.ppt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Biomechanika III</a:t>
            </a: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333399"/>
                </a:solidFill>
                <a:latin typeface="Times New Roman"/>
              </a:rPr>
              <a:t>Biomechanika srdečně-cévní soust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4005000"/>
            <a:ext cx="7058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Times New Roman"/>
              </a:rPr>
              <a:t>Opory jsou určeny především pro přednášky předmětu Biomechanika III (Biomechanika srdečně-cévní soustavy), ale i pro další zájemce o příslušnou problematiku, např. jako úvod do studia předmětu doktorandského studia Mechanika biologických tk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rázek 5" descr=""/>
          <p:cNvPicPr/>
          <p:nvPr/>
        </p:nvPicPr>
        <p:blipFill>
          <a:blip r:embed="rId1"/>
          <a:stretch/>
        </p:blipFill>
        <p:spPr>
          <a:xfrm>
            <a:off x="1692360" y="476280"/>
            <a:ext cx="575928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Osnova předmětu Biomechanika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ymezení kardiovaskulární soustav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medicíns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informace z jej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anatom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fyziolog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ložení 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vlastn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rv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jejich význam pro biomecha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istologické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inform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o struktuře a složení cévní a srdeč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Vlastn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ěkkých tk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cévní stěny) a jejich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stitutivní_modely měkkých t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iomechanika buň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cké změn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používané zákrok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 implantá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cévní sousta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o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náhrada sr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ýpočtové modelo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echanického chování cévní stě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ázky k zá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Struktura a náplň základních lékařských obor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zabývá se popisem geometrie a topologie (topografická anatomie) tělních orgánů a orgánových soustav, tedy popisem jejich tvaru a rozmístění ve zdravém organis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yzi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procesů, probíhajících ve zdravém organismu a zajišťujících jeho životní funkce. Přito využívá poznatků biochemie, biofyziky i dalších obor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Histolo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popisem složení a struktury jednotlivých tkání na mikroskopické úrov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tologie (patologická anatomie a patologická fyziologie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zabývá se změnami v anatomii a fyziologii, způsobenými chorobnými procesy v organismu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(aterosklerotické změny v tepnách, vady a choroby srd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Obory-struktura"/>
          <p:cNvPicPr/>
          <p:nvPr/>
        </p:nvPicPr>
        <p:blipFill>
          <a:blip r:embed="rId1"/>
          <a:stretch/>
        </p:blipFill>
        <p:spPr>
          <a:xfrm>
            <a:off x="3492360" y="260280"/>
            <a:ext cx="5327640" cy="626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561960"/>
            <a:ext cx="30351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robná struktura lékařských obor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imes New Roman"/>
              </a:rPr>
              <a:t>Literatura používaná pro předmět Biomechanika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alenta J. a kol.: Biomechanika. Academia Praha, 198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alenta J. a kol.: Biomechanika srdečně cévního systému. ČVUT, 199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řen J., Rosenberg J., Janíček P.: Biomechanika, ZČU, Plzeň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ung: Biomechanics; Mechanical Properties of Living Tissues. Springer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umphrey J.D.: Cardiovascular Solid Mechanics; Cells, Tissues and Organs. Springer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thier, Simmons: Introductory Biomechanics. Cambridge University Press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řeška Vladislav: Aneuryzma břišní aorty, Grada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ominik Jan: Kardiochirurgie. Grada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artoš Jiří: Komplikace a reoperace po rekonstrukčních cévních operacích. Grada,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ojáček J.: Koronární stenty. Grada, 199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ajíček M., Peregrin J.H., Roček M., Šebesta P. a kol.  Chirurgická a intervenční léčba cévních onemocnění. Grada, 200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6:35:38Z</dcterms:created>
  <dc:creator>Ing. Jiří Burša</dc:creator>
  <dc:description/>
  <dc:language>en-US</dc:language>
  <cp:lastModifiedBy>Tomáš Návrat</cp:lastModifiedBy>
  <dcterms:modified xsi:type="dcterms:W3CDTF">2013-04-25T15:29:35Z</dcterms:modified>
  <cp:revision>246</cp:revision>
  <dc:subject/>
  <dc:title>Biomechanics  of smooth muscle cells </dc:title>
</cp:coreProperties>
</file>