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13.jpeg" ContentType="image/jpeg"/>
  <Override PartName="/ppt/media/image6.png" ContentType="image/png"/>
  <Override PartName="/ppt/media/image12.jpeg" ContentType="image/jpeg"/>
  <Override PartName="/ppt/media/image7.wmf" ContentType="image/x-wmf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C9AE-936B-4F9C-A3D1-F6486A31CB6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9BFF-449B-49DD-BF89-05A72F0E757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khle vypadá cytoskelet ve skutečno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27C7-DC64-4BDD-A5E4-B7FC75D4F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26BA-4D2C-4A92-8BB4-4D9CB351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447A-B07C-4FC5-AFF4-10EC3286E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9E54-117F-4052-A190-9B76AC2BD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6102-556E-443B-9E91-122D5844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7E24-E29E-4EAF-8F3A-2A828045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3284-EF23-4092-9D9B-EBF986A3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7C35-0C5A-414E-AFCE-D1261BEE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C0E8-46CC-46A8-BD5A-B5AA90EC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874F-0041-409F-8564-31BFAFE0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FB44-CB17-427A-A022-BBB2D74D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C2F1-A2B5-427A-B8D3-60EEC943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A1FB-B6D9-4F1E-A444-2082C0DAE23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kolagen-fibrila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Arial"/>
              </a:rPr>
              <a:t>Cytoske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0920" y="1483920"/>
            <a:ext cx="8064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 výztužná struktura buňky, tvořená bílkovinnými vlákny různých druhů, která jsou rozmístěna  v cytoplazmě  a plní zde různé funk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jišťují časovou stálost a současně i proměnnost tvaru buňky (tedy její odpor proti deformaci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louží k transportu informací tělem buň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louží k dynamické organizaci cytoplazmy (přesuny organel a chromosomů v buňc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možňují pohyb buně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kladními prvky cytoskeletu jsou: mikrotubuly, mikrofilamenta a intermediální (střední) filamen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Arial"/>
              </a:rPr>
              <a:t>Základní klasifikace cytoskele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luboký cytoskele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endoskelet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tvořen převážně mikrotubuly  a intermediálními filamenty napříč celou buňkou. Jeho hlavní funkcí je transport látek a buněčných komponent, opora buňky a účast na jejím děl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rtikální skele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íť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ktin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ch výztužných vláken pod buněčnou membránou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Exoskele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íť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olagenníc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elastinových a fibronektinových vláken v mimobuněčném prostor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Cytoskelet </a:t>
            </a: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- fo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actin_microtubules_02[1]"/>
          <p:cNvPicPr/>
          <p:nvPr/>
        </p:nvPicPr>
        <p:blipFill>
          <a:blip r:embed="rId1"/>
          <a:stretch/>
        </p:blipFill>
        <p:spPr>
          <a:xfrm>
            <a:off x="684360" y="2120760"/>
            <a:ext cx="3887640" cy="3467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4643280" y="2276640"/>
            <a:ext cx="3714840" cy="32335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4643280" y="1628640"/>
            <a:ext cx="3600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ikrofilamenta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ytoskele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ikrotubu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rcRect l="6410" t="0" r="0" b="7401"/>
          <a:stretch/>
        </p:blipFill>
        <p:spPr>
          <a:xfrm>
            <a:off x="4502160" y="4149720"/>
            <a:ext cx="3814920" cy="2093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7564320" cy="26478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684360" y="981000"/>
            <a:ext cx="75596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zolované mikrotubul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ikrotubuly v buň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539640" y="4292640"/>
            <a:ext cx="3816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ktura mikrotubulu – trubice tvořené z molekul tubulin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ký struktura, vyrůstající z centrosom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ychlost růstu: cca 0.03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ychlost rozpadu: cca 0.5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  <a:ea typeface="Arial"/>
              </a:rPr>
              <a:t>Remodelace c</a:t>
            </a:r>
            <a:r>
              <a:rPr b="0" lang="en-GB" sz="3600" spc="-1" strike="noStrike">
                <a:solidFill>
                  <a:srgbClr val="333399"/>
                </a:solidFill>
                <a:latin typeface="Arial"/>
                <a:ea typeface="Arial"/>
              </a:rPr>
              <a:t>ytoskelet</a:t>
            </a:r>
            <a:r>
              <a:rPr b="0" lang="cs-CZ" sz="3600" spc="-1" strike="noStrike">
                <a:solidFill>
                  <a:srgbClr val="333399"/>
                </a:solidFill>
                <a:latin typeface="Arial"/>
                <a:ea typeface="Arial"/>
              </a:rPr>
              <a:t>u </a:t>
            </a:r>
            <a:br>
              <a:rPr sz="3600"/>
            </a:br>
            <a:r>
              <a:rPr b="0" lang="cs-CZ" sz="2400" spc="-1" strike="noStrike">
                <a:solidFill>
                  <a:srgbClr val="333399"/>
                </a:solidFill>
                <a:latin typeface="Arial"/>
                <a:ea typeface="Arial"/>
              </a:rPr>
              <a:t>v hladkých svalových buňká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0504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Webdings"/>
                <a:ea typeface="Webdings"/>
              </a:rPr>
              <a:t>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ákladní tvary hladkých svalových buně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vřetenovitý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přirozený tvar v cévní stěně,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kulový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buňky volně kultivované „in vitro“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plochý paraboloid – buňky kultivované na podlož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 změně tvaru buňky probíhá neustálá reorganizace jejího 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ytoskelet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mj. jako odezva na zatížení buňk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Webdings"/>
                <a:ea typeface="Webdings"/>
              </a:rPr>
              <a:t>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zhledem k neustálé remodelaci cytoskeletu lze předpokládat, že jeho deformačně – napěťový stav na začátku každého zatěžovacího procesu je téměř stejný – beznapěťový nebo mírně předepjatý.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ávislost tuhosti buňky na rychlosti zatěžování je vlivem remodelace cytoskeletu opačná než u většiny makromolekulárních láte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uňka – tužší při nižší rychlosti zatěžová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kromolekulární (viskoelastické) látky - tužší při vyšší rychlosti zatěžová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38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Přenos zatížení cytoskeletem</a:t>
            </a:r>
            <a:br>
              <a:rPr sz="4000"/>
            </a:b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(action at a distance effect) - posuvy při magnetic twisting cyto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4000" y="5827680"/>
            <a:ext cx="80643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) s cytoskeletem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) bez cytoskelet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chemicky rozruš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5"/>
          <p:cNvGrpSpPr/>
          <p:nvPr/>
        </p:nvGrpSpPr>
        <p:grpSpPr>
          <a:xfrm>
            <a:off x="468360" y="1413000"/>
            <a:ext cx="8137440" cy="4464000"/>
            <a:chOff x="468360" y="1413000"/>
            <a:chExt cx="8137440" cy="4464000"/>
          </a:xfrm>
        </p:grpSpPr>
        <p:pic>
          <p:nvPicPr>
            <p:cNvPr id="66" name="Picture 6" descr=""/>
            <p:cNvPicPr/>
            <p:nvPr/>
          </p:nvPicPr>
          <p:blipFill>
            <a:blip r:embed="rId1"/>
            <a:stretch/>
          </p:blipFill>
          <p:spPr>
            <a:xfrm>
              <a:off x="4537080" y="1413000"/>
              <a:ext cx="4068720" cy="446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7" descr=""/>
            <p:cNvPicPr/>
            <p:nvPr/>
          </p:nvPicPr>
          <p:blipFill>
            <a:blip r:embed="rId2"/>
            <a:srcRect l="0" t="0" r="19715" b="0"/>
            <a:stretch/>
          </p:blipFill>
          <p:spPr>
            <a:xfrm>
              <a:off x="468360" y="1647720"/>
              <a:ext cx="3130560" cy="421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8"/>
            <p:cNvSpPr/>
            <p:nvPr/>
          </p:nvSpPr>
          <p:spPr>
            <a:xfrm>
              <a:off x="1067400" y="2006640"/>
              <a:ext cx="508320" cy="6541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cs-CZ" sz="16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9"/>
            <p:cNvSpPr/>
            <p:nvPr/>
          </p:nvSpPr>
          <p:spPr>
            <a:xfrm>
              <a:off x="5243400" y="2043000"/>
              <a:ext cx="508320" cy="6541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cs-CZ" sz="1600" spc="-1" strike="noStrike">
                  <a:solidFill>
                    <a:srgbClr val="ffff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0"/>
            <p:cNvSpPr/>
            <p:nvPr/>
          </p:nvSpPr>
          <p:spPr>
            <a:xfrm>
              <a:off x="1994040" y="1429920"/>
              <a:ext cx="847440" cy="43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11"/>
            <p:cNvSpPr/>
            <p:nvPr/>
          </p:nvSpPr>
          <p:spPr>
            <a:xfrm>
              <a:off x="6062760" y="1429920"/>
              <a:ext cx="847440" cy="43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Picture 12" descr=""/>
            <p:cNvPicPr/>
            <p:nvPr/>
          </p:nvPicPr>
          <p:blipFill>
            <a:blip r:embed="rId3"/>
            <a:stretch/>
          </p:blipFill>
          <p:spPr>
            <a:xfrm>
              <a:off x="3635640" y="1525320"/>
              <a:ext cx="717480" cy="3716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38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Přenos zatížení cytoskeletem</a:t>
            </a:r>
            <a:br>
              <a:rPr sz="4000"/>
            </a:b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(action at a distance effect) -1. hlavní napětí ve výpočtovém mode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4000" y="5827680"/>
            <a:ext cx="80643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) s cytoskeletem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) bez cytoskelet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2"/>
          <p:cNvGrpSpPr/>
          <p:nvPr/>
        </p:nvGrpSpPr>
        <p:grpSpPr>
          <a:xfrm>
            <a:off x="1625760" y="1557360"/>
            <a:ext cx="5322600" cy="4118040"/>
            <a:chOff x="1625760" y="1557360"/>
            <a:chExt cx="5322600" cy="4118040"/>
          </a:xfrm>
        </p:grpSpPr>
        <p:pic>
          <p:nvPicPr>
            <p:cNvPr id="76" name="Picture 13" descr="pop009"/>
            <p:cNvPicPr/>
            <p:nvPr/>
          </p:nvPicPr>
          <p:blipFill>
            <a:blip r:embed="rId1"/>
            <a:srcRect l="16898" t="29579" r="17469" b="29400"/>
            <a:stretch/>
          </p:blipFill>
          <p:spPr>
            <a:xfrm>
              <a:off x="1625760" y="1557360"/>
              <a:ext cx="2278440" cy="107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14" descr="pop003"/>
            <p:cNvPicPr/>
            <p:nvPr/>
          </p:nvPicPr>
          <p:blipFill>
            <a:blip r:embed="rId2"/>
            <a:srcRect l="15522" t="31558" r="16976" b="31601"/>
            <a:stretch/>
          </p:blipFill>
          <p:spPr>
            <a:xfrm>
              <a:off x="4459320" y="1675800"/>
              <a:ext cx="2238840" cy="91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15" descr="pop010"/>
            <p:cNvPicPr/>
            <p:nvPr/>
          </p:nvPicPr>
          <p:blipFill>
            <a:blip r:embed="rId3"/>
            <a:srcRect l="16132" t="8124" r="17725" b="3397"/>
            <a:stretch/>
          </p:blipFill>
          <p:spPr>
            <a:xfrm>
              <a:off x="1625760" y="2859840"/>
              <a:ext cx="2327760" cy="236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16" descr="pop002"/>
            <p:cNvPicPr/>
            <p:nvPr/>
          </p:nvPicPr>
          <p:blipFill>
            <a:blip r:embed="rId4"/>
            <a:srcRect l="16946" t="4843" r="18048" b="7816"/>
            <a:stretch/>
          </p:blipFill>
          <p:spPr>
            <a:xfrm>
              <a:off x="4459320" y="2859840"/>
              <a:ext cx="2260800" cy="228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17" descr="pop000"/>
            <p:cNvPicPr/>
            <p:nvPr/>
          </p:nvPicPr>
          <p:blipFill>
            <a:blip r:embed="rId5"/>
            <a:srcRect l="7745" t="89282" r="5703" b="849"/>
            <a:stretch/>
          </p:blipFill>
          <p:spPr>
            <a:xfrm>
              <a:off x="1625760" y="5221440"/>
              <a:ext cx="5322600" cy="4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8"/>
            <p:cNvSpPr/>
            <p:nvPr/>
          </p:nvSpPr>
          <p:spPr>
            <a:xfrm>
              <a:off x="1625760" y="4872960"/>
              <a:ext cx="353880" cy="35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9"/>
            <p:cNvSpPr/>
            <p:nvPr/>
          </p:nvSpPr>
          <p:spPr>
            <a:xfrm>
              <a:off x="4340880" y="4865760"/>
              <a:ext cx="353880" cy="35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38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Přenos zatížení cytoskeletem</a:t>
            </a:r>
            <a:br>
              <a:rPr sz="4000"/>
            </a:b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(action at a distance effect) </a:t>
            </a:r>
            <a:br>
              <a:rPr sz="1800"/>
            </a:b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-1. hlavní napětí ve výpočtovém modelu zkoušky vtlače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2" descr="pop018"/>
          <p:cNvPicPr/>
          <p:nvPr/>
        </p:nvPicPr>
        <p:blipFill>
          <a:blip r:embed="rId1"/>
          <a:srcRect l="18515" t="5716" r="19248" b="10853"/>
          <a:stretch/>
        </p:blipFill>
        <p:spPr>
          <a:xfrm>
            <a:off x="2265480" y="1800360"/>
            <a:ext cx="453852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4:12:39Z</dcterms:created>
  <dc:creator>Jiri Bursa</dc:creator>
  <dc:description/>
  <dc:language>en-US</dc:language>
  <cp:lastModifiedBy>Jiří Burša</cp:lastModifiedBy>
  <dcterms:modified xsi:type="dcterms:W3CDTF">2011-11-09T14:32:12Z</dcterms:modified>
  <cp:revision>22</cp:revision>
  <dc:subject/>
  <dc:title>Cytoskelet  výztužná struktura buňky, tvořená především mikrotubuly a mikrofilamenty</dc:title>
</cp:coreProperties>
</file>