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68A-BD97-4AC9-9D28-65A87D4A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9A8-B5D1-4EDC-94DC-CC3D3467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0A5-7052-4C56-8254-B9A803CC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455-60A9-4B0C-91CD-B3559031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004-5C21-4E42-82FC-6701073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E84-4B4E-463D-9DED-2D2CB05E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5A5-0CEE-4B56-BC44-AF0926E2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9B2-42AE-4A90-821A-5C80A28C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822-E080-46E8-BB41-FC63781E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F6C-BE67-48E8-BF91-E5318833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7BD-6108-4825-9F1B-71011753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406-39A6-43F4-A1E9-965122BE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92C-5C5D-4CCB-A260-B9575EE2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hemidesmozomu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membránové spojení mezi intermediálními filamenty a extracelulárními kolagen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6120" y="16002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29520" y="2992320"/>
            <a:ext cx="122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8200" y="206064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2631960"/>
            <a:ext cx="144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racelulární 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2720" y="4460760"/>
            <a:ext cx="863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tvicí 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2:23Z</dcterms:created>
  <dc:creator>Jiri Bursa</dc:creator>
  <dc:description/>
  <dc:language>en-US</dc:language>
  <cp:lastModifiedBy>Jiri Bursa</cp:lastModifiedBy>
  <dcterms:modified xsi:type="dcterms:W3CDTF">2006-12-27T12:51:12Z</dcterms:modified>
  <cp:revision>4</cp:revision>
  <dc:subject/>
  <dc:title>Scheme of hemidesmosome – i.e. transmembrane connection between intermediate filaments and extracellular collagen fibres</dc:title>
</cp:coreProperties>
</file>