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B2D9-0632-4E74-8D64-1262F20E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D29-CECB-4259-825A-4EC4FB2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086-7BB0-4750-AB09-3D4EC24C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23B-8239-493F-8451-AABD6D97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38D8-DD24-452F-9603-E921EBB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A3FD-851B-4F0A-8824-AC69E46F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AA0-26AF-4B76-8608-5A02CD08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E05-552C-4D4E-9183-243032E2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852-5BC1-4566-9069-7B8F1CCC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DAA-1A41-4A3A-927E-84AF60FA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AA6-6DF9-4903-8005-B948185E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7B5-4D90-41F0-9C34-B53650D6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F75-6FA7-4A6C-A110-2F1EDE4F67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Čerpadla pro podporu a náhradu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755640" y="3933720"/>
            <a:ext cx="25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incipy čerpadel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pulz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ěkteré typy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artmat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horat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biomed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4360" y="1052640"/>
            <a:ext cx="7920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ůrné srdeční čerpadlo - VAD (ventricular assist device)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mělé srdce“ – TAH (total artificial heart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o přístroj implantovaný nebo připojený chirurgicky do pacientova těla, který poskytuje podporu (VAD) nebo plnou náhradu (TAH)  pacientovu srdci. Jednotlivé typy se vzájemně liší především těmito charakteristikami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á energie pro pohon čerpadla – stlačený vzduch nebo elektři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třebná antikoagulační medikace – Coumadin, Heparin, Aspiri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místění – uvnitř nebo vně těl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da poskytuje možnost pobytu pacienta v domácím prostředí (mimo JIP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274920" y="3860640"/>
            <a:ext cx="403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žné komplikace při použití V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váce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arkt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c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lhání přístroj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7" descr=""/>
          <p:cNvPicPr/>
          <p:nvPr/>
        </p:nvPicPr>
        <p:blipFill>
          <a:blip r:embed="rId1"/>
          <a:stretch/>
        </p:blipFill>
        <p:spPr>
          <a:xfrm>
            <a:off x="3780000" y="5516640"/>
            <a:ext cx="46796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Thora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rcRect l="68063" t="26230" r="21407" b="53740"/>
          <a:stretch/>
        </p:blipFill>
        <p:spPr>
          <a:xfrm>
            <a:off x="611280" y="1125360"/>
            <a:ext cx="4437000" cy="5007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5078520" y="1268280"/>
            <a:ext cx="3670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ná se o univerzální jednotku, která může sloužit k podpoře levé komory (LVAD), pravé komory (RVAD) nebo i obou současně (BIVAD). Pacient je medikován nízkými dávkami heparinu nebo coumadinu. Přenosná řídící jednotka byla schválena pro použití v domácím ošetřování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VAD typu Abiomed BVS 5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68240" t="48824" r="17775" b="33514"/>
          <a:stretch/>
        </p:blipFill>
        <p:spPr>
          <a:xfrm>
            <a:off x="1332000" y="1916280"/>
            <a:ext cx="6453000" cy="4462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6804000" y="1700280"/>
            <a:ext cx="17985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4360" y="83664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stroj určený k dočasné podpoře levé komory (LVAD), pravé komory (RVAD) nebo i obou současně (BIVAD), při potenciálně reverzibilním postižení myokardu. Vzduchem poháněné čerpadlo je umístěno vně těla a jeho řídicí jednotka je napájena elektřinou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ůže být použito i pro překlenutí doby do transplantace srdce nebo implantace jiného přístroje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Rozvoj a perspektivy použití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61920" y="1239840"/>
          <a:ext cx="6778800" cy="2378160"/>
        </p:xfrm>
        <a:graphic>
          <a:graphicData uri="http://schemas.openxmlformats.org/drawingml/2006/table">
            <a:tbl>
              <a:tblPr/>
              <a:tblGrid>
                <a:gridCol w="873360"/>
                <a:gridCol w="2119320"/>
                <a:gridCol w="3786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aplikací na mil. obyvatel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5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áp. Evropa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R (pouze IKEM)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25"/>
          <p:cNvSpPr/>
          <p:nvPr/>
        </p:nvSpPr>
        <p:spPr>
          <a:xfrm>
            <a:off x="900000" y="386064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ndidáti na použití VAD –pacienti se srdečními chorobami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971640" y="4292640"/>
            <a:ext cx="4824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k 2000 – Evropa (15 zemí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dváha 81%, obezita 33 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ová fyzická aktivita 61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řáci 2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ypertenze 50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816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ýšená hladina cholesterolu 59%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VAD do krevního obě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8" name="Picture 5" descr="VAD1"/>
          <p:cNvPicPr/>
          <p:nvPr/>
        </p:nvPicPr>
        <p:blipFill>
          <a:blip r:embed="rId1"/>
          <a:stretch/>
        </p:blipFill>
        <p:spPr>
          <a:xfrm>
            <a:off x="3102120" y="1101600"/>
            <a:ext cx="5717880" cy="55976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468360" y="1268280"/>
            <a:ext cx="287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odstředivé (bezpulzní) čerpadlo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ulzní čerpadlo </a:t>
            </a: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le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pra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Princip připojení implantovaného  V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9701" t="39129" r="30646" b="32432"/>
          <a:stretch/>
        </p:blipFill>
        <p:spPr>
          <a:xfrm>
            <a:off x="1195560" y="1484280"/>
            <a:ext cx="6400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17240"/>
            <a:ext cx="82915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Použití podpůrných srdečních čerpadel (V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84360" y="1341360"/>
            <a:ext cx="80643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zotav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pora srdce během procesu zotavení u méně vážně postižených pacientů za podmínek jako například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stavení od mimotělního oběhu po srdeční operaci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po vážném srdečním selhání;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vládnutí vážných virových infekcí postihujících srdeční sval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klenutí doby do transplant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udržení při životě po dobu, než je nalezen vhodný dárce pro transplantaci srdce. Většina pacientů indikovaných pro tuto transplantaci umírá dříve, než je nalezen vhodný dárce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blém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– v interakci s krví o řád nižší než v inertním prostředí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ěsnění pohyblivých částí (hřídelů) – použití magnetických spojek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vorba trombů na hřídel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lcifikace membrán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Čerpadlo Heartmate - levostranné trva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7" name="Picture 6" descr="u3v16"/>
          <p:cNvPicPr/>
          <p:nvPr/>
        </p:nvPicPr>
        <p:blipFill>
          <a:blip r:embed="rId1"/>
          <a:srcRect l="5790" t="0" r="17369" b="0"/>
          <a:stretch/>
        </p:blipFill>
        <p:spPr>
          <a:xfrm>
            <a:off x="826920" y="692280"/>
            <a:ext cx="3383280" cy="518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rcRect l="68069" t="28179" r="21038" b="52013"/>
          <a:stretch/>
        </p:blipFill>
        <p:spPr>
          <a:xfrm>
            <a:off x="4319640" y="836640"/>
            <a:ext cx="3997440" cy="43210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4716360" y="5229360"/>
            <a:ext cx="3670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 je medikován aspirinem a za určitých okolností může být propuštěn do domácího ošetřov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68360" y="595008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lektronická řídicí jednotk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24000" y="90792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ájecí jednotk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468360" y="1268280"/>
            <a:ext cx="64764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V="1">
            <a:off x="826920" y="5373360"/>
            <a:ext cx="1008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VAD – podpůrné srdeční čerpadlo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boustranné dočasné (umístěné mimotělně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5" descr="u3v17"/>
          <p:cNvPicPr/>
          <p:nvPr/>
        </p:nvPicPr>
        <p:blipFill>
          <a:blip r:embed="rId1"/>
          <a:srcRect l="6765" t="0" r="13530" b="0"/>
          <a:stretch/>
        </p:blipFill>
        <p:spPr>
          <a:xfrm>
            <a:off x="4976640" y="1197000"/>
            <a:ext cx="3483000" cy="5084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755640" y="1413000"/>
            <a:ext cx="38149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dvou odstředivých čerpadel, hadice procházejí přes pokožku, levé čerpadlo odebírá krev z levé síně a vrací do aorty, pravé odebírá z pravé síně a vrací do arterie pulmonalis (plíc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Odstředivé čerpadlo Biomed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Picture 5" descr="kardio7"/>
          <p:cNvPicPr/>
          <p:nvPr/>
        </p:nvPicPr>
        <p:blipFill>
          <a:blip r:embed="rId1"/>
          <a:stretch/>
        </p:blipFill>
        <p:spPr>
          <a:xfrm>
            <a:off x="900000" y="1101600"/>
            <a:ext cx="3527640" cy="5280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5003640" y="1268280"/>
            <a:ext cx="288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uje se minimální traumatizací krevních elementů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pneumatického membránového čerpadla - vhodné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191628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6" descr="VAD2"/>
          <p:cNvPicPr/>
          <p:nvPr/>
        </p:nvPicPr>
        <p:blipFill>
          <a:blip r:embed="rId1"/>
          <a:stretch/>
        </p:blipFill>
        <p:spPr>
          <a:xfrm>
            <a:off x="1908000" y="1052640"/>
            <a:ext cx="4392720" cy="41828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6084720" y="2852640"/>
            <a:ext cx="208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698920" y="5084640"/>
            <a:ext cx="230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duchová komor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6084720" y="371628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dia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084720" y="4508640"/>
            <a:ext cx="23036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mbrána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 systolické poloze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395280" y="5659560"/>
            <a:ext cx="7920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mě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ůměr membrány 65 mm, celková délka vč. nátrubků 100mm, průměry nátrubků 18 mm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kalcifikace membrány v místech maximálního ohybového namáhán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Princip elektromechanického čerpadla – testován i jako 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50920" y="126828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hyb </a:t>
            </a:r>
            <a:r>
              <a:rPr b="0" lang="cs-CZ" sz="1800" spc="-1" strike="noStrike">
                <a:solidFill>
                  <a:srgbClr val="33cc33"/>
                </a:solidFill>
                <a:latin typeface="Times New Roman"/>
              </a:rPr>
              <a:t>membrá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vyvoláván elektromotore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95280" y="2278080"/>
            <a:ext cx="475308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tší rozmě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lze nezávisle regulovat levou a pravou komor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iaturizace řídicí jednotk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56376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ožnost bezdrátového přenosu energie přes pokožk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4" name="Picture 11" descr="VAD3"/>
          <p:cNvPicPr/>
          <p:nvPr/>
        </p:nvPicPr>
        <p:blipFill>
          <a:blip r:embed="rId1"/>
          <a:srcRect l="0" t="1664" r="0" b="0"/>
          <a:stretch/>
        </p:blipFill>
        <p:spPr>
          <a:xfrm>
            <a:off x="5170320" y="1195560"/>
            <a:ext cx="30736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5:47Z</dcterms:modified>
  <cp:revision>299</cp:revision>
  <dc:subject/>
  <dc:title>Biomechanics  of smooth muscle cells </dc:title>
</cp:coreProperties>
</file>