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59DD-21E0-4E2E-B7F0-8FCC96CA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4220-1BB1-4186-8907-FE9B5C5C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FDCD-0531-4504-93BE-F8C2C7B9F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AD84-6DEC-43C9-A78C-AA392D36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676D-8EBF-49E0-9B32-7F29D01A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85ED-C7E6-42C4-ACD7-EA675E52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E21C-21C5-49D6-8854-ECA4C7FA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8983-0FDC-4DFE-8393-05C2D1D4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50FA-BF5D-49BB-9DDC-EFC35FE6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C514-A3DA-436F-9525-BC010D32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2BCD-6E17-4849-A6D7-D84A12CC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23FF-0C18-4E6D-A82C-DC58413A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24FD-4C2E-49B1-AA4D-D69F129597C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111320"/>
            <a:ext cx="8424720" cy="15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 soustavy ve tvaru pravidelného osmiúhelníka s pěti úhlopříčnými pruty (staticky určité) zvýší jiné uspořádání prutů (vpravo) úroveň symetrie, ale nevede k vytvoření tensegritní strukt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pop007"/>
          <p:cNvPicPr/>
          <p:nvPr/>
        </p:nvPicPr>
        <p:blipFill>
          <a:blip r:embed="rId1"/>
          <a:srcRect l="17546" t="9332" r="17546" b="9332"/>
          <a:stretch/>
        </p:blipFill>
        <p:spPr>
          <a:xfrm>
            <a:off x="685800" y="2924280"/>
            <a:ext cx="3882960" cy="3470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pop009"/>
          <p:cNvPicPr/>
          <p:nvPr/>
        </p:nvPicPr>
        <p:blipFill>
          <a:blip r:embed="rId2"/>
          <a:srcRect l="17546" t="9332" r="17546" b="9332"/>
          <a:stretch/>
        </p:blipFill>
        <p:spPr>
          <a:xfrm>
            <a:off x="4788000" y="2852640"/>
            <a:ext cx="3768480" cy="3546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395280" y="333360"/>
            <a:ext cx="842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ff"/>
                </a:solidFill>
                <a:latin typeface="Arial"/>
              </a:rPr>
              <a:t>Soustava tvaru osmiúhelní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24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Arial"/>
              </a:rPr>
              <a:t>Soustava tvaru osmiúhelníka</a:t>
            </a:r>
            <a:r>
              <a:rPr b="1" lang="cs-CZ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pop019"/>
          <p:cNvPicPr/>
          <p:nvPr/>
        </p:nvPicPr>
        <p:blipFill>
          <a:blip r:embed="rId1"/>
          <a:srcRect l="17546" t="9332" r="17546" b="9332"/>
          <a:stretch/>
        </p:blipFill>
        <p:spPr>
          <a:xfrm>
            <a:off x="685800" y="2797200"/>
            <a:ext cx="3809880" cy="3584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pop020"/>
          <p:cNvPicPr/>
          <p:nvPr/>
        </p:nvPicPr>
        <p:blipFill>
          <a:blip r:embed="rId2"/>
          <a:srcRect l="17546" t="9332" r="17546" b="9332"/>
          <a:stretch/>
        </p:blipFill>
        <p:spPr>
          <a:xfrm>
            <a:off x="4788000" y="2798640"/>
            <a:ext cx="3800520" cy="35830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611280" y="907920"/>
            <a:ext cx="82818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nsegritní soustavu lze vytvořit dvěma následujícími způsoby: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-   přidáním dalšího prutu a jejich uspořádáním do tvaru se čtyřmi osami symetrie (vlevo)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  odebráním jednoho prutu a přeuspořádáním zbylých úhlopříčných prutů do tvaru hvězdy (vpravo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424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Arial"/>
              </a:rPr>
              <a:t>Soustava tvaru osmiúhelníka</a:t>
            </a:r>
            <a:r>
              <a:rPr b="1" lang="cs-CZ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466560" y="1413000"/>
            <a:ext cx="331344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ustavu s tensegritními vlastnostmi lze vytvořit také vložením dvou vzájemně pootočených čtverců do pravidelného osmiúhelníka; tyto dva čtverce tvořené vzpěrami jsou vzájemně spojeny pouze prostřednictvím lan, což je jedním ze základních rysů tensegritních soustav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pop012"/>
          <p:cNvPicPr/>
          <p:nvPr/>
        </p:nvPicPr>
        <p:blipFill>
          <a:blip r:embed="rId1"/>
          <a:srcRect l="17546" t="9332" r="17546" b="9332"/>
          <a:stretch/>
        </p:blipFill>
        <p:spPr>
          <a:xfrm>
            <a:off x="3924360" y="1413000"/>
            <a:ext cx="4537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2:23:29Z</dcterms:created>
  <dc:creator>Jiri Bursa</dc:creator>
  <dc:description/>
  <dc:language>en-US</dc:language>
  <cp:lastModifiedBy>Jiří Burša</cp:lastModifiedBy>
  <dcterms:modified xsi:type="dcterms:W3CDTF">2012-03-27T13:18:08Z</dcterms:modified>
  <cp:revision>7</cp:revision>
  <dc:subject/>
  <dc:title>In a regular octagonal structure, another arrangement of struts shown in the right figure enhances the degree of symmetry of the structure without adding any more one strut; however, the structure does not show all the features of tensegrity structures. </dc:title>
</cp:coreProperties>
</file>