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54C-A604-44C9-AF04-A8BB2160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0A8-2B3A-455C-918B-1D964E29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9E9-38CA-44B8-B004-7CFDCD3C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9529-279C-41FB-A641-C6773458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9D0-C65A-4212-92A5-AE9B938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62F-2874-4EDF-B0E0-A8591DFD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A1F-A88F-4D89-B17D-7806E838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152-6342-47D7-8CC2-B79BA593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163-8F58-4F69-BA92-E1EE6FFD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916A-7AFB-4B64-8722-6CB99716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370-43E9-4F88-AD4E-5CF27465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17A-7A0F-4FD3-A666-70C43ACA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096D-0EBC-4885-BB65-B49D77E523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39640" y="170028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rdečně-cévní soustavy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68360" y="2421000"/>
            <a:ext cx="8372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měny krevního tlaku – hypertenz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y elektrické stimulace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cké změny cév (ateroskleróza, uzávěry, výdutě)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tologie myokardu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ady srdečních chlopní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pojení velkého a malého oběhu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33399"/>
                </a:solidFill>
                <a:latin typeface="Times New Roman"/>
              </a:rPr>
              <a:t>Místa počátku sklerotických změ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012000" y="1700280"/>
            <a:ext cx="2520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karotid a podklíčkových tepen z oblouku aorty, bifurkace karotid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bočky tepen (renálních, střevních atd.) z břišní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7" name="Picture 14" descr="u3v22"/>
          <p:cNvPicPr/>
          <p:nvPr/>
        </p:nvPicPr>
        <p:blipFill>
          <a:blip r:embed="rId1"/>
          <a:srcRect l="2042" t="0" r="4083" b="0"/>
          <a:stretch/>
        </p:blipFill>
        <p:spPr>
          <a:xfrm rot="21540000">
            <a:off x="2268000" y="907560"/>
            <a:ext cx="3926160" cy="5462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5"/>
          <p:cNvSpPr/>
          <p:nvPr/>
        </p:nvSpPr>
        <p:spPr>
          <a:xfrm>
            <a:off x="468360" y="1268280"/>
            <a:ext cx="2160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ěnčité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furkace aort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luboká tepna stehen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1835280" y="1413000"/>
            <a:ext cx="1441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1835280" y="141300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Line 18"/>
          <p:cNvSpPr/>
          <p:nvPr/>
        </p:nvSpPr>
        <p:spPr>
          <a:xfrm flipV="1">
            <a:off x="2050920" y="299736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1979640" y="443700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Line 20"/>
          <p:cNvSpPr/>
          <p:nvPr/>
        </p:nvSpPr>
        <p:spPr>
          <a:xfrm flipH="1">
            <a:off x="5508360" y="191628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Line 21"/>
          <p:cNvSpPr/>
          <p:nvPr/>
        </p:nvSpPr>
        <p:spPr>
          <a:xfrm flipH="1">
            <a:off x="5795640" y="33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22"/>
          <p:cNvSpPr/>
          <p:nvPr/>
        </p:nvSpPr>
        <p:spPr>
          <a:xfrm flipH="1">
            <a:off x="5866920" y="335772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0114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hemodynam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liv namáhá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4941720"/>
            <a:ext cx="77752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ndarterektomi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gioplastik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teriální stenty – kovové výztuž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évní náhrady – přemostění nebo náhrada zúžené arteri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68360" y="43797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tody chirurgické léčby sklerotických tepen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atologické jevy souvisící s aterosklerózo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11280" y="1125360"/>
            <a:ext cx="8229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gina pectoris, endoteliální dysfunkce, demence… (důsledky chronického zhoršeného prokrvení různých tkání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farkt myokardu (“srdeční mrtvice” – úmrtnost cca 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ročně, několikanásobně větší množství postižených je ošetřeno angioplastikou nebo bypasse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, náhlá mozková příhoda (“mozková mrtvice”) atd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eurysma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dutě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p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ýrazně rozšířená místa na te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Mechanické ovlivnění sklerotického procesu </a:t>
            </a:r>
            <a:br>
              <a:rPr sz="32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v bifurkaci arterie caro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ísta počátku sklerotických změn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zočáry největšího hlavního napět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skleroza1"/>
          <p:cNvPicPr/>
          <p:nvPr/>
        </p:nvPicPr>
        <p:blipFill>
          <a:blip r:embed="rId1"/>
          <a:stretch/>
        </p:blipFill>
        <p:spPr>
          <a:xfrm>
            <a:off x="539640" y="1989000"/>
            <a:ext cx="817884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Podstata a fáze aterosklerotického procesu</a:t>
            </a:r>
            <a:endParaRPr b="0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611280" y="1125360"/>
            <a:ext cx="822960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olesterol (o nízké hustotě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DL-cholesterol) v krevním řečišti proniká do stěny tep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čemuž napomáhá poškození endotel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unitní systém vysílá makrofágy s cílem pohltit cholesterol. Makrofágy se se tím mění na pěnové buňky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se hromadí a stávají se hlavní složkou sklerotického plátu, který omezuje krevní průtok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pna se může sna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remodelací zvětšit svůj průměr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ž je jedna z hypotéz mechanismu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zniku aneurysmat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dnes spíše opouštěná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ňky hladkého svalstva vytvářejí vazivový (fibrózní) kryt ateromu (sklerotického plátu), který zajišťuje, aby povrch zůstal smáčivý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ěnové buňky v plátu vylučují chemické látky oslabující vazivový kry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kud dojde k ruptuře (porušení) krytu plátu, kontakt krve s tukovým obsahem ateromu způsobí vznik krevní sraženiny, která může 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t tepnu (pokud se jedná o koronární tepnu, dojde k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farktu myokard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Endarterektom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95280" y="1125360"/>
            <a:ext cx="8280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irurgické odstranění rozsáhlých ateromatózních plátů z karotid, příp. věnčitých tepen (tam se používá především u jejich difúzního postižení, znemožňujícího použití bypassu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20" descr="u3v10"/>
          <p:cNvPicPr/>
          <p:nvPr/>
        </p:nvPicPr>
        <p:blipFill>
          <a:blip r:embed="rId1"/>
          <a:srcRect l="0" t="0" r="0" b="20062"/>
          <a:stretch/>
        </p:blipFill>
        <p:spPr>
          <a:xfrm>
            <a:off x="1476360" y="2276640"/>
            <a:ext cx="614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376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erkutánní transluminární koronární angiopla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5280" y="1052640"/>
            <a:ext cx="2808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pn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erosklerotický plát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stenózy zaveden tenký vodič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 místa stenózy zaveden balónek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fouknutí balónku tlakem několika desetin MP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ý stav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07"/>
          <p:cNvPicPr/>
          <p:nvPr/>
        </p:nvPicPr>
        <p:blipFill>
          <a:blip r:embed="rId1"/>
          <a:stretch/>
        </p:blipFill>
        <p:spPr>
          <a:xfrm>
            <a:off x="3583080" y="1054080"/>
            <a:ext cx="4444920" cy="503892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1476360" y="1268280"/>
            <a:ext cx="23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Line 7"/>
          <p:cNvSpPr/>
          <p:nvPr/>
        </p:nvSpPr>
        <p:spPr>
          <a:xfrm flipV="1">
            <a:off x="1547640" y="1483920"/>
            <a:ext cx="259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V="1">
            <a:off x="1692360" y="1844280"/>
            <a:ext cx="26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916360" y="2565360"/>
            <a:ext cx="1800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7:41:26Z</dcterms:modified>
  <cp:revision>275</cp:revision>
  <dc:subject/>
  <dc:title>Biomechanics  of smooth muscle cells </dc:title>
</cp:coreProperties>
</file>