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CEE8-C2BC-4D3D-81FF-27D70727AC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4162-C750-46D0-8CA5-5B13C84D09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užití výpočtového modelování v této oblasti spočívá především v řešení úloh o identifikaci materiálových vlastností buně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ýstupem mechanických zkoušek prováděných na buňkách nejčastěji bývá jistá závislost mezi deformačním zatížením buňky a její silovou odezvou. Pokud chceme z naměřených údajů získat konstitutivní popis materiálu buňky, musíme nejprve zvolit vhodný konstitutivní model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potom identifikovat jeho parametry. K této identifikaci se využívá právě výpočtových simulací experimentálních met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6B4-0EB9-4DC7-B58F-DD039B889D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yn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í přejdeme k samotnému výpočtovému modelování v oblasti biomechaniky buňky. Nejprve se ve stručnosti  seznámíme se současným stavem poznání.   V současné době používané výpočtové modely lze rozdělit do dvou hlavních kategorií. Jednak jsou to nestrukturní modely,- ty nezohledňují vnitřní struktury buň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jdnak jsou to  strukturně založené modely-Jsou tvořeny dvěma nebo více strukturními složkami s odlišným materiálovými vlastnostmi, které reprezentují vybrané buněčné komponenty. Strukturní modely  můžeme dále dělit n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tinuální--všechny strukturní složky buňky jsou modelovány jako kontinu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iskrétní--buňka nebo její komponenty jsou modelovány diskrétními struktura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 komplexní ---je tvořen kombinací diskrétního a kontinuálního strukturního model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ednotlivé reprezentanty těchto kategoríí si následně ukáže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EE21-5640-414A-9EE3-1527F866B5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Řešení problém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omechaniky b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ňky vyžaduje interdiscilinární přístup, jehož součástí je i studium chování buňky jako mechanické soustav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 vyžaduje znalosti jednak o struktuře buňky, o jejích interakcích s okolím a v neposlední řadě o jejích mechanických vlastnoste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Zkoumání mechanického chování buněk se v současnosti provádí jednak na základě experimentů prostřednictvím různých mechanických zkoušek a jednak pomocí jejích výpočtového modelová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CED-7D58-4C08-8A27-F6646D9C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672-722F-4FE0-96A7-030811DB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F17-2F58-4069-8A81-7084058B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949-B473-45BB-BA0C-C34BB3E3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D67-EBBD-467E-A4BD-8A29D36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C73-993F-421E-9FF9-8FDA5CD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27D-08B6-4EBE-AC6E-F55A2009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ED8-FF9C-40D1-962A-402E4CC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8F9-2399-4ACE-BBC3-7BF0E018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0DC-764F-4B68-B8FA-732F6A9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FCBC-4FE7-4C5B-B281-82368DAA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62B-B07D-47A5-8A64-F8A484FC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363E-D3C8-4AEC-8755-AA4DE3A57F1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mechanotransdukce.pp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sval_p&#345;&#237;&#269;n&#283;_pruhovan&#253;.ppt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val_hladk&#253;.ppt" TargetMode="External"/><Relationship Id="rId2" Type="http://schemas.openxmlformats.org/officeDocument/2006/relationships/hyperlink" Target="file:///SMC-kontraktiln&#237;.ppt" TargetMode="External"/><Relationship Id="rId3" Type="http://schemas.openxmlformats.org/officeDocument/2006/relationships/hyperlink" Target="file:///SMC-kontraktiln&#237;.ppt" TargetMode="External"/><Relationship Id="rId4" Type="http://schemas.openxmlformats.org/officeDocument/2006/relationships/hyperlink" Target="file:///SMC-kontraktiln&#237;.ppt" TargetMode="External"/><Relationship Id="rId5" Type="http://schemas.openxmlformats.org/officeDocument/2006/relationships/hyperlink" Target="file:///SMC-kontraktiln&#237;.ppt" TargetMode="External"/><Relationship Id="rId6" Type="http://schemas.openxmlformats.org/officeDocument/2006/relationships/hyperlink" Target="file:///kolagen-fibrila.ppt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ukaryotick&#225;%20bu&#328;ka.ppt" TargetMode="External"/><Relationship Id="rId2" Type="http://schemas.openxmlformats.org/officeDocument/2006/relationships/hyperlink" Target="file:///Cytoskelet.pp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pojen&#237;_bun&#283;k.ppt" TargetMode="External"/><Relationship Id="rId2" Type="http://schemas.openxmlformats.org/officeDocument/2006/relationships/hyperlink" Target="file:///gap%20junction.pp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bu&#328;ky-mechanick&#233;_vlastnosti.doc" TargetMode="External"/><Relationship Id="rId2" Type="http://schemas.openxmlformats.org/officeDocument/2006/relationships/hyperlink" Target="file:///bu&#328;ky-mechanick&#233;_vlastnosti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zkou&#353;ka_aspira&#269;n&#237;.ppt" TargetMode="External"/><Relationship Id="rId2" Type="http://schemas.openxmlformats.org/officeDocument/2006/relationships/hyperlink" Target="file:///zkou&#353;ka_vtla&#269;en&#237;m.ppt" TargetMode="External"/><Relationship Id="rId3" Type="http://schemas.openxmlformats.org/officeDocument/2006/relationships/hyperlink" Target="file:///zkou&#353;ka_tahem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buňky</a:t>
            </a:r>
            <a:br>
              <a:rPr sz="4400"/>
            </a:b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Výpočtové modely mechanického chování buň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263664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Přednáška je součástí předmě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Biomechanika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(Biomechanika srdečně-cévní sousta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Tato přednáška předpokládá zvládnutí úvodních částí předmětu, týkajících se především základů anatomie, histologie a patologie  srdečně-cévní soustav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Úrovně modelů cévní stě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omog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ní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ejjednodušší model nerespektující vnitřní strukturu stěn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eh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omogen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í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ě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ěna složená z homogenních vrstev s různými konstitutivními vztahy, odpovídajících adve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, medii a intimě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vrstva rozložená na nižší strukturní prvky, např. elastické a svalové membrány (podvrstvy) v případě medie tep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podvrstva rozložena na její prvky, např. na různé typy vláken a základní substanci, příp. buň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333399"/>
                </a:solidFill>
                <a:latin typeface="Times New Roman"/>
              </a:rPr>
              <a:t>Využití výpočtového modelování buně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y mechanických zkoušek buněk = informace o závislostech mezi  silou a deformac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oky nutné pro modelování vlastností buň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olba vhodných konstitutivních modelů buňky, resp. jejích k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dentifikace jejich parametrů pomocí výpočtových simulací experi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 tomu je třeba mít k dispozici univerzální výpočtový model mechanického chování buňky, zohledňující co nejpřesněji její strukturu a umožňující simulovat různé mechanické zkouš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Dílčí kro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tvořit výpočtový model mechanického chování buňky, zahrnující všechny její strukturní složk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tné z mechanického hledisk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lézt vhodné modely konstitutivního chování pro jednotlivé strukturní složky výpočtového modelu buň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užít vytvořeného modelu buňky pro simulování různých mechanických zkouš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Typy výpočtových modelů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strukturní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jako homogenní kontinu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uktu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ohledňuje nějakým způsobem vnitřní strukturu buň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ál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buňka modelovaná jako nehomogenní kontinuum s částečným zohledněním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krétn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ňka modelovaná pomocí diskrétních prvků (např.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mplexní - buňka modelovaná kombinací spojitých a diskrétních prvků (např. cytoplasma jako kontinuum a cytoskelet pomocí tensegritní struktu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Perspekti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 vyhodnocení deformačně-napěťových stav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 buňce je nutný věrohodný výpočtový model buňky a identifikace jeho parametrů založená na simulaci různých typů mechanických zkouš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 by měl vytvořit předpoklady pro výpočtov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delování skupin buněk nebo složitější struktury jednotlivé svalové vrstvy v medii arteriální stěny za normálních i patologických podmí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ýsledky by měly napomáhat k pochopení vlivu mechanických faktorů na remodelaci cévní stěny i na patologické procesy provázející vznik a rozvoj sklerotických změn ve stěně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Motivace - mechanické důsledky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chorob cévní soustavy a prováděných zákroků</a:t>
            </a: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modelace tkáně,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p. apoptóza buněk  nastává v reakci na změny mechanického zatížení – např. za těchto podmí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 nekompenzované hypertenzi - dlouhodobé pře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znik a růst ateromatického plátu - v místech zvýšeného mechanického namáh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rapeutické zákroky navozující změny mechanického zatížení tká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átkodobé přetížení při zákroku (např. angioplastika) – může vést až k apoptóze (programová smrt) buněk hladkého sval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louhodobé přetížení (aneurysma, aplikace stentu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soulad tuhostí mezi tkání a umělým materiálem – např. po aplikaci cévní protézy –  vyvolává přídavné namáhání tkán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žilní autotransplantáty – v důsledku změny mechanických podmínek, jimž je tkáň vystavena ,  dochází k její remodelaci, příp. až k apoptóze buně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modelační i sklerotické procesy začínají na úrovni jednotlivých (hladkých svalových) buněk cévní stěny a jsou významně ovlivňovány mechanickými faktory. Základním elementem strukturních změn živých tkání je tedy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ukaryotická buň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Biochemické procesy, které v ní probíhají jsou zjevně ovlivněny jejím mechanickým namáháním, tento proces přeměny mechanického signálu na biochemickou odezvu se nazývá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chanotransduk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2076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příčně pruhovaného svalu (</a:t>
            </a:r>
            <a:r>
              <a:rPr b="0" lang="cs-CZ" sz="36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viz ob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0136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 jako anatomická jednotka, tzv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ové snopce různých strukturních úrovní a velikostí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ezz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3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ždý svalový snopec se skládá z 10 až 100 jednotlivých svalových vláken, z nichž každé představuje jednojadernou svalovou buňku. Délka svalových vláken bývá obvykle v desítkách mm, zatímco jejich tloušťka je pouhých 10 až 100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. Proto bývá tato strukturní úroveň označován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svalové vlákno je tvořeno tzv. myofibrilami o průměru kolem 1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ult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5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ofibrily jsou tvořeny sadou aktinových (tenkých) a myozinových (tlustých) vláken a dále tzv. Z-disky (Z-liniemi)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roveň 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aždé filamentum se skládá z makromolekul příslušné bílkoviny, které mají rovněž svou atomovou strukturu; vzhledem k jiným typům podstatných silových interakcí není řešitelná metodami mechaniky těles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ierarchic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é 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stru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k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tur</a:t>
            </a: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ní úrovně</a:t>
            </a:r>
            <a:r>
              <a:rPr b="0" lang="en-GB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br>
              <a:rPr sz="3600"/>
            </a:br>
            <a:r>
              <a:rPr b="0" lang="cs-CZ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hladkého s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1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 jako anatomická jednotka (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m), nebo jednotlivé vrstvy cévní stěny, tzv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svalová buň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řetenovitého tvaru o dél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ikr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3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vnitř buňky je kromě p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ních vláken (např. intermediálních) soustav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akt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nkých) 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myozinových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lustých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vláken (filamen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terá vzájemně propojují tzv.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densní tělís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no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roveň 4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é filamentum se skládá z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vláknitých makromolekul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lušné bílkoviny, ty mají dále svou atomovou strukturu; vzhledem k jiným typům podstatných silových interakcí není tato úroveň řešitelná metodami mechaniky tě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Strukturní 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vky živočišné buňk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odstatné z mechanického hlediska</a:t>
            </a: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Buněčná membrá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tvořená většinou fosfolipidy a cholestero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ytoplazm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zahrnuje základní hmotu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organel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ytoskel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nd cytoplas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tické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u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ádr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nese informaci pro reprodukci buňky v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r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ě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NA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hrom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omec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ytoskele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e z mechanického hlediska nejdůležitější složkou hladké svalové buňky, podílí se rozhodující měrou na jejím mechanickém ch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09480"/>
            <a:ext cx="80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vzájemného </a:t>
            </a:r>
            <a:r>
              <a:rPr b="0" lang="cs-CZ" sz="4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opojení buněk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– nexy neboli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ap junctions </a:t>
            </a:r>
            <a:r>
              <a:rPr b="0" lang="cs-CZ" sz="2400" spc="-1" strike="noStrike">
                <a:solidFill>
                  <a:srgbClr val="333399"/>
                </a:solidFill>
                <a:latin typeface="Times New Roman"/>
              </a:rPr>
              <a:t>(podle Fyziologie, Troj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188"/>
          <p:cNvPicPr/>
          <p:nvPr/>
        </p:nvPicPr>
        <p:blipFill>
          <a:blip r:embed="rId3"/>
          <a:stretch/>
        </p:blipFill>
        <p:spPr>
          <a:xfrm>
            <a:off x="468360" y="1700280"/>
            <a:ext cx="822960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Studium buňky jako mechanické sou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vyžad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struktuře buňky a jejích interakcích s okol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Znalosti o 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mechanických vlastnostech buňky</a:t>
            </a:r>
            <a:r>
              <a:rPr b="0" lang="cs-CZ" sz="2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Vyšetřování mechanických vlastností buněk se provádí na základě experimentů a 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výpočtového model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Experimentální určování mechanických vlastností buně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793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buněčných popul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deformací podložky (membrane stre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tížení fluidními smykovými  silami (flui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chanické zkoušky izolovaných buněk - z hlediska zatížení lze děli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lobální - zatěžována celá buň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kální  - zatížení se na buňku přenáší jen v malé 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Příklady mechanických zkoušek prováděných na izolovaných buň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84872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podle principu vyvození zátěžné sí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echan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1"/>
              </a:rPr>
              <a:t>Aspirační zkoušk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nasáváním do mikropipe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Vtlačovací zkou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Zkouška tahe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kouška tlakem s mikrodestička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gne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 twisting cyt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gne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tické met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ká pinz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tical stret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3-03-27T07:38:47Z</dcterms:modified>
  <cp:revision>245</cp:revision>
  <dc:subject/>
  <dc:title>Biomechanics  of smooth muscle cells </dc:title>
</cp:coreProperties>
</file>