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21D-F6B6-49B9-AEE6-85E3F6A1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455-0D55-4068-B24E-E09D9D25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40A-0751-41D0-B83B-7323F5DA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BF9-48AB-427F-8F71-2D7AC221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EE7-5104-42C7-A11B-7B74E4C1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CA3-2758-4193-9077-210DF56C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281-4834-44F2-B5D6-D198C178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460-B8A9-489C-9290-C8BFDC89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3A3-2E9E-4DF4-B00C-401DEF48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658-6C75-4686-93B4-8E4D4D0C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F30-F46B-416C-80FC-20DC7AA5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987-1195-439F-A6A1-4D34D57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C1A9-5624-4A31-9EDD-848A74F2E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orovnání výchozí odhadnuté křivky s křivkou získanou iterační výpočtovou simulací </a:t>
            </a:r>
            <a:br>
              <a:rPr sz="28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homogenní nelineárně-elastický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5640" y="1989000"/>
          <a:ext cx="7704000" cy="44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7040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0:58:10Z</dcterms:created>
  <dc:creator>Jiri Bursa</dc:creator>
  <dc:description/>
  <dc:language>en-US</dc:language>
  <cp:lastModifiedBy>umt</cp:lastModifiedBy>
  <dcterms:modified xsi:type="dcterms:W3CDTF">2007-01-08T13:02:50Z</dcterms:modified>
  <cp:revision>3</cp:revision>
  <dc:subject/>
  <dc:title>Porovnání výchozí odhadnuté křivky     s křivkou získanou iterační výpočtovou simulací  homogenní nelineárně-elastický model</dc:title>
</cp:coreProperties>
</file>