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F0B-C477-470F-A4AD-22768E6D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B1A-C21E-4661-86D8-2A288A6C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E6F-22E7-43CC-88DC-D2CF2761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1DE-8F15-4AB6-A8EA-6A53A1B9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348C-C19D-4D84-8388-3DD52B12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F2D-9EEE-4C6B-8DCF-FB850BC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CFF-C7F4-461B-9744-E5CFC20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01A-3BF0-45DE-855D-1CBD55E8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8D7-FC02-47D2-8FE3-0FF37906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C87-7488-4B14-92ED-07DA7552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92E-B2F2-4630-A70C-08CCF9B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76D-AF97-4EA7-8389-FFC20499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92E-5285-4BA0-9D89-AE2F49F2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Schéma desmozomu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pevnější mechanické spojení s širokou mezerou mezi oběma membrá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408720" cy="439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716360" y="179712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něčné membrá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3502080"/>
            <a:ext cx="2160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ermediální vlák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558972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rycí des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5877000"/>
            <a:ext cx="27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smocollin a desmogl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9:21:26Z</dcterms:created>
  <dc:creator>Jiri Bursa</dc:creator>
  <dc:description/>
  <dc:language>en-US</dc:language>
  <cp:lastModifiedBy>Jiri Bursa</cp:lastModifiedBy>
  <dcterms:modified xsi:type="dcterms:W3CDTF">2006-12-27T12:42:58Z</dcterms:modified>
  <cp:revision>4</cp:revision>
  <dc:subject/>
  <dc:title>Schéma desmozomu – pevnější mechanické spojení s širokou mezerou mezi oběma membránami</dc:title>
</cp:coreProperties>
</file>