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1D71-1F84-4311-9265-276AB8E57B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lastní kvantifikaci by bylo možno provádět následovně:  při provádění dvou různých mechanických zkoušek pro daný typ buňky bychom zjistili při jakých úrovních zatížení dochází ke spuštění biochemických reak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2BE-F6FE-481F-8925-9010206D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7CA-8DBB-46DC-B476-D55843FF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954-0FDD-48D2-85EB-8DD8C82B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7D6-40F2-4886-9E3F-CBDC9D00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81A-A1D6-4BE4-A250-7B3E77F6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592-E824-42B3-B27C-4180AB3F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0D0-B117-43C8-812F-5FF813D2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207-E399-4B23-BDBD-B0B5D6E9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893-663F-42F1-98B0-0C51CB1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FEB-A0B4-4B3A-BA59-44E1663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007-652F-42DD-9487-8292178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8C0-B306-452A-9031-5A22669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39E3-8FD8-48E8-ADB4-A4B542E0B99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ak je možno kvantifikovat vliv hodnot namáhání (napjatosti) prvků struktury buňky na aktivaci biochemických procesů v buňce?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09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istit, při jakých úrovních zatížení dojde k aktivaci biochemického procesu pro daný typ buňky při dvou různých mechanických zkoušk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2566" t="7820" r="6410" b="0"/>
          <a:stretch/>
        </p:blipFill>
        <p:spPr>
          <a:xfrm>
            <a:off x="900000" y="4365720"/>
            <a:ext cx="2880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0280" y="2538360"/>
            <a:ext cx="2962080" cy="1798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522880" cy="167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15572" r="0" b="0"/>
          <a:stretch/>
        </p:blipFill>
        <p:spPr>
          <a:xfrm>
            <a:off x="6084720" y="4221000"/>
            <a:ext cx="252108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56000" y="5229360"/>
            <a:ext cx="9363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300640"/>
            <a:ext cx="12240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80000" y="357336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ktivace biochemického proce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347640" y="4076640"/>
            <a:ext cx="576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2376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ulace obou zkoušek při zatížení, které způsobilo aktivaci biochemických procesů při experimen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394" t="15221" r="2238" b="38562"/>
          <a:stretch/>
        </p:blipFill>
        <p:spPr>
          <a:xfrm>
            <a:off x="577800" y="3760920"/>
            <a:ext cx="3776760" cy="1579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59280" y="5084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407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43640" y="3933720"/>
            <a:ext cx="216000" cy="166680"/>
          </a:xfrm>
          <a:custGeom>
            <a:avLst/>
            <a:gdLst/>
            <a:ahLst/>
            <a:rect l="l" t="t" r="r" b="b"/>
            <a:pathLst>
              <a:path w="136" h="105">
                <a:moveTo>
                  <a:pt x="0" y="15"/>
                </a:moveTo>
                <a:cubicBezTo>
                  <a:pt x="34" y="7"/>
                  <a:pt x="68" y="0"/>
                  <a:pt x="91" y="15"/>
                </a:cubicBezTo>
                <a:cubicBezTo>
                  <a:pt x="114" y="30"/>
                  <a:pt x="125" y="67"/>
                  <a:pt x="136" y="10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4365720"/>
            <a:ext cx="1295280" cy="718920"/>
          </a:xfrm>
          <a:custGeom>
            <a:avLst/>
            <a:gdLst/>
            <a:ahLst/>
            <a:rect l="l" t="t" r="r" b="b"/>
            <a:pathLst>
              <a:path w="771" h="408">
                <a:moveTo>
                  <a:pt x="0" y="408"/>
                </a:moveTo>
                <a:cubicBezTo>
                  <a:pt x="125" y="339"/>
                  <a:pt x="250" y="271"/>
                  <a:pt x="363" y="226"/>
                </a:cubicBezTo>
                <a:cubicBezTo>
                  <a:pt x="476" y="181"/>
                  <a:pt x="613" y="174"/>
                  <a:pt x="681" y="136"/>
                </a:cubicBezTo>
                <a:cubicBezTo>
                  <a:pt x="749" y="98"/>
                  <a:pt x="760" y="49"/>
                  <a:pt x="771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4581360"/>
            <a:ext cx="1295280" cy="516240"/>
          </a:xfrm>
          <a:custGeom>
            <a:avLst/>
            <a:gdLst/>
            <a:ahLst/>
            <a:rect l="l" t="t" r="r" b="b"/>
            <a:pathLst>
              <a:path w="816" h="325">
                <a:moveTo>
                  <a:pt x="0" y="8"/>
                </a:moveTo>
                <a:cubicBezTo>
                  <a:pt x="90" y="4"/>
                  <a:pt x="181" y="0"/>
                  <a:pt x="317" y="53"/>
                </a:cubicBezTo>
                <a:cubicBezTo>
                  <a:pt x="453" y="106"/>
                  <a:pt x="703" y="242"/>
                  <a:pt x="816" y="3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00640" y="4745160"/>
            <a:ext cx="200160" cy="10152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4797360"/>
            <a:ext cx="576000" cy="216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70000" y="434016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91280" y="4660920"/>
            <a:ext cx="2174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03640" y="4797000"/>
            <a:ext cx="1152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268000" y="450864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5516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rovnatelné hodnoty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čitého prvku struktury buň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700280"/>
            <a:ext cx="65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d by bylo dosaženo dostatečné shody u hodnot napjatosti určitých strukturních prvků výpočtového modelu buňky při úrovních zatížení odpovídajících spuštění biochemických reakcí, pak lze vyslovit hypotézu, že spuštění těchto procesů bylo iniciováno právě překročením kritických hodnot namáhání u daného strukturního prvk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0:37Z</dcterms:created>
  <dc:creator>Jiri Bursa</dc:creator>
  <dc:description/>
  <dc:language>en-US</dc:language>
  <cp:lastModifiedBy>Jiri Bursa</cp:lastModifiedBy>
  <dcterms:modified xsi:type="dcterms:W3CDTF">2007-01-07T21:29:24Z</dcterms:modified>
  <cp:revision>2</cp:revision>
  <dc:subject/>
  <dc:title>Jak je možno kvantifikovat vliv hodnot namáhání (napjatosti) prvků struktury buňky na aktivaci biochemických procesů v buňce? </dc:title>
</cp:coreProperties>
</file>