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7B6A-CF78-4297-BDCB-B59DC0AB8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A2C5-BE96-4CA2-A86B-48C2FB3C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FCAE-CAA5-41A3-9E7C-2BACE2B82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2A71-8ACF-4A5E-AFD1-6094E8ACB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0B11-891A-4611-BFA2-E0E5A7CD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B95E-3BB2-4209-A2BD-F30D6BE3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9357-FBA6-4899-B35B-B792735F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ECD8-6D00-4FAA-A251-94E82E07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AA1A-082C-48FE-9ED5-805053E3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4093-73BF-4B41-B784-5F5BF3BF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6612-56BE-481B-A0A8-4DAFFB62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7841-8DCD-41D0-95F1-C30696EB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DEC8-FA1C-4844-B70D-AD3596932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5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Magnetic  twisting cyto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68360" y="1557360"/>
            <a:ext cx="4536720" cy="3023640"/>
            <a:chOff x="468360" y="1557360"/>
            <a:chExt cx="4536720" cy="3023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625320" y="1683360"/>
              <a:ext cx="3850920" cy="28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608040" y="1743480"/>
              <a:ext cx="560160" cy="67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073600" y="4128480"/>
              <a:ext cx="1680480" cy="45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su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81440" y="1557360"/>
              <a:ext cx="1397160" cy="45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očen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510360" y="2036160"/>
              <a:ext cx="1494720" cy="10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gnetické po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360" y="3820320"/>
              <a:ext cx="1074960" cy="45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uň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4000" y="1577880"/>
              <a:ext cx="1311840" cy="67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gnetická kulič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91840" y="2207160"/>
              <a:ext cx="560160" cy="33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643280" y="2763720"/>
            <a:ext cx="3878280" cy="2826000"/>
            <a:chOff x="4643280" y="2763720"/>
            <a:chExt cx="3878280" cy="2826000"/>
          </a:xfrm>
        </p:grpSpPr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4750200" y="2763720"/>
              <a:ext cx="3771360" cy="26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643280" y="4925160"/>
              <a:ext cx="530280" cy="66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31600" y="3141360"/>
              <a:ext cx="1411560" cy="296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gnetická kuličk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740120" y="3108240"/>
              <a:ext cx="797760" cy="29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Fibronekt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70640" y="3709080"/>
              <a:ext cx="796320" cy="42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mbrá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16800" y="4256640"/>
              <a:ext cx="554040" cy="29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gr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270760" y="4833720"/>
              <a:ext cx="387000" cy="29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</a:rPr>
                <a:t>Akt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08360" y="5139000"/>
              <a:ext cx="1237680" cy="29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ytoskel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5219640" y="1486080"/>
            <a:ext cx="3610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99"/>
                </a:solidFill>
                <a:latin typeface="Times New Roman"/>
              </a:rPr>
              <a:t>Uchycení kuličky k integrinovým receptorům na povrchu buňk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15:55:08Z</dcterms:created>
  <dc:creator>Jiri Bursa</dc:creator>
  <dc:description/>
  <dc:language>en-US</dc:language>
  <cp:lastModifiedBy>Jiří Burša</cp:lastModifiedBy>
  <dcterms:modified xsi:type="dcterms:W3CDTF">2009-03-31T13:12:48Z</dcterms:modified>
  <cp:revision>5</cp:revision>
  <dc:subject/>
  <dc:title>Magnetická pinzeta (magnetic tweezer)</dc:title>
</cp:coreProperties>
</file>