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8C52-4B01-4D14-9553-F9D777EE12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druhý případ komplexního modelu. Cytoskelet je modelován tensegritní strukturou, a ostatní složky buňky jsou modelovány jako k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C7F-39B6-458D-B802-94C4111D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04A-1B9F-4439-BF63-A0892BBE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F8C-B88F-4375-90D4-38451892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AE6-A483-41E6-BAD9-D8B0E660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F03-6B70-4B4D-89EF-8392CC89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51B-D5E3-4CF7-B891-8E36F9EA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8BF-39DD-4F98-8EAF-0B850219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8104-E6CF-4B3E-B438-394B7536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4FC2-C33E-4165-983E-962356FC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096-885B-49B4-82AF-67A83C3F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005-689F-4199-8A22-D90B0045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510-B613-48F8-A8D2-1F839087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E8C6-CA57-4344-BAF9-66855735A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Příklad komplexního strukturního mode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J. McGarry G., Prendergast P.J., A three-dimensional finite element model of an      adherent eukaryotic cell, European cells and</a:t>
            </a:r>
            <a:r>
              <a:rPr b="1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áles,27-34,2004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Komplexní výpočtový model buň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ovaný komplexní strukturní model buňky je tvořen těmito prv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Bunečná membrána (sarkolemma) a membránový skelet – modelovány pomocí skořepinových pr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cy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elována pomocí 3D solid prvků jako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lmi poddajné k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ádro a přilehlé organel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delová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í 3D solid prvků jako mén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ddajné kontin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cytoplasma vyztužená tensegritní soustavou, reprezentující tzv. jaderný skel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luboký cytoskelet - modelovaný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segritní soustav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reprezentující síť mikrotubulů a mikrofil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4:24:39Z</dcterms:created>
  <dc:creator>Jiří Burša</dc:creator>
  <dc:description/>
  <dc:language>en-US</dc:language>
  <cp:lastModifiedBy>Jiří Burša</cp:lastModifiedBy>
  <dcterms:modified xsi:type="dcterms:W3CDTF">2007-01-04T14:32:39Z</dcterms:modified>
  <cp:revision>4</cp:revision>
  <dc:subject/>
  <dc:title>Snímek 1</dc:title>
</cp:coreProperties>
</file>