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69C0-D3E7-454E-B5C4-DC162D123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814B-F884-48EA-9176-08B1EB3E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644A-8C67-4300-93F2-14CEB1BE6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2C4B-B729-44A3-945E-41A431985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A249-8D0B-4FCE-AD44-E7416933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1818-E2E2-4D8E-BA0F-E7B0FBCB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FDCF-5BC2-4AA9-88AE-27FA869F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2E57-4C68-4B53-A53C-E13191DF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79E7-1F01-4017-9B79-537776B7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17B6-8CBE-4087-AF35-B22A7CBE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7291-FF9B-489B-9A62-42B016E7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935E-DB81-4EE2-9FB3-279CC4A8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4A97-080F-4233-A68C-127144AA08B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Schéma zonuly adherens</a:t>
            </a:r>
            <a:br>
              <a:rPr sz="3600"/>
            </a:b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– méně pevné  spojení se širokou štěrbinou mezi oběma membránami, založené na iontové vaz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553440" cy="4896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71640" y="4149720"/>
            <a:ext cx="1079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Aktinová filame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4720" y="4676760"/>
            <a:ext cx="1223640" cy="3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41800" y="1579680"/>
            <a:ext cx="201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něčné membrá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09:17:54Z</dcterms:created>
  <dc:creator>Jiri Bursa</dc:creator>
  <dc:description/>
  <dc:language>en-US</dc:language>
  <cp:lastModifiedBy>Jiri Bursa</cp:lastModifiedBy>
  <dcterms:modified xsi:type="dcterms:W3CDTF">2006-12-27T12:37:44Z</dcterms:modified>
  <cp:revision>2</cp:revision>
  <dc:subject/>
  <dc:title>Scheme of anchoring junction  – less cohesive connection with a wide gap between both membranes, based on ion cohesion</dc:title>
</cp:coreProperties>
</file>