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4F9-EEFF-48FE-8E90-2BC8389B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0A4-D4FB-4A1F-A545-EAFEBD2D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C4D-6E01-41D2-B033-E5E10D67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E8C-CCA5-41C6-A11F-60F2ADC5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0B5-6BDB-4BEC-9909-8BA2E626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7E4-E487-48F1-BE41-ABFD2BCA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D1D-D795-48BD-8022-2BBC5CF0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AC6-C998-41C9-BFAA-AE19666C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F15-6A9F-493C-A0AE-11D8E5E3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2CD-BFA9-4175-B893-17BF8DC1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FD5-E0A0-4206-8ACA-22FBA2F9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0BF-C0FF-4DAA-A953-0119D937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7B2B-1DF4-402B-8C7C-00614CCFE61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SMC-kontraktiln&#237;.ppt" TargetMode="External"/><Relationship Id="rId4" Type="http://schemas.openxmlformats.org/officeDocument/2006/relationships/hyperlink" Target="file:///SMC-kontraktiln&#237;.ppt" TargetMode="Externa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55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Typický tvar hladké svalové buňky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(podle Anatomie, Čihá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9480" y="1504800"/>
            <a:ext cx="7925040" cy="3652560"/>
            <a:chOff x="609480" y="1504800"/>
            <a:chExt cx="7925040" cy="3652560"/>
          </a:xfrm>
        </p:grpSpPr>
        <p:grpSp>
          <p:nvGrpSpPr>
            <p:cNvPr id="43" name=""/>
            <p:cNvGrpSpPr/>
            <p:nvPr/>
          </p:nvGrpSpPr>
          <p:grpSpPr>
            <a:xfrm>
              <a:off x="609480" y="1504800"/>
              <a:ext cx="7646040" cy="2958840"/>
              <a:chOff x="609480" y="1504800"/>
              <a:chExt cx="7646040" cy="295884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rcRect l="0" t="2873" r="0" b="0"/>
              <a:stretch/>
            </p:blipFill>
            <p:spPr>
              <a:xfrm>
                <a:off x="609480" y="1504800"/>
                <a:ext cx="3710520" cy="295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2"/>
              <a:srcRect l="12832" t="5658" r="7084" b="8133"/>
              <a:stretch/>
            </p:blipFill>
            <p:spPr>
              <a:xfrm>
                <a:off x="4912920" y="1647720"/>
                <a:ext cx="3342600" cy="28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" name=""/>
            <p:cNvSpPr/>
            <p:nvPr/>
          </p:nvSpPr>
          <p:spPr>
            <a:xfrm>
              <a:off x="734760" y="4461120"/>
              <a:ext cx="7799760" cy="69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ctr"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ladké svalové buňky      b) Hladká svalová tká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57200" y="5316480"/>
            <a:ext cx="800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notypy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dkých svalových buněk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aktil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yntet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26:45Z</dcterms:created>
  <dc:creator>Jiří Burša</dc:creator>
  <dc:description/>
  <dc:language>en-US</dc:language>
  <cp:lastModifiedBy>Jiří Burša</cp:lastModifiedBy>
  <dcterms:modified xsi:type="dcterms:W3CDTF">2007-01-04T11:49:08Z</dcterms:modified>
  <cp:revision>3</cp:revision>
  <dc:subject/>
  <dc:title>Typický tvar hladké svalové buňky  (podle Anatomie, Čihák)</dc:title>
</cp:coreProperties>
</file>