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725-05D5-4822-B2F0-643258A3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951-06A2-41AE-A3AA-ED339A73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094-293A-408A-B1F4-1F9CD758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7561-EBCB-4490-8D14-111318F8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9F4-87EC-4174-9B1C-4208A8FD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8E7-99AD-46B1-B1E3-335AC73D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680-2726-4390-9635-20D44636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B41D-42F5-4381-9626-192E2353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249-5EF5-4A06-B85B-6BEF7AB2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47E-B2B2-4CDC-877D-A8B4D51F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8CB-2A93-4270-9CDC-BDAB40E1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E88-2E68-4A83-84E9-E889D6BF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79E2-330F-40B6-BC4E-FA95036F224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4520" y="2599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chéma uspořádání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aktinových a myozinových filament v hladké svalové buňce kontraktilního fenotypu</a:t>
            </a:r>
            <a:br>
              <a:rPr sz="2000"/>
            </a:b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(podle Histology,Ross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629400" cy="4724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32720" y="4292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nsní tělí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3733920"/>
            <a:ext cx="10670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334120" y="44956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89480" y="3230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53080" y="3068640"/>
            <a:ext cx="1447920" cy="947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lustá filamenta (myozin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67560" y="2081160"/>
            <a:ext cx="1326960" cy="916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ká filamenta (akt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341360"/>
            <a:ext cx="80010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funkce hladkých svalových buně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traktilní fenotyp - svalová kontrak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etický fenotyp - syntéza bílkovin pro remodelaci tká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1:40:46Z</dcterms:created>
  <dc:creator>Jiří Burša</dc:creator>
  <dc:description/>
  <dc:language>en-US</dc:language>
  <cp:lastModifiedBy>umt</cp:lastModifiedBy>
  <dcterms:modified xsi:type="dcterms:W3CDTF">2007-01-08T13:00:46Z</dcterms:modified>
  <cp:revision>4</cp:revision>
  <dc:subject/>
  <dc:title>Schéma uspořádání aktinových a myozinových filament v hladké svalové buňce  (podle Histology,Ross) </dc:title>
</cp:coreProperties>
</file>