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B3A9-A4A4-4916-9FD4-18528AF5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EE6-51DE-4A4A-B677-A4CA614E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53E5-BBA2-4208-AFCE-707184FF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08E-D2AA-4A98-97CC-840C3891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9E12-E6B4-4C06-A86F-BC277C54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82E-88F0-4EE6-AEA9-7E0A5C5D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9271-1278-4EF7-A324-1E05D6BC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C293-DFCE-4A8A-891F-37CF9F04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BA24-7C56-439F-8D83-7A8A2FBE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8E05-1237-4347-BEB6-5C951056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D4C6-905C-4CB8-9E6E-2B89F299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FF09-6880-4B5D-BE9E-18BACCC3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094C-9CAF-4F3D-98D3-2597073EF44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Anatomie_srdce_c&#233;vy.ppt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gap%20junction.ppt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2952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laky krve v krevním obě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2360" y="1699920"/>
            <a:ext cx="80629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orta a tepn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ělního oběhu – 16/10kPa (120/80 mm Hg -systolický/diastolick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lícnic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Arteria pulmonalis) 3,3/1,3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apilár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tělního oběhu) – 2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elké žíl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– 0,8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avá síň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0,8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evá síň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1,6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tento tlak vyvolaný činností srdce se superponuje tlak hydrostatický, závislý na poloze těla. Při vzpřímeném postoji se krev z dolní části těla vrací proti gradientu hydrostatického tla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y umožňující návrat žilní kr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lní chlop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rese žil pulsní vlnou v tepně v součinnosti s žilními chlopně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rese žil svalovou činností v součinnosti s žilními chlopně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ýcháním (nárůst nitrohrudního podtlaku a břišního tlaku při vdechu poklesem brán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3" descr=""/>
          <p:cNvPicPr/>
          <p:nvPr/>
        </p:nvPicPr>
        <p:blipFill>
          <a:blip r:embed="rId1"/>
          <a:stretch/>
        </p:blipFill>
        <p:spPr>
          <a:xfrm>
            <a:off x="3205080" y="157320"/>
            <a:ext cx="57596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Arial"/>
              </a:rPr>
              <a:t>Starlingův zák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28760" y="981000"/>
            <a:ext cx="443052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inutový srdeční výdej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5 l/min. v klidu, 25 l/min při zátěži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lastní spotřeba srdce (průtok koronárními tepnami, jen při diastole)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0,25 l/min. v klidu, 1 l/min při zátěži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sahuje se 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výšením tepové frekvence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výšením systolického objemu srdce – prodloužení sarkomer na optimální délku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výšením tlaku – vliv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tarlingova zákona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 závislost zvýšení systolického tlaku  krve na zvýšeném objemu komory v diastole a zvýšení systolického objemu.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5084640"/>
            <a:ext cx="85024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incip: při zvýšení venózního návratu (objem komory na konci diastoly vzroste až na 180 ml) se zvýší také systolický objem na cca 90ml. Zvýšením objemu vzrůstá také obvod srdeční komory a úměrně i délka jednotlivých sarkomer. Ty se tím dostávají do oblasti maximální kontraktilní síly Starlingovy křivky a zvýšená kontraktilní síla srdečního svalu způsobí zvýšení krevního tlaku (podle Laplaceovy rovnice)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5" name="Obrázek 6" descr="Starling.JPG"/>
          <p:cNvPicPr/>
          <p:nvPr/>
        </p:nvPicPr>
        <p:blipFill>
          <a:blip r:embed="rId1"/>
          <a:stretch/>
        </p:blipFill>
        <p:spPr>
          <a:xfrm>
            <a:off x="4932360" y="1960560"/>
            <a:ext cx="3786120" cy="30528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5103720" y="1197000"/>
            <a:ext cx="3571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lingova  křivka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ůběh tlaků v levém srdci a aort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Obrázek 3" descr="tlak v tepnách.JPG"/>
          <p:cNvPicPr/>
          <p:nvPr/>
        </p:nvPicPr>
        <p:blipFill>
          <a:blip r:embed="rId1"/>
          <a:stretch/>
        </p:blipFill>
        <p:spPr>
          <a:xfrm>
            <a:off x="714240" y="1150920"/>
            <a:ext cx="766764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ff"/>
                </a:solidFill>
                <a:latin typeface="Arial"/>
              </a:rPr>
              <a:t>P-V diagram levé srdeční kom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rázek 3" descr="p-v-diagram.JPG"/>
          <p:cNvPicPr/>
          <p:nvPr/>
        </p:nvPicPr>
        <p:blipFill>
          <a:blip r:embed="rId1"/>
          <a:srcRect l="0" t="0" r="0" b="4604"/>
          <a:stretch/>
        </p:blipFill>
        <p:spPr>
          <a:xfrm>
            <a:off x="1308240" y="1143000"/>
            <a:ext cx="6527520" cy="3602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428760" y="5000760"/>
            <a:ext cx="37861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RO – systolický reziduální objem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 – systolický objem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DO – telodiastolický objem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457200" y="476280"/>
            <a:ext cx="822960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P-V diagram levé srdeční komory </a:t>
            </a:r>
            <a:br>
              <a:rPr sz="2400"/>
            </a:b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pro různou poddajnost aorty při konstantním počátečním předpětí svalového vlákna 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3" name="Obrázek 7" descr="pV2.JPG"/>
          <p:cNvPicPr/>
          <p:nvPr/>
        </p:nvPicPr>
        <p:blipFill>
          <a:blip r:embed="rId1"/>
          <a:srcRect l="11588" t="54205" r="10889" b="2052"/>
          <a:stretch/>
        </p:blipFill>
        <p:spPr>
          <a:xfrm>
            <a:off x="1476360" y="1773360"/>
            <a:ext cx="6264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P-V diagram levé srdeční komory </a:t>
            </a:r>
            <a:br>
              <a:rPr sz="2400"/>
            </a:b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pro různé hodnoty hemodynamického odporu chlopně aorty (o dva řády) při konstantním tepovém obje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rázek 2" descr="pV1.JPG"/>
          <p:cNvPicPr/>
          <p:nvPr/>
        </p:nvPicPr>
        <p:blipFill>
          <a:blip r:embed="rId1"/>
          <a:stretch/>
        </p:blipFill>
        <p:spPr>
          <a:xfrm>
            <a:off x="1403280" y="1844640"/>
            <a:ext cx="66405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Arial"/>
              </a:rPr>
              <a:t>P-V diagram levé srdeční komory </a:t>
            </a:r>
            <a:br>
              <a:rPr sz="2400"/>
            </a:b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pro různé hodnoty hemodynamického odporu periferního cévního řečiště při konstantním počátečním předpětí svalového vlák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Obrázek 3" descr="pV2.JPG"/>
          <p:cNvPicPr/>
          <p:nvPr/>
        </p:nvPicPr>
        <p:blipFill>
          <a:blip r:embed="rId1"/>
          <a:srcRect l="0" t="0" r="0" b="56301"/>
          <a:stretch/>
        </p:blipFill>
        <p:spPr>
          <a:xfrm>
            <a:off x="324000" y="1773360"/>
            <a:ext cx="83422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natomie a funkce žilních chlop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žíly"/>
          <p:cNvPicPr/>
          <p:nvPr/>
        </p:nvPicPr>
        <p:blipFill>
          <a:blip r:embed="rId1"/>
          <a:stretch/>
        </p:blipFill>
        <p:spPr>
          <a:xfrm>
            <a:off x="468360" y="2448000"/>
            <a:ext cx="3743280" cy="2890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žilní_chlopně2"/>
          <p:cNvPicPr/>
          <p:nvPr/>
        </p:nvPicPr>
        <p:blipFill>
          <a:blip r:embed="rId2"/>
          <a:stretch/>
        </p:blipFill>
        <p:spPr>
          <a:xfrm>
            <a:off x="3708360" y="278136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žilní_chlopně"/>
          <p:cNvPicPr/>
          <p:nvPr/>
        </p:nvPicPr>
        <p:blipFill>
          <a:blip r:embed="rId3"/>
          <a:stretch/>
        </p:blipFill>
        <p:spPr>
          <a:xfrm>
            <a:off x="6456240" y="2876400"/>
            <a:ext cx="1428840" cy="2352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673200" y="1425600"/>
            <a:ext cx="1882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ilní chlopně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2556000" y="1413000"/>
            <a:ext cx="3024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íly a tepny ve společné vazivové pochvě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6012000" y="1569960"/>
            <a:ext cx="2305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funkční chlopně v dilatované žíle - reflux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ůběh tlaku v žilách dolních končetin na začátku chů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ázek 3" descr="Tlak v žilách .JPG"/>
          <p:cNvPicPr/>
          <p:nvPr/>
        </p:nvPicPr>
        <p:blipFill>
          <a:blip r:embed="rId1"/>
          <a:stretch/>
        </p:blipFill>
        <p:spPr>
          <a:xfrm>
            <a:off x="539640" y="1781280"/>
            <a:ext cx="835344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Schéma srdce </a:t>
            </a: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a hodnoty tlaku v jeho čás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u3v19"/>
          <p:cNvPicPr/>
          <p:nvPr/>
        </p:nvPicPr>
        <p:blipFill>
          <a:blip r:embed="rId1"/>
          <a:stretch/>
        </p:blipFill>
        <p:spPr>
          <a:xfrm>
            <a:off x="2195640" y="1197000"/>
            <a:ext cx="4968720" cy="4464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826920" y="3141720"/>
            <a:ext cx="13687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Chlopeň plícnice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- poloměsíčitá (valva semilunaris) – výtlačný ventil pravé komory, na vstupu do plícnice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Chlopeň trojcípá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(valva tricuspidalis) – sací ventil pravé komory, na vstupu z pravé síně.</a:t>
            </a:r>
            <a:br>
              <a:rPr sz="1400"/>
            </a:b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020000" y="1846440"/>
            <a:ext cx="158436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Chlopeň aortální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- poloměsíčitá (valva semilunaris) –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ýtlačný ventil levé komory, na vstupu do aorty.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Chlopeň mitrální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(dvoucípá –valva bicuspidalis) –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ací ventil levé komory, na vstupu z levé síně.</a:t>
            </a:r>
            <a:br>
              <a:rPr sz="1400"/>
            </a:b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 flipH="1" flipV="1">
            <a:off x="5363640" y="3645000"/>
            <a:ext cx="172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" name="Line 8"/>
          <p:cNvSpPr/>
          <p:nvPr/>
        </p:nvSpPr>
        <p:spPr>
          <a:xfrm flipH="1">
            <a:off x="4932360" y="2205000"/>
            <a:ext cx="216072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 flipV="1">
            <a:off x="1692360" y="3500280"/>
            <a:ext cx="2808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 flipV="1">
            <a:off x="1692360" y="3716280"/>
            <a:ext cx="244800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Elektrické děje srdečního cyklu - E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-vlna – depolarizace sí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QRS-vlna – depolarizace ko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-vlna – repolarizace kom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A – sinoatriální uzel, generátor elektrických impuls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V – atrioventrikulární uzel, převod impulsů ze síní na ko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fyziologie1"/>
          <p:cNvPicPr/>
          <p:nvPr/>
        </p:nvPicPr>
        <p:blipFill>
          <a:blip r:embed="rId1"/>
          <a:stretch/>
        </p:blipFill>
        <p:spPr>
          <a:xfrm>
            <a:off x="3492360" y="1052640"/>
            <a:ext cx="51832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Elektrické děje srdečního cyklu - E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360" y="1267920"/>
            <a:ext cx="80629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áze diastoly (relaxace srdečního svalu) končí elektrickým impulsem, vzniklým samovolně v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inoatriálním (sinusovém) uzl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nastává kontrakce síní. Elektrický vzruch (depolarizace buněčných membrán) se šíří svalovinou. V cestě do komor mu stojí nevodivý vazivový prstenec -  srdeční skelet, nesoucí všechny čtyři chlopně. Přes něj se impuls přenese z atrioventrikulárního uzlu prostřednictvím Hissova svazku, čímž je dosaženo zpoždění 0,10 – 0,15 s. Vzruch se pak rozšíří pomocí Tawarových ramének a Purkyňových vláken do svaloviny komor, které kontrahují principem „vše nebo nic“ – buď je impuls nadprahový, pak dojde ke kontrakci, nebo je podprahový a ke kontrakci nedojde. Poté dochází k opětovné repolarizaci síní a komor, během této fáze je srdce nevzrušivé, není schopno kontrak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4480" y="333000"/>
            <a:ext cx="30355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truktura příčně pruhovaného sv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sval-struktura"/>
          <p:cNvPicPr/>
          <p:nvPr/>
        </p:nvPicPr>
        <p:blipFill>
          <a:blip r:embed="rId1"/>
          <a:stretch/>
        </p:blipFill>
        <p:spPr>
          <a:xfrm>
            <a:off x="4716360" y="919080"/>
            <a:ext cx="2895840" cy="531828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3"/>
          <p:cNvGrpSpPr/>
          <p:nvPr/>
        </p:nvGrpSpPr>
        <p:grpSpPr>
          <a:xfrm>
            <a:off x="4140360" y="620640"/>
            <a:ext cx="3887640" cy="5803560"/>
            <a:chOff x="4140360" y="620640"/>
            <a:chExt cx="3887640" cy="5803560"/>
          </a:xfrm>
        </p:grpSpPr>
        <p:sp>
          <p:nvSpPr>
            <p:cNvPr id="70" name="Text Box 4"/>
            <p:cNvSpPr/>
            <p:nvPr/>
          </p:nvSpPr>
          <p:spPr>
            <a:xfrm>
              <a:off x="6879600" y="620640"/>
              <a:ext cx="57636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sval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1" name="Text Box 5"/>
            <p:cNvSpPr/>
            <p:nvPr/>
          </p:nvSpPr>
          <p:spPr>
            <a:xfrm>
              <a:off x="6733800" y="1751040"/>
              <a:ext cx="1007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svalové snopce (fascikly)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2" name="Text Box 6"/>
            <p:cNvSpPr/>
            <p:nvPr/>
          </p:nvSpPr>
          <p:spPr>
            <a:xfrm>
              <a:off x="4245480" y="2747880"/>
              <a:ext cx="8611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svalová vlákna (buňky)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3" name="Text Box 7"/>
            <p:cNvSpPr/>
            <p:nvPr/>
          </p:nvSpPr>
          <p:spPr>
            <a:xfrm>
              <a:off x="6879600" y="2843280"/>
              <a:ext cx="1148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myofibrila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4" name="Text Box 8"/>
            <p:cNvSpPr/>
            <p:nvPr/>
          </p:nvSpPr>
          <p:spPr>
            <a:xfrm>
              <a:off x="6161760" y="3954600"/>
              <a:ext cx="114840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sarkomera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5" name="Text Box 9"/>
            <p:cNvSpPr/>
            <p:nvPr/>
          </p:nvSpPr>
          <p:spPr>
            <a:xfrm>
              <a:off x="6449040" y="5683680"/>
              <a:ext cx="1578960" cy="7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tlusté myofilamentum (myosin)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76" name="Text Box 10"/>
            <p:cNvSpPr/>
            <p:nvPr/>
          </p:nvSpPr>
          <p:spPr>
            <a:xfrm>
              <a:off x="4140360" y="4633920"/>
              <a:ext cx="1865880" cy="7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808080"/>
                  </a:solidFill>
                  <a:latin typeface="Calibri"/>
                </a:rPr>
                <a:t>tenké myofilamentum (aktin, tropomyosin)</a:t>
              </a:r>
              <a:endParaRPr b="0" lang="en-US" sz="11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4120" y="620280"/>
            <a:ext cx="76438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truktura hladkého svalu</a:t>
            </a:r>
            <a:br>
              <a:rPr sz="3600"/>
            </a:br>
            <a:r>
              <a:rPr b="0" lang="cs-CZ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zájemné spojení buněk pomocí nexu (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gap junction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obr1"/>
          <p:cNvPicPr/>
          <p:nvPr/>
        </p:nvPicPr>
        <p:blipFill>
          <a:blip r:embed="rId2"/>
          <a:stretch/>
        </p:blipFill>
        <p:spPr>
          <a:xfrm>
            <a:off x="387360" y="2492280"/>
            <a:ext cx="3608280" cy="34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188"/>
          <p:cNvPicPr/>
          <p:nvPr/>
        </p:nvPicPr>
        <p:blipFill>
          <a:blip r:embed="rId3"/>
          <a:stretch/>
        </p:blipFill>
        <p:spPr>
          <a:xfrm>
            <a:off x="4211640" y="2997360"/>
            <a:ext cx="4537080" cy="295272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3"/>
          <p:cNvGrpSpPr/>
          <p:nvPr/>
        </p:nvGrpSpPr>
        <p:grpSpPr>
          <a:xfrm>
            <a:off x="2627280" y="2637000"/>
            <a:ext cx="1244160" cy="2320560"/>
            <a:chOff x="2627280" y="2637000"/>
            <a:chExt cx="1244160" cy="2320560"/>
          </a:xfrm>
        </p:grpSpPr>
        <p:sp>
          <p:nvSpPr>
            <p:cNvPr id="81" name="Line 4"/>
            <p:cNvSpPr/>
            <p:nvPr/>
          </p:nvSpPr>
          <p:spPr>
            <a:xfrm>
              <a:off x="2765520" y="3797280"/>
              <a:ext cx="414720" cy="82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82" name="Line 5"/>
            <p:cNvSpPr/>
            <p:nvPr/>
          </p:nvSpPr>
          <p:spPr>
            <a:xfrm flipV="1">
              <a:off x="2627280" y="4626360"/>
              <a:ext cx="552960" cy="165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83" name="Text Box 6"/>
            <p:cNvSpPr/>
            <p:nvPr/>
          </p:nvSpPr>
          <p:spPr>
            <a:xfrm>
              <a:off x="3180240" y="4460400"/>
              <a:ext cx="6912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Calibri"/>
                </a:rPr>
                <a:t>Densní</a:t>
              </a:r>
              <a:endParaRPr b="0" lang="en-US" sz="1000" spc="-1" strike="noStrike">
                <a:solidFill>
                  <a:srgbClr val="808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Calibri"/>
                </a:rPr>
                <a:t>tělíska</a:t>
              </a:r>
              <a:endParaRPr b="0" lang="en-US" sz="1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84" name="Text Box 7"/>
            <p:cNvSpPr/>
            <p:nvPr/>
          </p:nvSpPr>
          <p:spPr>
            <a:xfrm>
              <a:off x="3180240" y="3465720"/>
              <a:ext cx="691200" cy="6631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Calibri"/>
                </a:rPr>
                <a:t>Tlustá filamenta</a:t>
              </a:r>
              <a:endParaRPr b="0" lang="en-US" sz="1000" spc="-1" strike="noStrike">
                <a:solidFill>
                  <a:srgbClr val="808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Calibri"/>
                </a:rPr>
                <a:t>(myozin)</a:t>
              </a:r>
              <a:endParaRPr b="0" lang="en-US" sz="1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  <p:sp>
          <p:nvSpPr>
            <p:cNvPr id="85" name="Text Box 8"/>
            <p:cNvSpPr/>
            <p:nvPr/>
          </p:nvSpPr>
          <p:spPr>
            <a:xfrm>
              <a:off x="3180240" y="2637000"/>
              <a:ext cx="691200" cy="6631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Calibri"/>
                </a:rPr>
                <a:t>Tenká filamenta</a:t>
              </a:r>
              <a:endParaRPr b="0" lang="en-US" sz="1000" spc="-1" strike="noStrike">
                <a:solidFill>
                  <a:srgbClr val="80808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Calibri"/>
                </a:rPr>
                <a:t>(aktin)</a:t>
              </a:r>
              <a:endParaRPr b="0" lang="en-US" sz="1000" spc="-1" strike="noStrike">
                <a:solidFill>
                  <a:srgbClr val="808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Princip svalové kontrak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Zástupný symbol pro obsah 4" descr="Aktin-myozin.JPG"/>
          <p:cNvPicPr/>
          <p:nvPr/>
        </p:nvPicPr>
        <p:blipFill>
          <a:blip r:embed="rId1"/>
          <a:srcRect l="0" t="34637" r="0" b="0"/>
          <a:stretch/>
        </p:blipFill>
        <p:spPr>
          <a:xfrm>
            <a:off x="298440" y="1785960"/>
            <a:ext cx="8448840" cy="1214280"/>
          </a:xfrm>
          <a:prstGeom prst="rect">
            <a:avLst/>
          </a:prstGeom>
          <a:ln w="0">
            <a:noFill/>
          </a:ln>
        </p:spPr>
      </p:pic>
      <p:pic>
        <p:nvPicPr>
          <p:cNvPr id="88" name="Obrázek 7" descr="Aktin-myozin1.JPG"/>
          <p:cNvPicPr/>
          <p:nvPr/>
        </p:nvPicPr>
        <p:blipFill>
          <a:blip r:embed="rId2"/>
          <a:stretch/>
        </p:blipFill>
        <p:spPr>
          <a:xfrm>
            <a:off x="4892760" y="3927600"/>
            <a:ext cx="3679920" cy="2573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4857840" y="2857680"/>
            <a:ext cx="35719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zájemná poloha aktinových a myozinových vláken v závislosti  na délce sarkomery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85840" y="928800"/>
            <a:ext cx="82962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 úrovni ultrastruktury obsahuje svalové vlákno cca 1500 myofibril, které se skládají ze  základních  kontraktilních jednotek svalu –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arkomer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aktin + myozin)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68360" y="3586320"/>
            <a:ext cx="3571920" cy="14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ypická délka kroku:    5 nm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Frekvence:     10 - 100 s</a:t>
            </a:r>
            <a:r>
              <a:rPr b="0" lang="cs-CZ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eálná rychlost kontrakce sarkomery:      0.1 - 1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11-09T14:28:09Z</dcterms:modified>
  <cp:revision>283</cp:revision>
  <dc:subject/>
  <dc:title>Biomechanics  of smooth muscle cells </dc:title>
</cp:coreProperties>
</file>