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0AC-880E-4505-9E6B-FBD767DD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EA7-C26A-476E-BD72-8393FD61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AAE-3119-4C77-B069-36E9229E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3AE-1559-42C5-8A8F-D13B6B4D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CE6-13A3-463D-8914-DE06C35D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CA3-ADCD-4415-8947-200251A7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23E8-4583-436A-BA59-08F58C1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F8F-9148-4198-9EC6-99A9F6FE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FD90-A34C-401C-AC43-617CC479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783-54DC-4474-8BE8-FA7852B2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F04-E652-46E6-AA38-BB780082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DF2D-75FE-4F40-9ACA-A1887CF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2F7F-8060-47B4-80B5-15E3C204E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ptická pinze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9640" y="2349360"/>
            <a:ext cx="4536720" cy="3095280"/>
            <a:chOff x="539640" y="2349360"/>
            <a:chExt cx="4536720" cy="3095280"/>
          </a:xfrm>
        </p:grpSpPr>
        <p:sp>
          <p:nvSpPr>
            <p:cNvPr id="43" name=""/>
            <p:cNvSpPr/>
            <p:nvPr/>
          </p:nvSpPr>
          <p:spPr>
            <a:xfrm>
              <a:off x="3467160" y="3804480"/>
              <a:ext cx="414720" cy="38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rozpty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16920" y="3239640"/>
              <a:ext cx="59112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</a:t>
              </a:r>
              <a:r>
                <a:rPr b="1" lang="cs-CZ" sz="8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gradi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rcRect l="2708" t="3831" r="1107" b="3339"/>
            <a:stretch/>
          </p:blipFill>
          <p:spPr>
            <a:xfrm>
              <a:off x="588240" y="2553480"/>
              <a:ext cx="4311000" cy="284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59040" y="2382120"/>
              <a:ext cx="51732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9640" y="2349360"/>
              <a:ext cx="1335240" cy="70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řipevnění mikrokuliček       na buňk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33840" y="2535120"/>
              <a:ext cx="401040" cy="57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61560" y="3211200"/>
              <a:ext cx="172404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připevněná ke skleněnému povrch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35640" y="4379400"/>
              <a:ext cx="1335240" cy="58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lička zachycená v optické past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34160" y="2516040"/>
              <a:ext cx="133524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67000" y="4497840"/>
              <a:ext cx="1896480" cy="3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ytrocy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00" y="4692960"/>
              <a:ext cx="1207080" cy="75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Ne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08440" y="4920480"/>
              <a:ext cx="1034640" cy="49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Zatížen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03640" y="2565360"/>
            <a:ext cx="3384360" cy="2663640"/>
            <a:chOff x="5003640" y="2565360"/>
            <a:chExt cx="3384360" cy="2663640"/>
          </a:xfrm>
        </p:grpSpPr>
        <p:pic>
          <p:nvPicPr>
            <p:cNvPr id="56" name="" descr=""/>
            <p:cNvPicPr/>
            <p:nvPr/>
          </p:nvPicPr>
          <p:blipFill>
            <a:blip r:embed="rId2"/>
            <a:srcRect l="0" t="23247" r="0" b="60426"/>
            <a:stretch/>
          </p:blipFill>
          <p:spPr>
            <a:xfrm>
              <a:off x="5003640" y="2565360"/>
              <a:ext cx="336708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3"/>
            <a:srcRect l="13261" t="76856" r="0" b="0"/>
            <a:stretch/>
          </p:blipFill>
          <p:spPr>
            <a:xfrm>
              <a:off x="5432040" y="3808080"/>
              <a:ext cx="2955960" cy="14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771560" y="1917720"/>
            <a:ext cx="5600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763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ahování buňky pomocí optické pinz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4:06:45Z</dcterms:created>
  <dc:creator>umt</dc:creator>
  <dc:description/>
  <dc:language>en-US</dc:language>
  <cp:lastModifiedBy>umt</cp:lastModifiedBy>
  <dcterms:modified xsi:type="dcterms:W3CDTF">2007-01-08T14:09:45Z</dcterms:modified>
  <cp:revision>1</cp:revision>
  <dc:subject/>
  <dc:title>Optická pinzeta</dc:title>
</cp:coreProperties>
</file>