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png" ContentType="image/png"/>
  <Override PartName="/ppt/media/image6.jpeg" ContentType="image/jpeg"/>
  <Override PartName="/ppt/media/image17.jpeg" ContentType="image/jpeg"/>
  <Override PartName="/ppt/media/image9.png" ContentType="image/png"/>
  <Override PartName="/ppt/media/image16.png" ContentType="image/png"/>
  <Override PartName="/ppt/media/image1.wmf" ContentType="image/x-wmf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CA2-D0F3-45F5-8FB9-7BC3D5FD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1B0-E744-452D-BE57-95E59D43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F4B4-727E-47BE-A749-4FB0D3B6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4717-8A81-4A97-9CFC-6707E110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113-5115-4960-89D1-4A6431D6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DB3-A9BE-4ECA-A592-8DE2C4C5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D551-A5C1-451A-981D-590561F6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CDD-A7C6-44AB-AF57-F8DCD66E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20F-3BEC-4506-83C5-F4A100FE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C2D-49B0-45AE-A0DB-29A42527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DDA-E711-47CE-8FCE-21C3BB18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32DB-118E-4C61-9D16-387C892B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D238-2898-4925-B2BF-55D9BF28268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560" y="189000"/>
            <a:ext cx="3249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Typy cévních náh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411480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iologické náhr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utotransplantá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omolog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nalog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eterolog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llotransplantá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xenotransplantá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Umělé náhrady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cévní proté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poréz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réz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ka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lete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4628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ladk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4628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rapova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mbinovan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yráběné tkáňovým inženýrstvím (tissue engineered graf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užívají se převážně pro náhrady tepen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994280" y="1341360"/>
            <a:ext cx="33228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ysvětlení termínů: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autotransplantát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- cévní štěp odebraný z vlastního organismu 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allotransplantát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– štěp odebraný z jiného člověka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xenotransplantát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- štěp odebraný z organismu jiného živočišného druhu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homologn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– pro náhradu tepny použit štěp ze stejného orgánu (tepny)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analogn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– pro náhradu tepny použit štěp ze podobného orgánu (žíly)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heterologní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- pro náhradu tepny použit štěp z jiného orgánu (např. střeva)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tissue engineered grafts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– primární náhrada (nosná mřížka – umělá nebo z pupečníkové žíly) se naočkuje kmenovými buňkami pacienta a v bioreaktoru se zatěžuje pulzujícím tlakem a smykovými silami, aby se remodelací zvýšila její tuhost a pevnost)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4" name="Obrázek 4" descr=""/>
          <p:cNvPicPr/>
          <p:nvPr/>
        </p:nvPicPr>
        <p:blipFill>
          <a:blip r:embed="rId1"/>
          <a:stretch/>
        </p:blipFill>
        <p:spPr>
          <a:xfrm>
            <a:off x="3565440" y="115920"/>
            <a:ext cx="525456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technik </a:t>
            </a:r>
            <a:br>
              <a:rPr sz="3200"/>
            </a:b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zlepšujících reologické poměry v anastomó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6" name="Picture 8" descr="nahrady7"/>
          <p:cNvPicPr/>
          <p:nvPr/>
        </p:nvPicPr>
        <p:blipFill>
          <a:blip r:embed="rId1"/>
          <a:stretch/>
        </p:blipFill>
        <p:spPr>
          <a:xfrm>
            <a:off x="3164040" y="1636560"/>
            <a:ext cx="52243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spojení tepen a cévních náhrad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„koncem ke konci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10" name="Picture 6" descr="Image4"/>
          <p:cNvPicPr/>
          <p:nvPr/>
        </p:nvPicPr>
        <p:blipFill>
          <a:blip r:embed="rId1"/>
          <a:srcRect l="36695" t="49950" r="6880" b="28305"/>
          <a:stretch/>
        </p:blipFill>
        <p:spPr>
          <a:xfrm>
            <a:off x="0" y="2287440"/>
            <a:ext cx="5791320" cy="308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Image3"/>
          <p:cNvPicPr/>
          <p:nvPr/>
        </p:nvPicPr>
        <p:blipFill>
          <a:blip r:embed="rId2"/>
          <a:srcRect l="33784" t="16650" r="32475" b="53280"/>
          <a:stretch/>
        </p:blipFill>
        <p:spPr>
          <a:xfrm>
            <a:off x="5291280" y="1700280"/>
            <a:ext cx="331308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Náhrada vzestupné aorty cévní protéz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15" name="Picture 6" descr="kardio4"/>
          <p:cNvPicPr/>
          <p:nvPr/>
        </p:nvPicPr>
        <p:blipFill>
          <a:blip r:embed="rId1"/>
          <a:stretch/>
        </p:blipFill>
        <p:spPr>
          <a:xfrm>
            <a:off x="1843200" y="1341360"/>
            <a:ext cx="5753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struktury a provedení cévních proté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942160" y="1773360"/>
            <a:ext cx="1869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truktura tkané cévní protéz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6040440" y="3263760"/>
            <a:ext cx="24192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truktura pletené cévní protéz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Line 9"/>
          <p:cNvSpPr/>
          <p:nvPr/>
        </p:nvSpPr>
        <p:spPr>
          <a:xfrm flipH="1">
            <a:off x="3779640" y="1989000"/>
            <a:ext cx="216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Line 10"/>
          <p:cNvSpPr/>
          <p:nvPr/>
        </p:nvSpPr>
        <p:spPr>
          <a:xfrm flipH="1">
            <a:off x="3564000" y="3500280"/>
            <a:ext cx="2448000" cy="7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084720" y="4941720"/>
            <a:ext cx="266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Tvar vrapované cévní protézy, odolné proti zalomení při ohýbání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" name="Line 14"/>
          <p:cNvSpPr/>
          <p:nvPr/>
        </p:nvSpPr>
        <p:spPr>
          <a:xfrm flipH="1">
            <a:off x="4284720" y="5157720"/>
            <a:ext cx="1727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3" name="Picture 16" descr="nahrady1"/>
          <p:cNvPicPr/>
          <p:nvPr/>
        </p:nvPicPr>
        <p:blipFill>
          <a:blip r:embed="rId1"/>
          <a:stretch/>
        </p:blipFill>
        <p:spPr>
          <a:xfrm>
            <a:off x="684360" y="1557360"/>
            <a:ext cx="3024000" cy="130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nahrady10001"/>
          <p:cNvPicPr/>
          <p:nvPr/>
        </p:nvPicPr>
        <p:blipFill>
          <a:blip r:embed="rId2"/>
          <a:stretch/>
        </p:blipFill>
        <p:spPr>
          <a:xfrm>
            <a:off x="611280" y="3000240"/>
            <a:ext cx="2881080" cy="1668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nahrady10002"/>
          <p:cNvPicPr/>
          <p:nvPr/>
        </p:nvPicPr>
        <p:blipFill>
          <a:blip r:embed="rId3"/>
          <a:stretch/>
        </p:blipFill>
        <p:spPr>
          <a:xfrm>
            <a:off x="782640" y="4724280"/>
            <a:ext cx="34290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Vlastnosti cévních náh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órozita –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je nutná pro fixaci a výživu neointimy. Větší pórozita zlepšuje vhojení protéz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vantifikuje se měřením propustnosti protézy pro vodu přes 1 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protézy za 1 minutu při tlaku 120 mm Hg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órozity některých cévních protéz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-27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tkaná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protéza Edwardsova – 30 ml.min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 prakticky nepropustná pro kr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-27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letené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protézy VÚP – 1000-4000 ml.min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utné předsrážení v krvi paci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13240" indent="-279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ombinované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protézy používají ještě poréznější úplet (5000-20000 ml.min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),  nelze utěsnit předsrážením. U nich se pak rozlišuje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órozit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131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mplantač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131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biologická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trvalá, po vstřebání vstřebatelných slož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Sterilizac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se provád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- teplotou (autoklávy) u cévních protéz nel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- ozáření je u cévních protéz nejvhodnějš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- chemicky (např. etylénoxid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572000" y="4437000"/>
            <a:ext cx="4103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úplet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lagenní samonosná trubice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olagenní trubice se postupně vstřebává, doba vstřebávání se prodlužuje vytvrzováním kolagenu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9" name="Picture 6" descr="nahrady4"/>
          <p:cNvPicPr/>
          <p:nvPr/>
        </p:nvPicPr>
        <p:blipFill>
          <a:blip r:embed="rId1"/>
          <a:stretch/>
        </p:blipFill>
        <p:spPr>
          <a:xfrm>
            <a:off x="1042920" y="4797360"/>
            <a:ext cx="2097000" cy="17398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324000" y="4292640"/>
            <a:ext cx="3322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ombinovaná cévní protéza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Line 9"/>
          <p:cNvSpPr/>
          <p:nvPr/>
        </p:nvSpPr>
        <p:spPr>
          <a:xfrm flipH="1">
            <a:off x="2627280" y="4653000"/>
            <a:ext cx="187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Line 10"/>
          <p:cNvSpPr/>
          <p:nvPr/>
        </p:nvSpPr>
        <p:spPr>
          <a:xfrm flipH="1">
            <a:off x="2916000" y="5229360"/>
            <a:ext cx="1584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Times New Roman"/>
              </a:rPr>
              <a:t>Mechanické vlastnosti cévních proté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odul pružnost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6 – 60 MPa podle typu proté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tézy VÜP 23-27 MPa, významná hystereze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uhost v obvodovém směru výrazně vyšší než u tepny – otázka příčin zarůstání protéz  malých průměrů (z tohoto důvodu se používají většinou od průměru cca 6 mm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lagenní samonosné trub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mbinovaných proté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vytvrzen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evnost 10MPa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ažnost 100-2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tvrze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evnost 25-40 MP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8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ažnost 2-7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nahrady5"/>
          <p:cNvPicPr/>
          <p:nvPr/>
        </p:nvPicPr>
        <p:blipFill>
          <a:blip r:embed="rId1"/>
          <a:stretch/>
        </p:blipFill>
        <p:spPr>
          <a:xfrm>
            <a:off x="4572000" y="2827440"/>
            <a:ext cx="3486240" cy="3554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1"/>
          <p:cNvSpPr/>
          <p:nvPr/>
        </p:nvSpPr>
        <p:spPr>
          <a:xfrm>
            <a:off x="5003640" y="2421000"/>
            <a:ext cx="33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íklad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deformačně napěťové křivky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cévní protézy (DK 1n) 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Závislost modulů pružnosti různých cévních protéz </a:t>
            </a:r>
            <a:br>
              <a:rPr sz="2800"/>
            </a:b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na frekvenci zatěž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364000" y="2349360"/>
            <a:ext cx="3394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ávislost modulu pružnosti na frekvenci zatěžování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9" name="Picture 6" descr="nahrady6"/>
          <p:cNvPicPr/>
          <p:nvPr/>
        </p:nvPicPr>
        <p:blipFill>
          <a:blip r:embed="rId1"/>
          <a:stretch/>
        </p:blipFill>
        <p:spPr>
          <a:xfrm>
            <a:off x="4954680" y="1197000"/>
            <a:ext cx="3578040" cy="568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 – protéza Ra VÚP 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 – protéza Gore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6 – protéza DK 1n  VÚP 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7,8 – protézy MF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ÚP B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na mechanické vlastnosti proté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angenciální tuhost srovnatelná s tepn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ízká podélná tuhost – namáhání steh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soká torzní tuhost pro zavádění tunelátorem (nebezpečí podélného překrouc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nížení rizika ztráty tvarové stability pro tepny výrazně ohýbané - vrap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Typy spojení cév a cévních náh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84360" y="1414440"/>
            <a:ext cx="7920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Koncem ke konci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Koncem ke straně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tranou ke straně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5" name="Picture 16" descr=""/>
          <p:cNvPicPr/>
          <p:nvPr/>
        </p:nvPicPr>
        <p:blipFill>
          <a:blip r:embed="rId1"/>
          <a:stretch/>
        </p:blipFill>
        <p:spPr>
          <a:xfrm>
            <a:off x="611280" y="2224080"/>
            <a:ext cx="2298600" cy="3292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7" descr=""/>
          <p:cNvPicPr/>
          <p:nvPr/>
        </p:nvPicPr>
        <p:blipFill>
          <a:blip r:embed="rId2"/>
          <a:stretch/>
        </p:blipFill>
        <p:spPr>
          <a:xfrm>
            <a:off x="3132000" y="2224080"/>
            <a:ext cx="2627280" cy="3220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"/>
          <p:cNvPicPr/>
          <p:nvPr/>
        </p:nvPicPr>
        <p:blipFill>
          <a:blip r:embed="rId3"/>
          <a:stretch/>
        </p:blipFill>
        <p:spPr>
          <a:xfrm>
            <a:off x="6012000" y="2205000"/>
            <a:ext cx="2832120" cy="3168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9"/>
          <p:cNvSpPr/>
          <p:nvPr/>
        </p:nvSpPr>
        <p:spPr>
          <a:xfrm>
            <a:off x="900000" y="5516640"/>
            <a:ext cx="7920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Koncem ke konci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- průměr protézy se volí 1,2 – 1,5-krát větší než průměr tepny (menší deformace, zarůstání)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použití žilních bypassů a umělých cévních náhrad u povrchové stehenní tep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82" name="Picture 6" descr="Image1"/>
          <p:cNvPicPr/>
          <p:nvPr/>
        </p:nvPicPr>
        <p:blipFill>
          <a:blip r:embed="rId1"/>
          <a:srcRect l="0" t="8325" r="0" b="26640"/>
          <a:stretch/>
        </p:blipFill>
        <p:spPr>
          <a:xfrm>
            <a:off x="539640" y="1349280"/>
            <a:ext cx="4121280" cy="5104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365800" y="1557360"/>
            <a:ext cx="194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Umělá cévní náhrada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289480" y="3263760"/>
            <a:ext cx="2419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Neprůchodná tepna</a:t>
            </a:r>
            <a:r>
              <a:rPr b="0" lang="cs-CZ" sz="26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5292720" y="4149720"/>
            <a:ext cx="1943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Žilní bypass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6" name="Line 10"/>
          <p:cNvSpPr/>
          <p:nvPr/>
        </p:nvSpPr>
        <p:spPr>
          <a:xfrm flipH="1">
            <a:off x="3780000" y="1844640"/>
            <a:ext cx="158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7" name="Line 11"/>
          <p:cNvSpPr/>
          <p:nvPr/>
        </p:nvSpPr>
        <p:spPr>
          <a:xfrm flipH="1">
            <a:off x="3564000" y="3573360"/>
            <a:ext cx="172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 flipH="1">
            <a:off x="3851280" y="436572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5364000" y="2421000"/>
            <a:ext cx="1943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pojení koncem ke konci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5292720" y="4941720"/>
            <a:ext cx="1943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Spojení koncem ke straně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 flipH="1" flipV="1">
            <a:off x="3708360" y="4868640"/>
            <a:ext cx="1511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H="1">
            <a:off x="3924000" y="2565360"/>
            <a:ext cx="143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připojení cévních náhrad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„koncem ke straně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6" name="Picture 12" descr="Image2"/>
          <p:cNvPicPr/>
          <p:nvPr/>
        </p:nvPicPr>
        <p:blipFill>
          <a:blip r:embed="rId1"/>
          <a:srcRect l="29814" t="49950" r="6880" b="0"/>
          <a:stretch/>
        </p:blipFill>
        <p:spPr>
          <a:xfrm>
            <a:off x="1041480" y="1268280"/>
            <a:ext cx="4610160" cy="50151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3"/>
          <p:cNvSpPr/>
          <p:nvPr/>
        </p:nvSpPr>
        <p:spPr>
          <a:xfrm>
            <a:off x="4818240" y="5681520"/>
            <a:ext cx="37144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Zúžení tepny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nevhodným provedení spoje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2843280" y="60213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Výpočtový model </a:t>
            </a:r>
            <a:br>
              <a:rPr sz="3200"/>
            </a:b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rozložení rychlostí proudění za anastomóz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2" name="Picture 6" descr="nahrady8"/>
          <p:cNvPicPr/>
          <p:nvPr/>
        </p:nvPicPr>
        <p:blipFill>
          <a:blip r:embed="rId1"/>
          <a:stretch/>
        </p:blipFill>
        <p:spPr>
          <a:xfrm>
            <a:off x="1258920" y="1355760"/>
            <a:ext cx="6192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1-09-05T08:00:33Z</dcterms:modified>
  <cp:revision>274</cp:revision>
  <dc:subject/>
  <dc:title>Biomechanics  of smooth muscle cells </dc:title>
</cp:coreProperties>
</file>