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967-7244-4236-9973-501747E5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756-E93F-4D04-98CD-F54CAE23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A4AB-D8CA-4C0C-9561-F0B687A4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72F-33B9-42EF-AFC3-99125357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6B6-CA1B-420F-8D25-C3BDE50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0CC-7AF3-4CDE-B7B7-9157FFF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C97-E31F-4ED4-A85A-BFA1EB76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44D-099D-4D93-9A2E-E34B8949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EFE-0ACF-4902-B0D9-4F695400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6C9-AC0F-4A92-98AE-B57589F1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E4F-5042-46EE-9355-1E41F7BF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29E-97E9-49EC-8789-947E709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0A94-486D-4A1E-B367-AAD4B4B4591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occludens (tight junction)</a:t>
            </a:r>
            <a:br>
              <a:rPr sz="36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 spojení bez štěrbiny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84836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60360" y="184464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230040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072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ytoplasmick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56360" y="5516640"/>
            <a:ext cx="194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ransmembránová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5080" y="5516640"/>
            <a:ext cx="158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extracelulární část occlu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480" y="4681440"/>
            <a:ext cx="93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cclud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67640" y="3933720"/>
            <a:ext cx="71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12:32:07Z</dcterms:modified>
  <cp:revision>5</cp:revision>
  <dc:subject/>
  <dc:title>Schéma spojení gap junction  Spojení zajišťující transport iontů, aminokyselin, sacharidů a jiných rozpuštěných látek mezi buňkami</dc:title>
</cp:coreProperties>
</file>