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667AB-3769-444F-916F-8AFDFBA60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6FAE3-38A6-40F3-9918-F720987F0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E268D-B8A6-4F75-BF03-DBC2DE2FB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8F8D1-15C9-4135-B666-2619FF54B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3CCDC-7EFA-4B7B-BC2B-E230243DF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7FAF7-BC2B-4390-8756-08E602B66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9DB61-C85D-441A-B5A1-B42AB93E5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E9ECF-BD9B-45B0-9DE2-AE8DE1996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400A8-798E-45A1-BF44-C918C3AEB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8F933-D8CA-4007-809A-7AD9AB1B1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0BFA9-6077-4EF8-AB6B-72B7FF1FD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E47D2-24B1-4CCE-8497-9CE302D0F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677E9-7701-4380-9E31-DA51F7D33B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1041480"/>
            <a:ext cx="8424720" cy="217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uty sestavené do tvaru čtverce s jedním úhlopříčným prutem nemohou vykazovat vlastnosti tensegritní soustavy; pokud změníme délku kteréhokoli prutu, změní se tvar, ale nedojde ke vzniku předpětí v jednotlivých prutech.</a:t>
            </a:r>
            <a:br>
              <a:rPr sz="1800"/>
            </a:br>
            <a:r>
              <a:rPr b="0" lang="en-US" sz="1800" spc="-1" strike="noStrike">
                <a:solidFill>
                  <a:srgbClr val="000000"/>
                </a:solidFill>
                <a:latin typeface="Arial"/>
              </a:rPr>
              <a:t>Přidáním dalšího úhlopříčného prutu vytvoříme soustavu staticky neurčitou,</a:t>
            </a:r>
            <a:br>
              <a:rPr sz="1800"/>
            </a:br>
            <a:r>
              <a:rPr b="0" lang="en-US" sz="1800" spc="-1" strike="noStrike">
                <a:solidFill>
                  <a:srgbClr val="000000"/>
                </a:solidFill>
                <a:latin typeface="Arial"/>
              </a:rPr>
              <a:t>se čtyřmi osami symetrie, vykazující předpětí v prutech při změně délky kteréhokoliv z nich.</a:t>
            </a:r>
            <a:br>
              <a:rPr sz="1800"/>
            </a:br>
            <a:endParaRPr b="0" lang="en-US" sz="1800" spc="-1" strike="noStrike">
              <a:solidFill>
                <a:srgbClr val="000000"/>
              </a:solidFill>
              <a:latin typeface="Arial"/>
            </a:endParaRPr>
          </a:p>
        </p:txBody>
      </p:sp>
      <p:pic>
        <p:nvPicPr>
          <p:cNvPr id="42" name="" descr=""/>
          <p:cNvPicPr/>
          <p:nvPr/>
        </p:nvPicPr>
        <p:blipFill>
          <a:blip r:embed="rId1"/>
          <a:srcRect l="17544" t="9334" r="17544" b="9334"/>
          <a:stretch/>
        </p:blipFill>
        <p:spPr>
          <a:xfrm>
            <a:off x="468360" y="2825640"/>
            <a:ext cx="3803760" cy="3627720"/>
          </a:xfrm>
          <a:prstGeom prst="rect">
            <a:avLst/>
          </a:prstGeom>
          <a:ln w="0">
            <a:noFill/>
          </a:ln>
        </p:spPr>
      </p:pic>
      <p:sp>
        <p:nvSpPr>
          <p:cNvPr id="43" name=""/>
          <p:cNvSpPr/>
          <p:nvPr/>
        </p:nvSpPr>
        <p:spPr>
          <a:xfrm>
            <a:off x="1547640" y="333360"/>
            <a:ext cx="640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Soustava tvaru čtverce</a:t>
            </a:r>
            <a:endParaRPr b="0" lang="en-US" sz="3600" spc="-1" strike="noStrike">
              <a:solidFill>
                <a:srgbClr val="000000"/>
              </a:solidFill>
              <a:latin typeface="Arial"/>
            </a:endParaRPr>
          </a:p>
        </p:txBody>
      </p:sp>
      <p:pic>
        <p:nvPicPr>
          <p:cNvPr id="44" name="" descr=""/>
          <p:cNvPicPr/>
          <p:nvPr/>
        </p:nvPicPr>
        <p:blipFill>
          <a:blip r:embed="rId2"/>
          <a:srcRect l="17544" t="9334" r="17544" b="9334"/>
          <a:stretch/>
        </p:blipFill>
        <p:spPr>
          <a:xfrm>
            <a:off x="4699080" y="2997360"/>
            <a:ext cx="3760560" cy="336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11:35:08Z</dcterms:created>
  <dc:creator>Jiri Bursa</dc:creator>
  <dc:description/>
  <dc:language>en-US</dc:language>
  <cp:lastModifiedBy>umt</cp:lastModifiedBy>
  <dcterms:modified xsi:type="dcterms:W3CDTF">2007-01-08T13:16:00Z</dcterms:modified>
  <cp:revision>3</cp:revision>
  <dc:subject/>
  <dc:title>- A tetragonal structure with one diagonal strut cannot show properties of tensegrity structures; if some of the members is prestrained the shape of the structure becomes distorted without having induced any stresses in the members. The structure has only two axes of symmetry and this number cannot be enhanced without adding at least one more strut. In this way a Statickály indeterminate tensegrity structure is created. </dc:title>
</cp:coreProperties>
</file>