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78DD-F2EB-46D8-94D7-7750BC22F4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říve než přejdeme k vlastnímu výpočtovému modelování, seznámíme se strukturou eukaryotické buňky a procesem mechanotransdukce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de máme schéma buňky se strukturními složkami podstatnými z mechanického hledisk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je to Plasmatická membrána – která odděluje vnitřek buňky, od jejího okolí, potom je to buněčné jádro, jakožto řídící centrum buňky a Cytoplazma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jejiž součástí je i tzv.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ytoskel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n bývá některými fyziology považován  za samostatný prvek struktury buňky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Právě cytoskelet je z hlediska mechanických vlastností nejdůležitější složkou buňky kde  Plní funkci jakési  kostry.  Cytoskelet lze dále členit na membránový skelet a hluboký skel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eď k mechanotransdukc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dle jedné z hypotéz je proces mechanotransdukce  umožněn  přímým mechanickým propojením mezi povrchovými receptory a jádrem prostřednictvím cytoskeletu. Mechanotrandukce by potom vypadala takto: mechanický signál, přicházející z extracelulárního prostoru přes integrinový receptor způsobí změnu deformačně-napětostního stavu v cytoskeletu. Tato změna má za následek deformaci jádra, které reaguje příslušnou biochemickou odezvou (např. syntéza kolagenu, fenotypická modulace či kontrak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F130-6CAF-4BF3-9397-F08D8FEB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4DC8-9AAB-44C4-8624-C0749F0C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3F7-0B76-4756-B0FB-207754B7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8E20-FD9A-40D4-BADD-A03BA1BC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A8A2-BBD4-48F7-9418-460866C1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D32-0AF5-45FD-8A0E-81EFCBF7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F0D9-6298-40ED-A23B-A6088738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49F-800E-4259-A076-B0A2633C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A396-7B47-4821-BB57-BDF288F1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21E1-A7E8-4C74-A9E2-C4BAAF3F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59AA-D05D-473C-9CC5-C1DAEC6C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BDB-2592-4311-9CAD-93DEF2E5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7C88-790C-49D5-AEC0-6647275A0FE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333399"/>
                </a:solidFill>
                <a:latin typeface="Arial"/>
              </a:rPr>
              <a:t>Princip mechanotransdukce</a:t>
            </a:r>
            <a:br>
              <a:rPr sz="37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modelace ovlivněná mechanickým zatížením se týká jak složek cytoskeletu (membránového, hlubokého a jaderného skeletu), tak i exoskele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59280" y="2852640"/>
            <a:ext cx="3039840" cy="27561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56000" y="3860640"/>
            <a:ext cx="936720" cy="793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49640" y="2894040"/>
            <a:ext cx="2933640" cy="2665440"/>
          </a:xfrm>
          <a:custGeom>
            <a:avLst/>
            <a:gdLst/>
            <a:ahLst/>
            <a:rect l="l" t="t" r="r" b="b"/>
            <a:pathLst>
              <a:path w="1848" h="1679">
                <a:moveTo>
                  <a:pt x="888" y="1631"/>
                </a:moveTo>
                <a:cubicBezTo>
                  <a:pt x="799" y="1641"/>
                  <a:pt x="786" y="1647"/>
                  <a:pt x="688" y="1639"/>
                </a:cubicBezTo>
                <a:cubicBezTo>
                  <a:pt x="648" y="1629"/>
                  <a:pt x="639" y="1617"/>
                  <a:pt x="608" y="1591"/>
                </a:cubicBezTo>
                <a:cubicBezTo>
                  <a:pt x="586" y="1573"/>
                  <a:pt x="560" y="1567"/>
                  <a:pt x="536" y="1551"/>
                </a:cubicBezTo>
                <a:cubicBezTo>
                  <a:pt x="444" y="1566"/>
                  <a:pt x="412" y="1557"/>
                  <a:pt x="336" y="1519"/>
                </a:cubicBezTo>
                <a:cubicBezTo>
                  <a:pt x="331" y="1511"/>
                  <a:pt x="327" y="1502"/>
                  <a:pt x="320" y="1495"/>
                </a:cubicBezTo>
                <a:cubicBezTo>
                  <a:pt x="313" y="1488"/>
                  <a:pt x="301" y="1487"/>
                  <a:pt x="296" y="1479"/>
                </a:cubicBezTo>
                <a:cubicBezTo>
                  <a:pt x="296" y="1479"/>
                  <a:pt x="276" y="1419"/>
                  <a:pt x="272" y="1407"/>
                </a:cubicBezTo>
                <a:cubicBezTo>
                  <a:pt x="269" y="1399"/>
                  <a:pt x="271" y="1388"/>
                  <a:pt x="264" y="1383"/>
                </a:cubicBezTo>
                <a:cubicBezTo>
                  <a:pt x="233" y="1362"/>
                  <a:pt x="199" y="1356"/>
                  <a:pt x="168" y="1335"/>
                </a:cubicBezTo>
                <a:cubicBezTo>
                  <a:pt x="162" y="1316"/>
                  <a:pt x="120" y="1235"/>
                  <a:pt x="104" y="1215"/>
                </a:cubicBezTo>
                <a:cubicBezTo>
                  <a:pt x="97" y="1206"/>
                  <a:pt x="87" y="1200"/>
                  <a:pt x="80" y="1191"/>
                </a:cubicBezTo>
                <a:cubicBezTo>
                  <a:pt x="51" y="1150"/>
                  <a:pt x="36" y="1103"/>
                  <a:pt x="24" y="1055"/>
                </a:cubicBezTo>
                <a:cubicBezTo>
                  <a:pt x="20" y="959"/>
                  <a:pt x="28" y="884"/>
                  <a:pt x="0" y="799"/>
                </a:cubicBezTo>
                <a:cubicBezTo>
                  <a:pt x="3" y="735"/>
                  <a:pt x="3" y="671"/>
                  <a:pt x="8" y="607"/>
                </a:cubicBezTo>
                <a:cubicBezTo>
                  <a:pt x="11" y="573"/>
                  <a:pt x="42" y="562"/>
                  <a:pt x="64" y="543"/>
                </a:cubicBezTo>
                <a:cubicBezTo>
                  <a:pt x="92" y="520"/>
                  <a:pt x="111" y="488"/>
                  <a:pt x="136" y="463"/>
                </a:cubicBezTo>
                <a:cubicBezTo>
                  <a:pt x="165" y="375"/>
                  <a:pt x="119" y="508"/>
                  <a:pt x="160" y="415"/>
                </a:cubicBezTo>
                <a:cubicBezTo>
                  <a:pt x="190" y="347"/>
                  <a:pt x="209" y="273"/>
                  <a:pt x="288" y="247"/>
                </a:cubicBezTo>
                <a:cubicBezTo>
                  <a:pt x="323" y="221"/>
                  <a:pt x="361" y="210"/>
                  <a:pt x="400" y="191"/>
                </a:cubicBezTo>
                <a:cubicBezTo>
                  <a:pt x="433" y="175"/>
                  <a:pt x="423" y="169"/>
                  <a:pt x="456" y="143"/>
                </a:cubicBezTo>
                <a:cubicBezTo>
                  <a:pt x="497" y="110"/>
                  <a:pt x="528" y="95"/>
                  <a:pt x="576" y="79"/>
                </a:cubicBezTo>
                <a:cubicBezTo>
                  <a:pt x="609" y="68"/>
                  <a:pt x="633" y="53"/>
                  <a:pt x="664" y="39"/>
                </a:cubicBezTo>
                <a:cubicBezTo>
                  <a:pt x="679" y="32"/>
                  <a:pt x="712" y="23"/>
                  <a:pt x="712" y="23"/>
                </a:cubicBezTo>
                <a:cubicBezTo>
                  <a:pt x="790" y="36"/>
                  <a:pt x="874" y="20"/>
                  <a:pt x="952" y="15"/>
                </a:cubicBezTo>
                <a:cubicBezTo>
                  <a:pt x="997" y="0"/>
                  <a:pt x="1114" y="27"/>
                  <a:pt x="1160" y="31"/>
                </a:cubicBezTo>
                <a:cubicBezTo>
                  <a:pt x="1224" y="47"/>
                  <a:pt x="1209" y="71"/>
                  <a:pt x="1256" y="95"/>
                </a:cubicBezTo>
                <a:cubicBezTo>
                  <a:pt x="1287" y="110"/>
                  <a:pt x="1346" y="109"/>
                  <a:pt x="1368" y="111"/>
                </a:cubicBezTo>
                <a:cubicBezTo>
                  <a:pt x="1462" y="134"/>
                  <a:pt x="1468" y="246"/>
                  <a:pt x="1568" y="279"/>
                </a:cubicBezTo>
                <a:cubicBezTo>
                  <a:pt x="1581" y="319"/>
                  <a:pt x="1607" y="357"/>
                  <a:pt x="1632" y="391"/>
                </a:cubicBezTo>
                <a:cubicBezTo>
                  <a:pt x="1647" y="435"/>
                  <a:pt x="1649" y="453"/>
                  <a:pt x="1688" y="479"/>
                </a:cubicBezTo>
                <a:cubicBezTo>
                  <a:pt x="1691" y="487"/>
                  <a:pt x="1689" y="498"/>
                  <a:pt x="1696" y="503"/>
                </a:cubicBezTo>
                <a:cubicBezTo>
                  <a:pt x="1710" y="513"/>
                  <a:pt x="1744" y="519"/>
                  <a:pt x="1744" y="519"/>
                </a:cubicBezTo>
                <a:cubicBezTo>
                  <a:pt x="1760" y="543"/>
                  <a:pt x="1783" y="564"/>
                  <a:pt x="1792" y="591"/>
                </a:cubicBezTo>
                <a:cubicBezTo>
                  <a:pt x="1813" y="655"/>
                  <a:pt x="1832" y="718"/>
                  <a:pt x="1848" y="783"/>
                </a:cubicBezTo>
                <a:cubicBezTo>
                  <a:pt x="1840" y="840"/>
                  <a:pt x="1817" y="886"/>
                  <a:pt x="1808" y="943"/>
                </a:cubicBezTo>
                <a:cubicBezTo>
                  <a:pt x="1803" y="1010"/>
                  <a:pt x="1820" y="1053"/>
                  <a:pt x="1768" y="1087"/>
                </a:cubicBezTo>
                <a:cubicBezTo>
                  <a:pt x="1723" y="1154"/>
                  <a:pt x="1709" y="1235"/>
                  <a:pt x="1624" y="1263"/>
                </a:cubicBezTo>
                <a:cubicBezTo>
                  <a:pt x="1610" y="1306"/>
                  <a:pt x="1626" y="1270"/>
                  <a:pt x="1592" y="1311"/>
                </a:cubicBezTo>
                <a:cubicBezTo>
                  <a:pt x="1575" y="1332"/>
                  <a:pt x="1544" y="1375"/>
                  <a:pt x="1544" y="1375"/>
                </a:cubicBezTo>
                <a:cubicBezTo>
                  <a:pt x="1528" y="1423"/>
                  <a:pt x="1487" y="1415"/>
                  <a:pt x="1448" y="1439"/>
                </a:cubicBezTo>
                <a:cubicBezTo>
                  <a:pt x="1425" y="1453"/>
                  <a:pt x="1388" y="1470"/>
                  <a:pt x="1368" y="1487"/>
                </a:cubicBezTo>
                <a:cubicBezTo>
                  <a:pt x="1330" y="1518"/>
                  <a:pt x="1295" y="1551"/>
                  <a:pt x="1248" y="1567"/>
                </a:cubicBezTo>
                <a:cubicBezTo>
                  <a:pt x="1217" y="1608"/>
                  <a:pt x="1219" y="1620"/>
                  <a:pt x="1168" y="1607"/>
                </a:cubicBezTo>
                <a:cubicBezTo>
                  <a:pt x="1121" y="1631"/>
                  <a:pt x="1074" y="1646"/>
                  <a:pt x="1024" y="1663"/>
                </a:cubicBezTo>
                <a:cubicBezTo>
                  <a:pt x="1008" y="1668"/>
                  <a:pt x="976" y="1679"/>
                  <a:pt x="976" y="1679"/>
                </a:cubicBezTo>
                <a:cubicBezTo>
                  <a:pt x="960" y="1674"/>
                  <a:pt x="944" y="1668"/>
                  <a:pt x="928" y="1663"/>
                </a:cubicBezTo>
                <a:cubicBezTo>
                  <a:pt x="912" y="1658"/>
                  <a:pt x="903" y="1639"/>
                  <a:pt x="888" y="1631"/>
                </a:cubicBezTo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203280" y="4292640"/>
            <a:ext cx="1152360" cy="288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393720" y="3511080"/>
            <a:ext cx="1049400" cy="5288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430080" y="4513320"/>
            <a:ext cx="1008360" cy="5364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148360" y="3357720"/>
            <a:ext cx="431640" cy="5760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86440" y="4552920"/>
            <a:ext cx="277560" cy="6048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29480" y="474984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bránový ske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29480" y="532620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luboký ske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2880" y="407664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ád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14720" y="2895480"/>
            <a:ext cx="2924280" cy="2619360"/>
          </a:xfrm>
          <a:custGeom>
            <a:avLst/>
            <a:gdLst/>
            <a:ahLst/>
            <a:rect l="l" t="t" r="r" b="b"/>
            <a:pathLst>
              <a:path w="1842" h="1650">
                <a:moveTo>
                  <a:pt x="636" y="1566"/>
                </a:moveTo>
                <a:cubicBezTo>
                  <a:pt x="687" y="1606"/>
                  <a:pt x="748" y="1595"/>
                  <a:pt x="810" y="1602"/>
                </a:cubicBezTo>
                <a:cubicBezTo>
                  <a:pt x="837" y="1611"/>
                  <a:pt x="861" y="1623"/>
                  <a:pt x="888" y="1632"/>
                </a:cubicBezTo>
                <a:cubicBezTo>
                  <a:pt x="900" y="1636"/>
                  <a:pt x="924" y="1644"/>
                  <a:pt x="924" y="1644"/>
                </a:cubicBezTo>
                <a:cubicBezTo>
                  <a:pt x="998" y="1641"/>
                  <a:pt x="1145" y="1650"/>
                  <a:pt x="1218" y="1626"/>
                </a:cubicBezTo>
                <a:cubicBezTo>
                  <a:pt x="1266" y="1578"/>
                  <a:pt x="1320" y="1542"/>
                  <a:pt x="1368" y="1494"/>
                </a:cubicBezTo>
                <a:cubicBezTo>
                  <a:pt x="1384" y="1478"/>
                  <a:pt x="1412" y="1491"/>
                  <a:pt x="1434" y="1488"/>
                </a:cubicBezTo>
                <a:cubicBezTo>
                  <a:pt x="1446" y="1487"/>
                  <a:pt x="1458" y="1484"/>
                  <a:pt x="1470" y="1482"/>
                </a:cubicBezTo>
                <a:cubicBezTo>
                  <a:pt x="1496" y="1469"/>
                  <a:pt x="1513" y="1451"/>
                  <a:pt x="1536" y="1434"/>
                </a:cubicBezTo>
                <a:cubicBezTo>
                  <a:pt x="1551" y="1389"/>
                  <a:pt x="1584" y="1310"/>
                  <a:pt x="1620" y="1278"/>
                </a:cubicBezTo>
                <a:cubicBezTo>
                  <a:pt x="1646" y="1255"/>
                  <a:pt x="1670" y="1252"/>
                  <a:pt x="1698" y="1236"/>
                </a:cubicBezTo>
                <a:lnTo>
                  <a:pt x="1782" y="1164"/>
                </a:lnTo>
                <a:cubicBezTo>
                  <a:pt x="1782" y="1164"/>
                  <a:pt x="1782" y="1164"/>
                  <a:pt x="1782" y="1164"/>
                </a:cubicBezTo>
                <a:cubicBezTo>
                  <a:pt x="1809" y="1146"/>
                  <a:pt x="1826" y="1129"/>
                  <a:pt x="1836" y="1098"/>
                </a:cubicBezTo>
                <a:cubicBezTo>
                  <a:pt x="1828" y="1065"/>
                  <a:pt x="1811" y="1035"/>
                  <a:pt x="1800" y="1002"/>
                </a:cubicBezTo>
                <a:cubicBezTo>
                  <a:pt x="1796" y="990"/>
                  <a:pt x="1792" y="978"/>
                  <a:pt x="1788" y="966"/>
                </a:cubicBezTo>
                <a:cubicBezTo>
                  <a:pt x="1786" y="960"/>
                  <a:pt x="1782" y="948"/>
                  <a:pt x="1782" y="948"/>
                </a:cubicBezTo>
                <a:cubicBezTo>
                  <a:pt x="1798" y="901"/>
                  <a:pt x="1815" y="857"/>
                  <a:pt x="1842" y="816"/>
                </a:cubicBezTo>
                <a:cubicBezTo>
                  <a:pt x="1834" y="740"/>
                  <a:pt x="1811" y="694"/>
                  <a:pt x="1788" y="624"/>
                </a:cubicBezTo>
                <a:cubicBezTo>
                  <a:pt x="1780" y="600"/>
                  <a:pt x="1772" y="576"/>
                  <a:pt x="1764" y="552"/>
                </a:cubicBezTo>
                <a:cubicBezTo>
                  <a:pt x="1760" y="540"/>
                  <a:pt x="1752" y="516"/>
                  <a:pt x="1752" y="516"/>
                </a:cubicBezTo>
                <a:cubicBezTo>
                  <a:pt x="1750" y="500"/>
                  <a:pt x="1750" y="484"/>
                  <a:pt x="1746" y="468"/>
                </a:cubicBezTo>
                <a:cubicBezTo>
                  <a:pt x="1739" y="443"/>
                  <a:pt x="1733" y="454"/>
                  <a:pt x="1716" y="444"/>
                </a:cubicBezTo>
                <a:cubicBezTo>
                  <a:pt x="1674" y="421"/>
                  <a:pt x="1639" y="393"/>
                  <a:pt x="1596" y="372"/>
                </a:cubicBezTo>
                <a:cubicBezTo>
                  <a:pt x="1579" y="349"/>
                  <a:pt x="1571" y="329"/>
                  <a:pt x="1554" y="306"/>
                </a:cubicBezTo>
                <a:cubicBezTo>
                  <a:pt x="1552" y="296"/>
                  <a:pt x="1553" y="285"/>
                  <a:pt x="1548" y="276"/>
                </a:cubicBezTo>
                <a:cubicBezTo>
                  <a:pt x="1544" y="268"/>
                  <a:pt x="1534" y="266"/>
                  <a:pt x="1530" y="258"/>
                </a:cubicBezTo>
                <a:cubicBezTo>
                  <a:pt x="1521" y="239"/>
                  <a:pt x="1517" y="166"/>
                  <a:pt x="1488" y="156"/>
                </a:cubicBezTo>
                <a:cubicBezTo>
                  <a:pt x="1454" y="145"/>
                  <a:pt x="1420" y="141"/>
                  <a:pt x="1386" y="132"/>
                </a:cubicBezTo>
                <a:cubicBezTo>
                  <a:pt x="1374" y="129"/>
                  <a:pt x="1362" y="124"/>
                  <a:pt x="1350" y="120"/>
                </a:cubicBezTo>
                <a:cubicBezTo>
                  <a:pt x="1344" y="118"/>
                  <a:pt x="1332" y="114"/>
                  <a:pt x="1332" y="114"/>
                </a:cubicBezTo>
                <a:cubicBezTo>
                  <a:pt x="1283" y="65"/>
                  <a:pt x="1255" y="77"/>
                  <a:pt x="1176" y="72"/>
                </a:cubicBezTo>
                <a:cubicBezTo>
                  <a:pt x="1158" y="66"/>
                  <a:pt x="1140" y="60"/>
                  <a:pt x="1122" y="54"/>
                </a:cubicBezTo>
                <a:cubicBezTo>
                  <a:pt x="1116" y="52"/>
                  <a:pt x="1104" y="48"/>
                  <a:pt x="1104" y="48"/>
                </a:cubicBezTo>
                <a:cubicBezTo>
                  <a:pt x="1088" y="32"/>
                  <a:pt x="1071" y="21"/>
                  <a:pt x="1050" y="12"/>
                </a:cubicBezTo>
                <a:cubicBezTo>
                  <a:pt x="1038" y="7"/>
                  <a:pt x="1014" y="0"/>
                  <a:pt x="1014" y="0"/>
                </a:cubicBezTo>
                <a:cubicBezTo>
                  <a:pt x="942" y="7"/>
                  <a:pt x="880" y="36"/>
                  <a:pt x="810" y="48"/>
                </a:cubicBezTo>
                <a:cubicBezTo>
                  <a:pt x="776" y="46"/>
                  <a:pt x="742" y="46"/>
                  <a:pt x="708" y="42"/>
                </a:cubicBezTo>
                <a:cubicBezTo>
                  <a:pt x="695" y="40"/>
                  <a:pt x="672" y="30"/>
                  <a:pt x="672" y="30"/>
                </a:cubicBezTo>
                <a:cubicBezTo>
                  <a:pt x="631" y="36"/>
                  <a:pt x="612" y="48"/>
                  <a:pt x="576" y="60"/>
                </a:cubicBezTo>
                <a:cubicBezTo>
                  <a:pt x="559" y="85"/>
                  <a:pt x="537" y="136"/>
                  <a:pt x="510" y="150"/>
                </a:cubicBezTo>
                <a:cubicBezTo>
                  <a:pt x="452" y="179"/>
                  <a:pt x="399" y="194"/>
                  <a:pt x="336" y="210"/>
                </a:cubicBezTo>
                <a:cubicBezTo>
                  <a:pt x="305" y="230"/>
                  <a:pt x="296" y="264"/>
                  <a:pt x="276" y="294"/>
                </a:cubicBezTo>
                <a:cubicBezTo>
                  <a:pt x="269" y="305"/>
                  <a:pt x="240" y="306"/>
                  <a:pt x="240" y="306"/>
                </a:cubicBezTo>
                <a:cubicBezTo>
                  <a:pt x="226" y="326"/>
                  <a:pt x="196" y="346"/>
                  <a:pt x="174" y="360"/>
                </a:cubicBezTo>
                <a:cubicBezTo>
                  <a:pt x="167" y="452"/>
                  <a:pt x="166" y="512"/>
                  <a:pt x="96" y="570"/>
                </a:cubicBezTo>
                <a:cubicBezTo>
                  <a:pt x="77" y="586"/>
                  <a:pt x="63" y="607"/>
                  <a:pt x="54" y="630"/>
                </a:cubicBezTo>
                <a:cubicBezTo>
                  <a:pt x="49" y="642"/>
                  <a:pt x="42" y="666"/>
                  <a:pt x="42" y="666"/>
                </a:cubicBezTo>
                <a:cubicBezTo>
                  <a:pt x="53" y="785"/>
                  <a:pt x="26" y="813"/>
                  <a:pt x="0" y="918"/>
                </a:cubicBezTo>
                <a:cubicBezTo>
                  <a:pt x="12" y="976"/>
                  <a:pt x="22" y="970"/>
                  <a:pt x="66" y="1014"/>
                </a:cubicBezTo>
                <a:cubicBezTo>
                  <a:pt x="72" y="1020"/>
                  <a:pt x="73" y="1031"/>
                  <a:pt x="78" y="1038"/>
                </a:cubicBezTo>
                <a:cubicBezTo>
                  <a:pt x="85" y="1047"/>
                  <a:pt x="95" y="1053"/>
                  <a:pt x="102" y="1062"/>
                </a:cubicBezTo>
                <a:cubicBezTo>
                  <a:pt x="116" y="1078"/>
                  <a:pt x="120" y="1098"/>
                  <a:pt x="132" y="1116"/>
                </a:cubicBezTo>
                <a:cubicBezTo>
                  <a:pt x="128" y="1178"/>
                  <a:pt x="119" y="1203"/>
                  <a:pt x="132" y="1254"/>
                </a:cubicBezTo>
                <a:cubicBezTo>
                  <a:pt x="135" y="1266"/>
                  <a:pt x="133" y="1283"/>
                  <a:pt x="144" y="1290"/>
                </a:cubicBezTo>
                <a:cubicBezTo>
                  <a:pt x="170" y="1307"/>
                  <a:pt x="193" y="1330"/>
                  <a:pt x="216" y="1350"/>
                </a:cubicBezTo>
                <a:cubicBezTo>
                  <a:pt x="229" y="1361"/>
                  <a:pt x="252" y="1386"/>
                  <a:pt x="252" y="1386"/>
                </a:cubicBezTo>
                <a:cubicBezTo>
                  <a:pt x="261" y="1413"/>
                  <a:pt x="278" y="1440"/>
                  <a:pt x="306" y="1452"/>
                </a:cubicBezTo>
                <a:cubicBezTo>
                  <a:pt x="318" y="1457"/>
                  <a:pt x="342" y="1464"/>
                  <a:pt x="342" y="1464"/>
                </a:cubicBezTo>
                <a:cubicBezTo>
                  <a:pt x="382" y="1494"/>
                  <a:pt x="407" y="1514"/>
                  <a:pt x="456" y="1530"/>
                </a:cubicBezTo>
                <a:cubicBezTo>
                  <a:pt x="464" y="1533"/>
                  <a:pt x="471" y="1541"/>
                  <a:pt x="480" y="1542"/>
                </a:cubicBezTo>
                <a:cubicBezTo>
                  <a:pt x="522" y="1547"/>
                  <a:pt x="564" y="1546"/>
                  <a:pt x="606" y="1548"/>
                </a:cubicBezTo>
                <a:cubicBezTo>
                  <a:pt x="612" y="1550"/>
                  <a:pt x="620" y="1550"/>
                  <a:pt x="624" y="1554"/>
                </a:cubicBezTo>
                <a:cubicBezTo>
                  <a:pt x="628" y="1558"/>
                  <a:pt x="624" y="1570"/>
                  <a:pt x="630" y="1572"/>
                </a:cubicBezTo>
                <a:cubicBezTo>
                  <a:pt x="638" y="1575"/>
                  <a:pt x="648" y="1572"/>
                  <a:pt x="654" y="1566"/>
                </a:cubicBezTo>
                <a:cubicBezTo>
                  <a:pt x="658" y="1562"/>
                  <a:pt x="642" y="1566"/>
                  <a:pt x="636" y="1566"/>
                </a:cubicBezTo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7058000">
            <a:off x="4334400" y="2740680"/>
            <a:ext cx="1768320" cy="576000"/>
          </a:xfrm>
          <a:custGeom>
            <a:avLst/>
            <a:gdLst>
              <a:gd name="textAreaLeft" fmla="*/ 221040 w 1768320"/>
              <a:gd name="textAreaRight" fmla="*/ 1547280 w 17683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1640" y="414972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gr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280" y="2039760"/>
            <a:ext cx="91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oske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221000" y="4600440"/>
            <a:ext cx="362160" cy="7876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4284720" y="2924280"/>
            <a:ext cx="287280" cy="10094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2637000"/>
            <a:ext cx="863640" cy="1296720"/>
          </a:xfrm>
          <a:custGeom>
            <a:avLst/>
            <a:gdLst/>
            <a:ahLst/>
            <a:rect l="l" t="t" r="r" b="b"/>
            <a:pathLst>
              <a:path w="544" h="817">
                <a:moveTo>
                  <a:pt x="0" y="817"/>
                </a:moveTo>
                <a:cubicBezTo>
                  <a:pt x="113" y="703"/>
                  <a:pt x="227" y="590"/>
                  <a:pt x="318" y="454"/>
                </a:cubicBezTo>
                <a:cubicBezTo>
                  <a:pt x="409" y="318"/>
                  <a:pt x="476" y="159"/>
                  <a:pt x="544" y="0"/>
                </a:cubicBezTo>
              </a:path>
            </a:pathLst>
          </a:custGeom>
          <a:noFill/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3716280"/>
            <a:ext cx="1019160" cy="41760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3357720"/>
            <a:ext cx="927000" cy="61416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36840" y="3711600"/>
            <a:ext cx="263520" cy="1047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1080" y="3521160"/>
            <a:ext cx="262080" cy="133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78400" y="3368520"/>
            <a:ext cx="193680" cy="130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2997360"/>
            <a:ext cx="482760" cy="342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3357720"/>
            <a:ext cx="139680" cy="1285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7008800">
            <a:off x="4761360" y="298944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dez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16360" y="2637000"/>
            <a:ext cx="582480" cy="5871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979640" y="3429000"/>
            <a:ext cx="1368360" cy="10080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843280" y="4292640"/>
            <a:ext cx="318960" cy="7207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987640" y="4429080"/>
            <a:ext cx="898560" cy="1160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3280" y="5589720"/>
            <a:ext cx="1584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5013360"/>
            <a:ext cx="14400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03280" y="4437000"/>
            <a:ext cx="576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2637000"/>
            <a:ext cx="1513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6880" y="27813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Sí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5600" y="238140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mbrá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08000" y="2328480"/>
            <a:ext cx="976320" cy="20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82880" y="2330280"/>
            <a:ext cx="615960" cy="5335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6000" y="227664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ytoske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56360" y="2565360"/>
            <a:ext cx="936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276520" y="2565360"/>
            <a:ext cx="879480" cy="23590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508360" y="2565360"/>
            <a:ext cx="647640" cy="647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26560" y="3357720"/>
            <a:ext cx="110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ytoplaz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724000" y="3645000"/>
            <a:ext cx="576360" cy="7920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00720" y="3645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33333E-006 L 0.07865 0.06805 E">
                                      <p:cBhvr>
                                        <p:cTn id="2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85185E-006 L 0.08055 0.05324 E">
                                      <p:cBhvr>
                                        <p:cTn id="2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59259E-006 L 0.0842 0.04699 E">
                                      <p:cBhvr>
                                        <p:cTn id="2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4T10:32:19Z</dcterms:created>
  <dc:creator>Jiří Burša</dc:creator>
  <dc:description/>
  <dc:language>en-US</dc:language>
  <cp:lastModifiedBy>Jiří Burša</cp:lastModifiedBy>
  <dcterms:modified xsi:type="dcterms:W3CDTF">2007-01-04T10:32:36Z</dcterms:modified>
  <cp:revision>1</cp:revision>
  <dc:subject/>
  <dc:title>Princip mechanotransdukce Remodelace ovlivněná mechanickým zatížením se týká jak složek cytoskeletu (membránového, hlubokého a jaderného skeletu), tak i exoskeletu.</dc:title>
</cp:coreProperties>
</file>