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5A1-1AEA-46C3-AFC7-CB63C6C5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592-4E82-4244-A414-A74D1D5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353-2BDD-4C32-8A73-3A46F60E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F641-BEDB-445C-9F9F-2704B5D7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F603-35A0-4DA7-9AC6-842FD08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A07-CABA-49D3-80CE-E6901A6E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753-2FE8-4A5E-8C3F-6232B76E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79B-D85D-4666-8F8C-CC4AEB22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176D-7E22-4431-8F86-DA6689F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8567-F3F7-47C4-9B7B-2F4B1B9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156-A4EC-45EE-BF69-7452F78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546-F41A-4BC3-A0C0-A4FC490D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475-378A-4D39-A357-5353755D06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hlopn&#283;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AD.ppt" TargetMode="External"/><Relationship Id="rId2" Type="http://schemas.openxmlformats.org/officeDocument/2006/relationships/hyperlink" Target="file:///VAD.ppt" TargetMode="External"/><Relationship Id="rId3" Type="http://schemas.openxmlformats.org/officeDocument/2006/relationships/hyperlink" Target="file:///TAH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Nejčastěj</a:t>
            </a:r>
            <a:r>
              <a:rPr b="0" lang="en-GB" sz="3600" spc="-1" strike="noStrike">
                <a:solidFill>
                  <a:srgbClr val="0000ff"/>
                </a:solidFill>
                <a:latin typeface="Times New Roman"/>
              </a:rPr>
              <a:t>ší</a:t>
            </a: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biomechanické problémy srd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gina pector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nické snížení průsvitu koronárních tepen, vedoucí ke zhoršenému prokrvení myokar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arkt myokardu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áhlé zhoršení funkčnosti (kontraktility) srdečního svalu v důsle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cpání některé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diomyopatie – označení pro chronickou nedostatečnost srdečního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dy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rdečních chlop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ologické propojení velkého a malého krevního obě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fekty sept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rozené nebo ruptura po infarktu myokar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tepenná dučej (spojení mezi plícnicí a aort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Hemopump – anatomické schéma aplik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60507" t="41531" r="28148" b="32062"/>
          <a:stretch/>
        </p:blipFill>
        <p:spPr>
          <a:xfrm>
            <a:off x="826920" y="907920"/>
            <a:ext cx="3745080" cy="5218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076720" y="981000"/>
            <a:ext cx="361008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vádí se z arterie femoralis přes aortální chlopeň přímo do levé srdeční komo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lo používáno od r. 1988 pro krátkodobou podporu srd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Transplantace srd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Picture 5" descr="kardio6"/>
          <p:cNvPicPr/>
          <p:nvPr/>
        </p:nvPicPr>
        <p:blipFill>
          <a:blip r:embed="rId1"/>
          <a:stretch/>
        </p:blipFill>
        <p:spPr>
          <a:xfrm>
            <a:off x="3548160" y="2205000"/>
            <a:ext cx="5056200" cy="371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8360" y="2349360"/>
            <a:ext cx="17272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lícni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Le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ravá sí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1476360" y="2565360"/>
            <a:ext cx="38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476360" y="2565360"/>
            <a:ext cx="453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 flipV="1">
            <a:off x="1258920" y="2997360"/>
            <a:ext cx="33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258920" y="3068640"/>
            <a:ext cx="540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1476360" y="3933720"/>
            <a:ext cx="381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1476360" y="3933720"/>
            <a:ext cx="446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Line 13"/>
          <p:cNvSpPr/>
          <p:nvPr/>
        </p:nvSpPr>
        <p:spPr>
          <a:xfrm flipV="1">
            <a:off x="1547640" y="4797360"/>
            <a:ext cx="28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1547640" y="4941360"/>
            <a:ext cx="5256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213080" y="18795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Příjemce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808080"/>
                </a:solidFill>
                <a:latin typeface="Times New Roman"/>
              </a:rPr>
              <a:t> Dár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539640" y="10875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dikována v terminální fázi srdečního selhání, nejčastěji při ejekční frakci pod 20% a životní prognóze řádu měsíců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Transplantace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dikace k transplantaci –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 srdeční onemocnění neřešitelné jiným způsob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latační kardiomyopat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fúzní postižení koronárních te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škození srdce virovou infe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pakované infar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mezení a perspek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1993  provedeno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elosvětově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500 srdečních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r. 2003 provedeno 66 000 transplan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si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000 operací ročně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jen v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acientů s indikací k operaci cca 5x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ži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oční cca 85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říleté  cca 7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ětileté cca 7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ůměrná doba funkčnosti transplantovaného srdce je 9,5 roku, poté je jedinou možností TA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Nejčastěji používané metody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o podporu a náhradu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imotělní oběh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– krátkodobý, během srdeční 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Aorto-koronární bypas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řemostění špatně průchodných věnčitých t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Kontrapulsa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 (IABP - intraaortální balón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emopump – miniaturní čerpadlo zaváděné do srdeční ko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odpůrné srdeční čerpadlo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VAD) levostranné, pravostra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Umělé srd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“  (TAH) – přežití do transpla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ransplantace sr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istorická data mezníků </a:t>
            </a:r>
            <a:br>
              <a:rPr sz="4000"/>
            </a:b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v podpoře a náhradě srd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53 – první použití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7 – první transplantace lidského srdce – Jihoafrická republ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69 – první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76 – první implantace LVAD, použitého pro překlenutí doby do transplant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1 – druhá implantace umělého srdce (TAH) u člově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3 – realizováno 50,000 operací na otevřeném srdci s využitím mimotělního obě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88 – první použití čerpadla Hemop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1 – schválení prvního bateriemi napájeného podpůrného čerpadla LVAD a jeho úspěšná im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2 – dosaženo 80,000 operací na otevřeném srdci s využitím mimotělního obě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4 - schválení podpůrného čerpadla LVAD pro domácí použití do transplan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995 – pacient čekající na transplantaci s podpůrným čerpadlem HeartMate nastupuje do zaměstn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003 – první aplikace TAH v ČR – pacient po měsíci úspěšného provozu podstoupil transplantaci srd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Mimotělní obě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11280" y="105264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 začátku šedesátých let umožňuje operace na otevřeném srdci. Zásadním průlomem bylo vhodné čerpadlo, které nesmí obsahovat žádné vzájemně posuvné části z důvodu hemolýz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4360" y="2205000"/>
            <a:ext cx="806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84360" y="2131920"/>
            <a:ext cx="8064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ladičkové – hadicové čerpad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utor de Bakey – angl. roller pump) – používané rutinně i ve spojení s dalšími přístroji, vyžadujícími mimotělní cirkulaci krve – oxygenátor (umělá plíce), umělá ledvina.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čerpadl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adice v drážce</a:t>
            </a:r>
            <a:br>
              <a:rPr sz="2000"/>
            </a:br>
            <a:r>
              <a:rPr b="0" lang="cs-CZ" sz="1600" spc="-1" strike="noStrike">
                <a:solidFill>
                  <a:srgbClr val="33cc33"/>
                </a:solidFill>
                <a:latin typeface="Times New Roman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ygonová had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Picture 8" descr="podpora1"/>
          <p:cNvPicPr/>
          <p:nvPr/>
        </p:nvPicPr>
        <p:blipFill>
          <a:blip r:embed="rId1"/>
          <a:srcRect l="907" t="0" r="0" b="9459"/>
          <a:stretch/>
        </p:blipFill>
        <p:spPr>
          <a:xfrm>
            <a:off x="647640" y="3968640"/>
            <a:ext cx="3932280" cy="24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podpora2"/>
          <p:cNvPicPr/>
          <p:nvPr/>
        </p:nvPicPr>
        <p:blipFill>
          <a:blip r:embed="rId2"/>
          <a:stretch/>
        </p:blipFill>
        <p:spPr>
          <a:xfrm>
            <a:off x="5562720" y="4348080"/>
            <a:ext cx="196200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ff"/>
                </a:solidFill>
                <a:latin typeface="Times New Roman"/>
              </a:rPr>
              <a:t>Zapojení mimotělního oběhu,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ECMO (extra-corporal membrane oxygen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12" descr="u3v05"/>
          <p:cNvPicPr/>
          <p:nvPr/>
        </p:nvPicPr>
        <p:blipFill>
          <a:blip r:embed="rId1"/>
          <a:srcRect l="0" t="0" r="9374" b="0"/>
          <a:stretch/>
        </p:blipFill>
        <p:spPr>
          <a:xfrm>
            <a:off x="611280" y="1111320"/>
            <a:ext cx="4697280" cy="4640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5364000" y="1700280"/>
            <a:ext cx="338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2667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ití – při nedostatečné funkci plic: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nedostatečně vyvinuté plíce u novorozenců, slepené plicní sklípky tlakovou traumatizací při porodu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sttraumatická plicní nedostatečnost (poškození plic vniknutím vody při topení, popáleninami, žíravinou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Schéma napojení ECMO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na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22"/>
          <p:cNvSpPr/>
          <p:nvPr/>
        </p:nvSpPr>
        <p:spPr>
          <a:xfrm>
            <a:off x="611280" y="1268280"/>
            <a:ext cx="180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vrat okysličené krve do vzestupné aort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dběr krve z horní a dolní duté žíly</a:t>
            </a:r>
            <a:br>
              <a:rPr sz="1600"/>
            </a:b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Rectangle 22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231" descr="u3v06"/>
          <p:cNvPicPr/>
          <p:nvPr/>
        </p:nvPicPr>
        <p:blipFill>
          <a:blip r:embed="rId1"/>
          <a:stretch/>
        </p:blipFill>
        <p:spPr>
          <a:xfrm>
            <a:off x="2484360" y="1413000"/>
            <a:ext cx="6064200" cy="4746600"/>
          </a:xfrm>
          <a:prstGeom prst="rect">
            <a:avLst/>
          </a:prstGeom>
          <a:ln w="0">
            <a:noFill/>
          </a:ln>
        </p:spPr>
      </p:pic>
      <p:sp>
        <p:nvSpPr>
          <p:cNvPr id="62" name="Line 232"/>
          <p:cNvSpPr/>
          <p:nvPr/>
        </p:nvSpPr>
        <p:spPr>
          <a:xfrm>
            <a:off x="2268360" y="1773360"/>
            <a:ext cx="2951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33"/>
          <p:cNvSpPr/>
          <p:nvPr/>
        </p:nvSpPr>
        <p:spPr>
          <a:xfrm flipV="1">
            <a:off x="2268360" y="2708280"/>
            <a:ext cx="2232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34"/>
          <p:cNvSpPr/>
          <p:nvPr/>
        </p:nvSpPr>
        <p:spPr>
          <a:xfrm>
            <a:off x="2124000" y="436572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Princip aortokoronárního bypas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11280" y="1052640"/>
            <a:ext cx="331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amaro-koronární bypas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lepší dlouhodobá průchodnost, a. mamaria interna má vysoko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zistenci vůči vzniku aterosklerózy)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vytvořené z velké kryté žíly (vena saphena magna) nebo a. radialis, napojené na vzestupnou aortu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ypassy obnovují krevní zásobení věnčitých tepen, pokud ještě nedošlo k nekróze příslušné části myokardu (viabilní, hibernovaný myokard, který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e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kontrahuj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8" name="Picture 10" descr="u3v09"/>
          <p:cNvPicPr/>
          <p:nvPr/>
        </p:nvPicPr>
        <p:blipFill>
          <a:blip r:embed="rId1"/>
          <a:stretch/>
        </p:blipFill>
        <p:spPr>
          <a:xfrm>
            <a:off x="3828960" y="949320"/>
            <a:ext cx="4488120" cy="5143680"/>
          </a:xfrm>
          <a:prstGeom prst="rect">
            <a:avLst/>
          </a:prstGeom>
          <a:ln w="0">
            <a:noFill/>
          </a:ln>
        </p:spPr>
      </p:pic>
      <p:sp>
        <p:nvSpPr>
          <p:cNvPr id="69" name="Line 11"/>
          <p:cNvSpPr/>
          <p:nvPr/>
        </p:nvSpPr>
        <p:spPr>
          <a:xfrm>
            <a:off x="3492360" y="1484280"/>
            <a:ext cx="352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 flipV="1">
            <a:off x="3564000" y="2492280"/>
            <a:ext cx="2736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 flipV="1">
            <a:off x="3564000" y="2924280"/>
            <a:ext cx="28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564000" y="314172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Princip použití aortálního balónku 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(IABP – intra-aortic baloon pu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11280" y="1339920"/>
            <a:ext cx="338436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alónek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 zaváděný z arteria iliaca nebo femorali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klus řízený snímaným EKG pacienta – dvojí účinek: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) Po uzavření aortální chlopně (začátek diastoly) nafukování balónku omezuje průtok krve aortou – zvýšení prokrvení koronárních tepen a mozku).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) Na začátku systoly náhlé odsátí balónku  - podtlakový efekt ulehčuje srdci a přebírá část srdeční práce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6" name="Picture 11" descr="u3v15"/>
          <p:cNvPicPr/>
          <p:nvPr/>
        </p:nvPicPr>
        <p:blipFill>
          <a:blip r:embed="rId1"/>
          <a:srcRect l="53520" t="0" r="0" b="8907"/>
          <a:stretch/>
        </p:blipFill>
        <p:spPr>
          <a:xfrm>
            <a:off x="4255920" y="1197000"/>
            <a:ext cx="4203720" cy="5084640"/>
          </a:xfrm>
          <a:prstGeom prst="rect">
            <a:avLst/>
          </a:prstGeom>
          <a:ln w="0">
            <a:noFill/>
          </a:ln>
        </p:spPr>
      </p:pic>
      <p:sp>
        <p:nvSpPr>
          <p:cNvPr id="77" name="Line 12"/>
          <p:cNvSpPr/>
          <p:nvPr/>
        </p:nvSpPr>
        <p:spPr>
          <a:xfrm>
            <a:off x="3995640" y="155736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3995640" y="2349360"/>
            <a:ext cx="230508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rukční princip čerpadla Hemop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u3v18"/>
          <p:cNvPicPr/>
          <p:nvPr/>
        </p:nvPicPr>
        <p:blipFill>
          <a:blip r:embed="rId1"/>
          <a:srcRect l="5371" t="0" r="5371" b="0"/>
          <a:stretch/>
        </p:blipFill>
        <p:spPr>
          <a:xfrm>
            <a:off x="3203640" y="836640"/>
            <a:ext cx="5078520" cy="54039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95280" y="1268280"/>
            <a:ext cx="2303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tet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chlopeň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rpadlo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lé axiální čerpadlo (velikosti plnicího pera) se zavádí pomocí katetru do aortální chlopně, kde při 17.000 až 25.000 ot./min čerpá až 3,5 l/min, čímž přebírá až 80% srdeční práce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 flipV="1">
            <a:off x="2700360" y="134100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627280" y="2060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771640" y="2708280"/>
            <a:ext cx="1944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700360" y="2708280"/>
            <a:ext cx="4680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4-24T09:21:27Z</dcterms:modified>
  <cp:revision>295</cp:revision>
  <dc:subject/>
  <dc:title>Biomechanics  of smooth muscle cells </dc:title>
</cp:coreProperties>
</file>