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048-EC78-40B4-BF5B-9276D50C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FC3-7F47-48D5-8F47-B99A12A2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8542-0D94-43DC-8612-E029956A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E957-F2FC-4FB6-9834-BE2E9A64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272-C04A-4389-9B02-93ABEAE5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A08-0E86-4796-AA26-DF9EC179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939-5997-473A-9FEF-5AEBEA8A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593-37F5-427D-A83C-2EA1C199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5DB9-E2D1-4B11-9DB2-ED3D8792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0AD-354D-4AED-84CC-E14F789F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89A-39BD-4A04-959D-CE981063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6A6D-F54F-4495-A2DD-B72DF912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E818-7787-4533-BF00-CB92EBE2C25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odmínky vnitřní statické určitosti a neurčitosti prutových sousta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cká určitost ve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cká neurčitost ve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cká určitost ve 2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cká neurčitost ve 2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vzp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styč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to podmínky se běžně používají pro orientační posouzení statické určitosti prutových soustav, selhávají však u výjimkových konfigur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829040" y="1916280"/>
                <a:ext cx="2479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∗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859280" y="2492280"/>
                <a:ext cx="25704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∗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809960" y="3068640"/>
                <a:ext cx="2570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788000" y="3716280"/>
                <a:ext cx="2570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3:59:23Z</dcterms:created>
  <dc:creator>Jiří Burša</dc:creator>
  <dc:description/>
  <dc:language>en-US</dc:language>
  <cp:lastModifiedBy>Jiří Burša</cp:lastModifiedBy>
  <dcterms:modified xsi:type="dcterms:W3CDTF">2007-01-08T17:13:15Z</dcterms:modified>
  <cp:revision>2</cp:revision>
  <dc:subject/>
  <dc:title>Podmínky vnitřní statické určitosti a neurčitosti prutových soustav</dc:title>
</cp:coreProperties>
</file>