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138-9ACF-4F4E-A50E-FC3ABC22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22D-CFF9-4E3B-B1A3-3F508E34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2A95-D09F-442F-97AE-7620FAF6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276D-FA76-496C-9CAB-AE2B2C31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242-C3E8-46FC-ADB8-83386F93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7D9-BF69-4C4B-A34E-5C656C31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BC22-4784-461E-88FF-3107B5AF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4F6F-521D-46A1-92B2-E14C7DB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201-E6D3-407F-9BDC-BE68B8F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2ED6-0572-49E5-B790-A52CAE45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A70-DBBF-4820-B7FE-857D4C4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0B0-F3FB-4CF7-9B69-1A92EA2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0882-6739-4C1B-B71C-54ED8A035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ý stret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92360" y="1700280"/>
            <a:ext cx="5905080" cy="3239280"/>
            <a:chOff x="1692360" y="1700280"/>
            <a:chExt cx="5905080" cy="3239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66520" y="2123280"/>
              <a:ext cx="558684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285280" y="250524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9880" y="2128680"/>
              <a:ext cx="1529280" cy="6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zatížená buň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63120" y="2302920"/>
              <a:ext cx="227232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erový paprse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9352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49560" y="4473000"/>
              <a:ext cx="138924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ké vlák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92360" y="1700280"/>
              <a:ext cx="5905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47640" y="5229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ho stretche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12:29Z</dcterms:modified>
  <cp:revision>2</cp:revision>
  <dc:subject/>
  <dc:title>Optická pinzeta</dc:title>
</cp:coreProperties>
</file>