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C6B-1FE3-4EA6-BB1E-FC66ABA7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A83-8C2D-4AB6-B99F-3EB9E1AE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D1D-1AA6-4BB7-934A-B211D648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D90-52C4-4AD4-80B1-09DB2AC8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72A-BFB9-41E4-B3D2-A7774BC6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4422-A0C9-4287-8274-25B3C02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EBB-7E28-4995-85FB-492CB98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329-D3FF-478C-8DD2-877D6D50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4CA-FD6D-420B-8938-6962147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C20-C98B-4109-8BE5-BCAC5EA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A46-D8FE-4226-BCE0-338D270F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028-CF9D-4A09-B19C-2762709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8DA7-D7B1-473F-9392-374B5370D6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Karcin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126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nádor, který se vyskytuje v trávicím nebo dýchacím systému (často v appendixu) a vzniká ze speciálních buněk s endokrinní funkcí. Je na hranici zhoubnosti. Vzácně produkuje látky (např. serotonin), které způsobují „vzdálené“ příznaky (dušnost, zrudnutí, průjmy, chlopenní vadu aj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5-hydroxytryptamin, 5-HT) je biologicky aktivní látka vznikající z aminokyseliny tryptofanu, jeden z biogenních aminů. Má význam též jako neurotransmiter v mozku, je obsažen v krevních destičkách a v dalších tkáních. Zúžením cév napomáhá zastavit krvácení, účastní se zánětlivých a alergických reakcí (zužuje průdušky) i některých dalších chorobných stavů, nadměrná množství někdy produkuje karcinoid. V mozku se jako neurotransmiter účastní též procesů podílejících se na vzniku nálady. Látky, které zasahují do jeho metabolismu v mozku, se užívají v psychiatrii (např. SSRI), v léčbě migrény 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3060720" y="22860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6:38Z</dcterms:modified>
  <cp:revision>247</cp:revision>
  <dc:subject/>
  <dc:title>Biomechanics  of smooth muscle cells </dc:title>
</cp:coreProperties>
</file>