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43E1-3E8D-4342-A0F3-185941F3F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038E-2F87-4C2D-8887-ABFD4715E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7BA6-49D2-4CB0-BE89-F7F075266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09F0-B551-4674-99CB-F2C823C43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3ADD-7EC4-407A-BE1D-B16C4721E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0AB9-CF49-4F32-A9BB-3D79C4128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CE13-53BB-4583-B9B6-F6EC4629C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B783-61B5-470A-BB9B-258EA7CF5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759D-ED23-4B3F-85AB-00FAAB8FD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0755-27A2-4FFD-9CD6-5A7172B4B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1B89-818E-4D90-8B3A-5769618C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511A-D9FF-4800-9B04-41675DC5A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727F0-15FE-43DD-9130-C2CE792D36A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412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333399"/>
                </a:solidFill>
                <a:latin typeface="Times New Roman"/>
              </a:rPr>
              <a:t>Základní typy arteriálních stentů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75"/>
          <p:cNvSpPr/>
          <p:nvPr/>
        </p:nvSpPr>
        <p:spPr>
          <a:xfrm>
            <a:off x="468360" y="2651040"/>
            <a:ext cx="8229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3" name="Rectangle 224"/>
          <p:cNvSpPr/>
          <p:nvPr/>
        </p:nvSpPr>
        <p:spPr>
          <a:xfrm>
            <a:off x="457200" y="1960560"/>
            <a:ext cx="8218440" cy="45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odle způsobu  roztažení</a:t>
            </a:r>
            <a:endParaRPr b="0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lvl="1" marL="1077840" indent="-533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alonkem roztažitelné – založeny na plastické deformaci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lvl="1" marL="1077840" indent="-533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amoroztažitelné – založeny na elastické deformaci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lvl="1" marL="1077840" indent="-533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iflexní – založeny na změně tvarové stability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odle technologie výroby </a:t>
            </a:r>
            <a:endParaRPr b="0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lvl="1" marL="1077840" indent="-533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rubičkové 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lvl="1" marL="1077840" indent="-533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rátěné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3. Podle povrchové úpravy</a:t>
            </a:r>
            <a:endParaRPr b="0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lvl="1" marL="1077840" indent="-533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ez zvláštní úpravy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lvl="1" marL="1077840" indent="-533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tažené (coated stents)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44" name="Obrázek 6" descr=""/>
          <p:cNvPicPr/>
          <p:nvPr/>
        </p:nvPicPr>
        <p:blipFill>
          <a:blip r:embed="rId1"/>
          <a:stretch/>
        </p:blipFill>
        <p:spPr>
          <a:xfrm>
            <a:off x="108000" y="84240"/>
            <a:ext cx="575928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5640" y="274680"/>
            <a:ext cx="79200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Times New Roman"/>
              </a:rPr>
              <a:t>Biflexní stent</a:t>
            </a:r>
            <a:br>
              <a:rPr sz="4000"/>
            </a:br>
            <a:r>
              <a:rPr b="0" lang="cs-CZ" sz="2800" spc="-1" strike="noStrike">
                <a:solidFill>
                  <a:srgbClr val="333399"/>
                </a:solidFill>
                <a:latin typeface="Times New Roman"/>
              </a:rPr>
              <a:t>v expandovaném stavu</a:t>
            </a:r>
            <a:r>
              <a:rPr b="0" lang="cs-CZ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333399"/>
                </a:solidFill>
                <a:latin typeface="Times New Roman"/>
              </a:rPr>
              <a:t>      zmáčknutý pro zavádě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Stent-biflex1"/>
          <p:cNvPicPr/>
          <p:nvPr/>
        </p:nvPicPr>
        <p:blipFill>
          <a:blip r:embed="rId1"/>
          <a:stretch/>
        </p:blipFill>
        <p:spPr>
          <a:xfrm>
            <a:off x="826920" y="1844640"/>
            <a:ext cx="724536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6868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Times New Roman"/>
              </a:rPr>
              <a:t>Porovnání výsledku angioplastiky se sten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980640"/>
            <a:ext cx="3538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Řez tepnou po arterioplas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říčn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déln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Řez tepnou po aplikaci st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déln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říčn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u3v01"/>
          <p:cNvPicPr/>
          <p:nvPr/>
        </p:nvPicPr>
        <p:blipFill>
          <a:blip r:embed="rId1"/>
          <a:stretch/>
        </p:blipFill>
        <p:spPr>
          <a:xfrm>
            <a:off x="4156200" y="1052640"/>
            <a:ext cx="4160880" cy="5130720"/>
          </a:xfrm>
          <a:prstGeom prst="rect">
            <a:avLst/>
          </a:prstGeom>
          <a:ln w="0">
            <a:noFill/>
          </a:ln>
        </p:spPr>
      </p:pic>
      <p:sp>
        <p:nvSpPr>
          <p:cNvPr id="82" name="Line 6"/>
          <p:cNvSpPr/>
          <p:nvPr/>
        </p:nvSpPr>
        <p:spPr>
          <a:xfrm flipV="1">
            <a:off x="3924360" y="1557000"/>
            <a:ext cx="93492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3" name="Line 7"/>
          <p:cNvSpPr/>
          <p:nvPr/>
        </p:nvSpPr>
        <p:spPr>
          <a:xfrm>
            <a:off x="3995640" y="2997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4" name="Line 8"/>
          <p:cNvSpPr/>
          <p:nvPr/>
        </p:nvSpPr>
        <p:spPr>
          <a:xfrm flipV="1">
            <a:off x="3924360" y="4581360"/>
            <a:ext cx="136836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5" name="Line 9"/>
          <p:cNvSpPr/>
          <p:nvPr/>
        </p:nvSpPr>
        <p:spPr>
          <a:xfrm flipV="1">
            <a:off x="3995640" y="5805000"/>
            <a:ext cx="295272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Times New Roman"/>
              </a:rPr>
              <a:t>Potažené koronární stenty </a:t>
            </a:r>
            <a:r>
              <a:rPr b="1" lang="cs-CZ" sz="2800" spc="-1" strike="noStrike">
                <a:solidFill>
                  <a:srgbClr val="333399"/>
                </a:solidFill>
                <a:latin typeface="Times New Roman"/>
              </a:rPr>
              <a:t>(coated st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Zavedeny v 90. letech, velmi rychlé rozšíře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Times New Roman"/>
              </a:rPr>
              <a:t>Restenózy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ři použití stentů v 11-17% případů, výhradně v 1. roce, nejčastěji během 6 měsíců. Jsou způsobeny zánětlivou reakcí tkáně na trauma při zavedení stentu, pronikáním buněk hladkých svalů z medie do neointimy, kde se množí a produkují extracelulární matrix, čímž zmenšují lumen. Na tom se podílí i krevní destičky a fibr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ostupy pro redukci </a:t>
            </a: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in-stent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restenóz - nejnadějnější stenty s povrchem pokrytým chemickými látkami (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coated stents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). K pokrytí se používaj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anorganické látky -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karbid křemíku, uhlík v různých formách - lepší biokompatibili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organické látk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ETF - neosvědčil se, působí prozánětlivě, nadměrná tvorba neointim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fosforylcholin - možnost vázat na něj léky (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drug eluting stents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). Ty se postupně uvolňují, možnost lokálního a dlouhodobého protizánětlivého působe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Times New Roman"/>
              </a:rPr>
              <a:t>Stentgraf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ombinace cévní protézy a stentu. Umožňují méně invazívní aplikace cévních protéz - důležité u pacientů kontraindikovaných ke klasické operac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oužití - nejvíce bifurkační stentgraft pro exkluzi (vyřazení) vaku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aneurysmatu břišní aorty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. Zavádění cestou femorálních nebo ilických arterií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aaa2"/>
          <p:cNvPicPr/>
          <p:nvPr/>
        </p:nvPicPr>
        <p:blipFill>
          <a:blip r:embed="rId1"/>
          <a:stretch/>
        </p:blipFill>
        <p:spPr>
          <a:xfrm>
            <a:off x="971640" y="2075040"/>
            <a:ext cx="7345440" cy="42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Times New Roman"/>
              </a:rPr>
              <a:t>Stentgraf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aaa1"/>
          <p:cNvPicPr/>
          <p:nvPr/>
        </p:nvPicPr>
        <p:blipFill>
          <a:blip r:embed="rId1"/>
          <a:stretch/>
        </p:blipFill>
        <p:spPr>
          <a:xfrm>
            <a:off x="1116000" y="888840"/>
            <a:ext cx="7056360" cy="56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6868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Times New Roman"/>
              </a:rPr>
              <a:t>Trubičkový balonkem roztažitelný st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u3v20"/>
          <p:cNvPicPr/>
          <p:nvPr/>
        </p:nvPicPr>
        <p:blipFill>
          <a:blip r:embed="rId1"/>
          <a:stretch/>
        </p:blipFill>
        <p:spPr>
          <a:xfrm>
            <a:off x="1042920" y="1052640"/>
            <a:ext cx="678024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6868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Times New Roman"/>
              </a:rPr>
              <a:t>Drátěný balonkem roztažitelný st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u3v21"/>
          <p:cNvPicPr/>
          <p:nvPr/>
        </p:nvPicPr>
        <p:blipFill>
          <a:blip r:embed="rId1"/>
          <a:srcRect l="0" t="0" r="0" b="15843"/>
          <a:stretch/>
        </p:blipFill>
        <p:spPr>
          <a:xfrm>
            <a:off x="900000" y="1052640"/>
            <a:ext cx="720576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6868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Times New Roman"/>
              </a:rPr>
              <a:t>Balonkem roztažitelné stenty - aplik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u3v08"/>
          <p:cNvPicPr/>
          <p:nvPr/>
        </p:nvPicPr>
        <p:blipFill>
          <a:blip r:embed="rId1"/>
          <a:stretch/>
        </p:blipFill>
        <p:spPr>
          <a:xfrm>
            <a:off x="571680" y="1413000"/>
            <a:ext cx="7961040" cy="46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6868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Times New Roman"/>
              </a:rPr>
              <a:t>Samoroztažitelný drátěný st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u3v03"/>
          <p:cNvPicPr/>
          <p:nvPr/>
        </p:nvPicPr>
        <p:blipFill>
          <a:blip r:embed="rId1"/>
          <a:stretch/>
        </p:blipFill>
        <p:spPr>
          <a:xfrm>
            <a:off x="468360" y="1098720"/>
            <a:ext cx="6981840" cy="52099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6"/>
          <p:cNvSpPr/>
          <p:nvPr/>
        </p:nvSpPr>
        <p:spPr>
          <a:xfrm>
            <a:off x="7451640" y="3327480"/>
            <a:ext cx="1584360" cy="27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rozvinutý stav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nerozvinutý stav 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ři zavádění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katetrem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4" name="Line 7"/>
          <p:cNvSpPr/>
          <p:nvPr/>
        </p:nvSpPr>
        <p:spPr>
          <a:xfrm flipH="1" flipV="1">
            <a:off x="6227640" y="3213000"/>
            <a:ext cx="122400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5" name="Line 8"/>
          <p:cNvSpPr/>
          <p:nvPr/>
        </p:nvSpPr>
        <p:spPr>
          <a:xfrm flipH="1">
            <a:off x="5435640" y="4724280"/>
            <a:ext cx="1944720" cy="57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6868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Times New Roman"/>
              </a:rPr>
              <a:t>Drátěný stent s vynikající ohebnos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7020000" y="1844640"/>
            <a:ext cx="1584360" cy="27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58" name="Picture 8" descr="u3v02"/>
          <p:cNvPicPr/>
          <p:nvPr/>
        </p:nvPicPr>
        <p:blipFill>
          <a:blip r:embed="rId1"/>
          <a:stretch/>
        </p:blipFill>
        <p:spPr>
          <a:xfrm>
            <a:off x="684360" y="1069920"/>
            <a:ext cx="5941800" cy="51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6868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Times New Roman"/>
              </a:rPr>
              <a:t>Princip změny tvarové sta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0" descr="u3v25"/>
          <p:cNvPicPr/>
          <p:nvPr/>
        </p:nvPicPr>
        <p:blipFill>
          <a:blip r:embed="rId1"/>
          <a:stretch/>
        </p:blipFill>
        <p:spPr>
          <a:xfrm>
            <a:off x="457200" y="1557360"/>
            <a:ext cx="822960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54208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Times New Roman"/>
              </a:rPr>
              <a:t>Závislost síly a deformace </a:t>
            </a:r>
            <a:br>
              <a:rPr sz="3600"/>
            </a:br>
            <a:r>
              <a:rPr b="0" lang="cs-CZ" sz="3600" spc="-1" strike="noStrike">
                <a:solidFill>
                  <a:srgbClr val="333399"/>
                </a:solidFill>
                <a:latin typeface="Times New Roman"/>
              </a:rPr>
              <a:t>při změně tvarové sta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u3v25"/>
          <p:cNvPicPr/>
          <p:nvPr/>
        </p:nvPicPr>
        <p:blipFill>
          <a:blip r:embed="rId1"/>
          <a:srcRect l="58766" t="49705" r="0" b="0"/>
          <a:stretch/>
        </p:blipFill>
        <p:spPr>
          <a:xfrm>
            <a:off x="755640" y="1484280"/>
            <a:ext cx="7402680" cy="4452840"/>
          </a:xfrm>
          <a:prstGeom prst="rect">
            <a:avLst/>
          </a:prstGeom>
          <a:ln w="0">
            <a:noFill/>
          </a:ln>
        </p:spPr>
      </p:pic>
      <p:sp>
        <p:nvSpPr>
          <p:cNvPr id="63" name="Line 4"/>
          <p:cNvSpPr/>
          <p:nvPr/>
        </p:nvSpPr>
        <p:spPr>
          <a:xfrm>
            <a:off x="2124000" y="3716280"/>
            <a:ext cx="2879640" cy="936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4" name="Line 5"/>
          <p:cNvSpPr/>
          <p:nvPr/>
        </p:nvSpPr>
        <p:spPr>
          <a:xfrm flipH="1" flipV="1">
            <a:off x="3348000" y="2708280"/>
            <a:ext cx="2952720" cy="1008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5" name="Line 6"/>
          <p:cNvSpPr/>
          <p:nvPr/>
        </p:nvSpPr>
        <p:spPr>
          <a:xfrm flipV="1">
            <a:off x="5003640" y="3500280"/>
            <a:ext cx="0" cy="1152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6" name="Line 7"/>
          <p:cNvSpPr/>
          <p:nvPr/>
        </p:nvSpPr>
        <p:spPr>
          <a:xfrm flipV="1">
            <a:off x="5003640" y="3284280"/>
            <a:ext cx="0" cy="215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7" name="Line 8"/>
          <p:cNvSpPr/>
          <p:nvPr/>
        </p:nvSpPr>
        <p:spPr>
          <a:xfrm>
            <a:off x="3348000" y="2708280"/>
            <a:ext cx="0" cy="79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8" name="Line 9"/>
          <p:cNvSpPr/>
          <p:nvPr/>
        </p:nvSpPr>
        <p:spPr>
          <a:xfrm>
            <a:off x="3348000" y="3500280"/>
            <a:ext cx="0" cy="649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9" name="Line 10"/>
          <p:cNvSpPr/>
          <p:nvPr/>
        </p:nvSpPr>
        <p:spPr>
          <a:xfrm flipV="1">
            <a:off x="5003640" y="3716280"/>
            <a:ext cx="1297080" cy="93672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0" name="Line 11"/>
          <p:cNvSpPr/>
          <p:nvPr/>
        </p:nvSpPr>
        <p:spPr>
          <a:xfrm flipH="1">
            <a:off x="2124000" y="2708280"/>
            <a:ext cx="1224000" cy="93672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1" name="Line 13"/>
          <p:cNvSpPr/>
          <p:nvPr/>
        </p:nvSpPr>
        <p:spPr>
          <a:xfrm flipH="1">
            <a:off x="4066920" y="4149720"/>
            <a:ext cx="93636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2" name="Line 14"/>
          <p:cNvSpPr/>
          <p:nvPr/>
        </p:nvSpPr>
        <p:spPr>
          <a:xfrm>
            <a:off x="5435640" y="4365720"/>
            <a:ext cx="7308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3" name="Text Box 15"/>
          <p:cNvSpPr/>
          <p:nvPr/>
        </p:nvSpPr>
        <p:spPr>
          <a:xfrm>
            <a:off x="2627280" y="5877000"/>
            <a:ext cx="136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deformační zatěžování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4" name="Text Box 16"/>
          <p:cNvSpPr/>
          <p:nvPr/>
        </p:nvSpPr>
        <p:spPr>
          <a:xfrm>
            <a:off x="5508720" y="5229360"/>
            <a:ext cx="136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silové zatěžování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27236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Times New Roman"/>
              </a:rPr>
              <a:t>Základní konstrukční jednotka </a:t>
            </a:r>
            <a:br>
              <a:rPr sz="4000"/>
            </a:br>
            <a:r>
              <a:rPr b="0" lang="cs-CZ" sz="4000" spc="-1" strike="noStrike">
                <a:solidFill>
                  <a:srgbClr val="333399"/>
                </a:solidFill>
                <a:latin typeface="Times New Roman"/>
              </a:rPr>
              <a:t>biflexního sten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u3v26"/>
          <p:cNvPicPr/>
          <p:nvPr/>
        </p:nvPicPr>
        <p:blipFill>
          <a:blip r:embed="rId1"/>
          <a:stretch/>
        </p:blipFill>
        <p:spPr>
          <a:xfrm>
            <a:off x="457200" y="2060640"/>
            <a:ext cx="8362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06:35:38Z</dcterms:created>
  <dc:creator>Ing. Jiří Burša</dc:creator>
  <dc:description/>
  <dc:language>en-US</dc:language>
  <cp:lastModifiedBy>Jiří Burša</cp:lastModifiedBy>
  <dcterms:modified xsi:type="dcterms:W3CDTF">2011-09-05T08:12:32Z</dcterms:modified>
  <cp:revision>257</cp:revision>
  <dc:subject/>
  <dc:title>Biomechanics  of smooth muscle cells </dc:title>
</cp:coreProperties>
</file>