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0BD-84E5-4D14-901A-4D4870A2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7E1F-DA1F-45C2-B2D1-4C8331A8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811-7018-4B56-AF34-063A54FA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8D2-4F99-4288-A129-55DECA37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36A-FAE4-4F6A-8B31-97B706A1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663-EC7D-4F77-A15F-E82F663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82F-6B47-4F00-ACC7-DDA55D98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C9D-62EC-4CBF-9CF1-98646694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732-4FE6-4634-969B-8818055A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B24D-F0E3-437B-A456-62C3008F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976-24C2-4BB7-A97B-ADC3A3A4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7B1-72D9-4F8B-9A12-C3D94D97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D5D7-6DC1-40A0-99B4-F20EAB94477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Histologie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imes New Roman"/>
              </a:rPr>
              <a:t>Nejpodstatnější mechanické vlastnosti krve a cévní stěny ovlivňující krevní o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newtonská kapalin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neřídí se Newtonovým zákonem viskoz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rážlivost (tvorba tromb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molýza (poškozování krevních tělís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stacionární proudění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dlišné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dobnostní kriteri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ktivní chování stěny – proměnný průtočný od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měnná geometrie stěny v důsledku zatížení a velkých deform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ožení krv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množství v těle 5-6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plazma –koloidní suspenze bílko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revní tělí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é krvinky (erytrocyty) – tvar bikonkávního disku o průměru 8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množství cca 5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ílé krvinky (leukocyty) – kulový tvar, průměr 10-15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m, počet cca 6.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evní destičky (trombocyty) – tyčinkovitý tvar velikost 2 – 4 </a:t>
            </a:r>
            <a:r>
              <a:rPr b="0" lang="cs-CZ" sz="1800" spc="-1" strike="noStrike">
                <a:solidFill>
                  <a:srgbClr val="000000"/>
                </a:solidFill>
                <a:latin typeface="UniversalMath1 BT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, počet řádu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640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dlišnost rychlostního profilu krve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proti newtonské kapali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Zástupný symbol pro obsah 3" descr="Profil-laminarni.JPG"/>
          <p:cNvPicPr/>
          <p:nvPr/>
        </p:nvPicPr>
        <p:blipFill>
          <a:blip r:embed="rId1"/>
          <a:stretch/>
        </p:blipFill>
        <p:spPr>
          <a:xfrm>
            <a:off x="250920" y="1285920"/>
            <a:ext cx="6429240" cy="5072040"/>
          </a:xfrm>
          <a:prstGeom prst="rect">
            <a:avLst/>
          </a:prstGeom>
          <a:ln w="0">
            <a:noFill/>
          </a:ln>
        </p:spPr>
      </p:pic>
      <p:pic>
        <p:nvPicPr>
          <p:cNvPr id="89" name="Obrázek 4" descr="Profil-krev.JPG"/>
          <p:cNvPicPr/>
          <p:nvPr/>
        </p:nvPicPr>
        <p:blipFill>
          <a:blip r:embed="rId2"/>
          <a:stretch/>
        </p:blipFill>
        <p:spPr>
          <a:xfrm>
            <a:off x="6323040" y="2571840"/>
            <a:ext cx="23526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418608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Ovlivnění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ychlostního profilu částicemi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rozptýlenými v kapalin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Zástupný symbol pro obsah 6" descr="Krev_rychlostní_profil.JPG"/>
          <p:cNvPicPr/>
          <p:nvPr/>
        </p:nvPicPr>
        <p:blipFill>
          <a:blip r:embed="rId1"/>
          <a:stretch/>
        </p:blipFill>
        <p:spPr>
          <a:xfrm>
            <a:off x="4960800" y="236520"/>
            <a:ext cx="37544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71360"/>
            <a:ext cx="83296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důsledkem nenewtonských vlastností krve. Modifikací rychlostního profilu dochází ke koncentraci erytrocytů v centrální části trubice a snižování hematokritu v blízkosti stěny. Proto je v malých odbočkách hematokrit nižší než v mateřské tepně – znatelně se projevuje u tepen s průměr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0,5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ástupný symbol pro obsah 3"/>
          <p:cNvSpPr/>
          <p:nvPr/>
        </p:nvSpPr>
        <p:spPr>
          <a:xfrm>
            <a:off x="285840" y="2500200"/>
            <a:ext cx="235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ánlivé viskozity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průměru tepn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5" descr="viskozita_zdánlivá.JPG"/>
          <p:cNvPicPr/>
          <p:nvPr/>
        </p:nvPicPr>
        <p:blipFill>
          <a:blip r:embed="rId1"/>
          <a:stretch/>
        </p:blipFill>
        <p:spPr>
          <a:xfrm>
            <a:off x="2374920" y="2395440"/>
            <a:ext cx="634032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Fahraeusův-Lindquistův ef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6" descr="hematokrit.JPG"/>
          <p:cNvPicPr/>
          <p:nvPr/>
        </p:nvPicPr>
        <p:blipFill>
          <a:blip r:embed="rId1"/>
          <a:stretch/>
        </p:blipFill>
        <p:spPr>
          <a:xfrm>
            <a:off x="1428840" y="1857240"/>
            <a:ext cx="6083280" cy="4508640"/>
          </a:xfrm>
          <a:prstGeom prst="rect">
            <a:avLst/>
          </a:prstGeom>
          <a:ln w="0">
            <a:noFill/>
          </a:ln>
        </p:spPr>
      </p:pic>
      <p:sp>
        <p:nvSpPr>
          <p:cNvPr id="98" name="Zástupný symbol pro obsah 3"/>
          <p:cNvSpPr/>
          <p:nvPr/>
        </p:nvSpPr>
        <p:spPr>
          <a:xfrm>
            <a:off x="285840" y="1071720"/>
            <a:ext cx="83581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vislost relativního hematokritu v dceřinné tepně na hematokritu v tepně mateřské. Parametrem je průměr dceřinné tepny v mikrometrech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ástupný symbol pro obsah 3"/>
          <p:cNvSpPr/>
          <p:nvPr/>
        </p:nvSpPr>
        <p:spPr>
          <a:xfrm>
            <a:off x="609480" y="2000160"/>
            <a:ext cx="822960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proudění je určován podle Reynoldsova čísla. To přesahuje kritickou hodnotu (2320) pouze v oblasti aortální chlopně při systole (až 8000), jinak jsou všude hodnoty podkritické. Vzhledem k pulzujícímu charakteru proudění v tepnách je proudění všude laminární, s výjimkou úplavů, např. za nedokonalými chlopněmi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nestacionární proudění krve (periodický, neharmonický průběh) je však třeba používat jin é podobnostní kriterium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09480" y="85716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Nestacionárnost proudění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odobnostní čí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3924360" y="198900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73200" y="134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jadřují poměr vybraných sil působících na kapalinu.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námé Reynoldsovo číslo vyjadřuje poměr setrvačných a viskózních sil při stacionárním proudění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63480" y="2997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měr setrvačných a viskózních sil při pulzačním proudění vyjadřuje podobnostní číslo zvané „Womersley parameter“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4537080" y="2060640"/>
                <a:ext cx="10429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d</m:t>
                        </m:r>
                      </m:num>
                      <m:den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1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3240000" y="3738600"/>
                <a:ext cx="1692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o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Rectangle 12"/>
          <p:cNvSpPr/>
          <p:nvPr/>
        </p:nvSpPr>
        <p:spPr>
          <a:xfrm>
            <a:off x="1187280" y="4724280"/>
            <a:ext cx="5761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 - poloměr trubi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ω - úhlová frekvence pulzačního proudění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ν - kinematická viskozita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:\Biomechanika-obrázky+video\Copak to je.jpg"/>
          <p:cNvPicPr/>
          <p:nvPr/>
        </p:nvPicPr>
        <p:blipFill>
          <a:blip r:embed="rId1"/>
          <a:stretch/>
        </p:blipFill>
        <p:spPr>
          <a:xfrm>
            <a:off x="468360" y="765000"/>
            <a:ext cx="83246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Times New Roman"/>
              </a:rPr>
              <a:t>Hemolý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oškozování krevních tělíse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ředevším erytrocytů. K porušení membrány erytrocytu stačí smykové napětí řádu desítek Pascalů (může nastávat i při turbulenci). Nejvýznamnější hemolýza je způsobena umělými komponentami srdečně-cévní soustavy (chlopně, součásti mimotělního oběhu, podpůrná srdeční čerpadl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vantifikace se provádí na základě měření obsahu volného hemoglobinu v krvi – důležité kriterium kvality mechanických náh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673200" y="314172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ff"/>
                </a:solidFill>
                <a:latin typeface="Times New Roman"/>
              </a:rPr>
              <a:t>Srážlivost krve-tvorba trombů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4119480"/>
            <a:ext cx="822960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volávána krevními destičkami – trombocyty. Významné ovlivňující faktory jsou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izí tělesa (náhrady – druh materiálu, geometrie, povrchové opracování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rbulence – např. za stenózo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horšené vyplachování (nekróza části myokardu, aterosklerotické pláty, výdutě)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Členění nenewtonských kap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3933720"/>
            <a:ext cx="640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Nenewtonské"/>
          <p:cNvPicPr/>
          <p:nvPr/>
        </p:nvPicPr>
        <p:blipFill>
          <a:blip r:embed="rId2"/>
          <a:srcRect l="8963" t="9352" r="6784" b="17051"/>
          <a:stretch/>
        </p:blipFill>
        <p:spPr>
          <a:xfrm>
            <a:off x="250920" y="1700280"/>
            <a:ext cx="5400720" cy="396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4557600" y="3419640"/>
            <a:ext cx="28800" cy="1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369720" y="1484280"/>
            <a:ext cx="457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τ </a:t>
            </a:r>
            <a:r>
              <a:rPr b="0" lang="cs-CZ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5194440" y="5551560"/>
            <a:ext cx="31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γ</a:t>
            </a:r>
            <a:endParaRPr b="0" lang="en-US" sz="3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210280" y="5572080"/>
            <a:ext cx="65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●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5219640" y="1463760"/>
            <a:ext cx="331308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ne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inghamské (směsi – splašky, zubní pasta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seudoplastické (vliv orientace makromolekul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ntní (směsi např vody s pískem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 časově závislými vlastnostm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ixotropní (natěračské barvy, viskozita klesá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) reopexní (sádra, viskozita roste s dobou působení smykového napětí)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Rectangle 18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7"/>
              <p:cNvSpPr txBox="1"/>
              <p:nvPr/>
            </p:nvSpPr>
            <p:spPr>
              <a:xfrm>
                <a:off x="984240" y="907920"/>
                <a:ext cx="25797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limUpp>
                      <m:e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e>
                      <m:lim>
                        <m:sSup>
                          <m:e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sup>
                        </m:sSup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61" name="Text Box 23"/>
          <p:cNvSpPr/>
          <p:nvPr/>
        </p:nvSpPr>
        <p:spPr>
          <a:xfrm>
            <a:off x="395280" y="5950080"/>
            <a:ext cx="48974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ozn. :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ská kapalina - má konstanty: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n = 1 a k je dynamická viskozita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24"/>
          <p:cNvSpPr/>
          <p:nvPr/>
        </p:nvSpPr>
        <p:spPr>
          <a:xfrm flipV="1">
            <a:off x="1258920" y="4797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3924360" y="1916280"/>
            <a:ext cx="1800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Line 26"/>
          <p:cNvSpPr/>
          <p:nvPr/>
        </p:nvSpPr>
        <p:spPr>
          <a:xfrm flipH="1">
            <a:off x="3419640" y="2637000"/>
            <a:ext cx="23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Line 27"/>
          <p:cNvSpPr/>
          <p:nvPr/>
        </p:nvSpPr>
        <p:spPr>
          <a:xfrm flipH="1">
            <a:off x="4642920" y="3141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 </a:t>
            </a:r>
            <a:br>
              <a:rPr sz="3600"/>
            </a:br>
            <a:r>
              <a:rPr b="1" lang="cs-CZ" sz="2000" spc="-1" strike="noStrike">
                <a:solidFill>
                  <a:srgbClr val="333399"/>
                </a:solidFill>
                <a:latin typeface="Times New Roman"/>
              </a:rPr>
              <a:t>na rychlosti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Zástupný symbol pro obsah 4" descr="Viskozita_krve.JPG"/>
          <p:cNvPicPr/>
          <p:nvPr/>
        </p:nvPicPr>
        <p:blipFill>
          <a:blip r:embed="rId1"/>
          <a:stretch/>
        </p:blipFill>
        <p:spPr>
          <a:xfrm>
            <a:off x="3006720" y="1285920"/>
            <a:ext cx="592308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57120" y="1571760"/>
            <a:ext cx="29289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kles zdánlivé viskozity krve s rostoucí rychlostí deformace je dán tvorbou agregátů krevních tělísek  při nízkých smykových  rychlostech  a naopak jejich rozrušováním vyššími rychlostmi.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ozptyl zdánlivé viskozity je dán hlavně teplotní závislostí a rozdílným hematokritem (objemová koncentrace erytrocytů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Model reologických vlastností krve Car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1081080" y="1268280"/>
                <a:ext cx="70200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</m:acc>
                                    <m:r>
                                      <m:t xml:space="preserve">λ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8436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56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λ=3,31 s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η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∞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3,45 mPas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=0,375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del reologických vlastností krve Ca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95280" y="1341360"/>
            <a:ext cx="8507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založen na experimentálně zjištěné přibližně lineární závislosti mezi odmocninou ze smykového napětí a odmocninou z rychlosti úhlové deformac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3240000" y="2060640"/>
                <a:ext cx="1763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τ</m:t>
                        </m:r>
                      </m:e>
                    </m:ra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Rectangle 12"/>
          <p:cNvSpPr/>
          <p:nvPr/>
        </p:nvSpPr>
        <p:spPr>
          <a:xfrm>
            <a:off x="395280" y="2565360"/>
            <a:ext cx="8507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 níž jednoduchou úpravou dostaneme obvyklý tvar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3"/>
              <p:cNvSpPr txBox="1"/>
              <p:nvPr/>
            </p:nvSpPr>
            <p:spPr>
              <a:xfrm>
                <a:off x="1873080" y="3068640"/>
                <a:ext cx="5220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γ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s</m:t>
                                </m:r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so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eriálové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metr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Graf reologických vlastností k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755640" y="1365120"/>
          <a:ext cx="8064360" cy="47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65120"/>
                    <a:ext cx="80643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Závislost zdánlivé viskozity krve</a:t>
            </a:r>
            <a:br>
              <a:rPr sz="3600"/>
            </a:br>
            <a:r>
              <a:rPr b="1" lang="cs-CZ" sz="2400" spc="-1" strike="noStrike">
                <a:solidFill>
                  <a:srgbClr val="333399"/>
                </a:solidFill>
                <a:latin typeface="Times New Roman"/>
              </a:rPr>
              <a:t>na rychlosti úhlové deform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85800" y="1600200"/>
          <a:ext cx="7772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bursa</cp:lastModifiedBy>
  <dcterms:modified xsi:type="dcterms:W3CDTF">2013-02-27T08:11:24Z</dcterms:modified>
  <cp:revision>289</cp:revision>
  <dc:subject/>
  <dc:title>Biomechanics  of smooth muscle cells</dc:title>
</cp:coreProperties>
</file>