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563E-D0EE-4C65-BFA3-8E2F92DF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A0D-4DAE-47A5-A3DC-BAA973EC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A7E2-9C7A-47B2-BFE7-F0CFB1CD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DB7-1DE2-45F1-B356-CA537C7A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A97-34A3-4043-B092-761FEC28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4B4-D4C5-443F-924B-618000AC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3F0-5783-4E7E-BABD-D01C9F7E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64B-8172-427F-B055-AC81542E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307-AF70-4A5B-B4CA-0A23C3C9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4EF-23F6-4AF2-969D-1ED3EB7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099-3B4C-44B9-9213-428A2C95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B58-BA44-4A52-9EC3-2066291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231E-E5B8-4466-8726-CF982D14FD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001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epenná výduť (aneurys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539640" y="1989000"/>
            <a:ext cx="8280360" cy="45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to patologické rozšíření tepny, ohrožující život pacienta rizikem ruptury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jčastější lokality arteriálních aneurysmat 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ortální aneurysma - důsledek degradace elastinu, zánětlivých procesů, příp. i aterosklerotických změn, někdy původu infekčního nebo posttraumatického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eurysma břišní aorty (AAA – abdominal aortic aneurysm) – nejčastější, mezi odbočkami renálních tepen a bifurkací, kterou často přesahuje do kyčelních tepen.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eurysma mozkových tepen – často v oblasti větvení tepen s významnou dynamickou složkou tlaku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orfologické členění arteriálních aneurysmat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řetenovité aneurysma (časté u břišní aorty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kulární (vakovité) aneurysma (časté u mozkových tepen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1692360" y="299880"/>
            <a:ext cx="575928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Rizika aneurys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042920" y="907920"/>
            <a:ext cx="748980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neurysma břišní aorty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 - výskyt 2-6% dospělé popul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ptura aneurysmatu břišní aorty – krvácení do retriperitonea s úmrtností 50-70%, u plánovaných operací 3-15%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hlá mozková příhoda („mozková mrtvice“) může být dvojího typu: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schemická – nedostatečné prokrvení části mozku v důsledku zúžení některé tepny ateromatickým plátem nebo trombem (trombembolie)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rvácení do mozku – nejčastěji ruptury aneurysmat mozkových tepen, zvýšené riziko při zvýšení tlaku v mozkových tepnách (porod, bunjee-jumping).  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3" marL="1523880" indent="-152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obou případech vysoká úmrtnost.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Tepny moz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tepny_mozek0001"/>
          <p:cNvPicPr/>
          <p:nvPr/>
        </p:nvPicPr>
        <p:blipFill>
          <a:blip r:embed="rId1"/>
          <a:stretch/>
        </p:blipFill>
        <p:spPr>
          <a:xfrm>
            <a:off x="241128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web-books.com/eLibrary/Medicine/Cardiovascular/Images/aneurysm_cerebral.jpg"/>
          <p:cNvPicPr/>
          <p:nvPr/>
        </p:nvPicPr>
        <p:blipFill>
          <a:blip r:embed="rId1"/>
          <a:stretch/>
        </p:blipFill>
        <p:spPr>
          <a:xfrm>
            <a:off x="1476360" y="260280"/>
            <a:ext cx="5759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Aneurysma (výduť) břišní ao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9677" t="2784" r="12952" b="54622"/>
          <a:stretch/>
        </p:blipFill>
        <p:spPr>
          <a:xfrm>
            <a:off x="1116000" y="1628640"/>
            <a:ext cx="292572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rcRect l="19249" t="53948" r="12978" b="3444"/>
          <a:stretch/>
        </p:blipFill>
        <p:spPr>
          <a:xfrm>
            <a:off x="4932360" y="1557360"/>
            <a:ext cx="3184560" cy="4551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042920" y="90792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Zdravá část cévní soustavy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Výduť mezi renálními tepnami 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Times New Roman"/>
              </a:rPr>
              <a:t>a bifurkací aorty</a:t>
            </a: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Statistická pravděpodobnost přežití pacientů </a:t>
            </a:r>
            <a:br>
              <a:rPr sz="32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s AAA o průměru 4 cm a různou rychlostí rů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3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ff"/>
                </a:solidFill>
                <a:latin typeface="Times New Roman"/>
              </a:rPr>
              <a:t>Ošetření aneurysmatu břišní aorty stentgraf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aneurysm1"/>
          <p:cNvPicPr/>
          <p:nvPr/>
        </p:nvPicPr>
        <p:blipFill>
          <a:blip r:embed="rId1"/>
          <a:stretch/>
        </p:blipFill>
        <p:spPr>
          <a:xfrm>
            <a:off x="1258920" y="1052640"/>
            <a:ext cx="669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ff"/>
                </a:solidFill>
                <a:latin typeface="Times New Roman"/>
              </a:rPr>
              <a:t>Ošetření AAA </a:t>
            </a:r>
            <a:br>
              <a:rPr sz="3600"/>
            </a:b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klasickým chirurgickým zákro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19" descr="II (35).JPG"/>
          <p:cNvPicPr/>
          <p:nvPr/>
        </p:nvPicPr>
        <p:blipFill>
          <a:blip r:embed="rId1"/>
          <a:stretch/>
        </p:blipFill>
        <p:spPr>
          <a:xfrm>
            <a:off x="1116000" y="1500120"/>
            <a:ext cx="698508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287964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Výpočtový model AAA </a:t>
            </a:r>
            <a:br>
              <a:rPr sz="3600"/>
            </a:br>
            <a:r>
              <a:rPr b="0" lang="cs-CZ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rozložení redukovan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39640" y="1052640"/>
            <a:ext cx="71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2" name="Obrázek 8" descr="AAA von mises vs RRI.png"/>
          <p:cNvPicPr/>
          <p:nvPr/>
        </p:nvPicPr>
        <p:blipFill>
          <a:blip r:embed="rId1"/>
          <a:srcRect l="0" t="0" r="49125" b="0"/>
          <a:stretch/>
        </p:blipFill>
        <p:spPr>
          <a:xfrm>
            <a:off x="3419640" y="404640"/>
            <a:ext cx="5256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4-04T06:46:34Z</dcterms:modified>
  <cp:revision>271</cp:revision>
  <dc:subject/>
  <dc:title>Biomechanics  of smooth muscle cells </dc:title>
</cp:coreProperties>
</file>