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C434-7E8C-4DD8-A8DB-CF8D1AC5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F8E5-0204-494D-901C-6B03F8E3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4106-4CE4-42AA-99A9-FF2E5DD1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5C51-01DC-4134-855E-3194902F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211E-D57C-47C1-93B3-E7550AF8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A0DA-4CC5-4551-86E3-C18FA731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0BAF-584C-4319-A3A5-66374F3F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006B-A8B5-44F1-9C86-34CFCBAD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8218-885B-4D08-A3C1-ED19BE83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B1E7-3CA7-4D16-A40B-DC1227E7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D2FC-375A-4AF8-8971-6CFB71AF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28C8-232F-46C0-BBC3-6893C1AB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A18C-639E-4C6F-8333-6749D855A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Nexus (spojení gap junction) - schéma </a:t>
            </a:r>
            <a:br>
              <a:rPr sz="3600"/>
            </a:b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Spojení zajišťující</a:t>
            </a: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transport iontů, aminokyselin, sacharidů a jiných rozpuštěných látek mezi buňk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98760" y="2071800"/>
            <a:ext cx="6099120" cy="4525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19640" y="1989000"/>
            <a:ext cx="216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něčné membrá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92720" y="287640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něčná membrá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43640" y="3452760"/>
            <a:ext cx="107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onnexi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04000" y="4029120"/>
            <a:ext cx="1008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zavře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32720" y="4941720"/>
            <a:ext cx="1008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tevře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87280" y="4460760"/>
            <a:ext cx="1224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onnex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0000" y="6405480"/>
            <a:ext cx="2232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Mimobuněčný pro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08:54:35Z</dcterms:created>
  <dc:creator>Jiri Bursa</dc:creator>
  <dc:description/>
  <dc:language>en-US</dc:language>
  <cp:lastModifiedBy>Jiri Bursa</cp:lastModifiedBy>
  <dcterms:modified xsi:type="dcterms:W3CDTF">2007-01-07T10:46:04Z</dcterms:modified>
  <cp:revision>4</cp:revision>
  <dc:subject/>
  <dc:title>Schéma spojení gap junction  Spojení zajišťující transport iontů, aminokyselin, sacharidů a jiných rozpuštěných látek mezi buňkami</dc:title>
</cp:coreProperties>
</file>