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A715-E484-4775-B907-F3448AD2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9B6-C3FE-40B0-AE95-4725ACF5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C6B-41DB-4635-87CF-EBF73421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FEE-FF6E-469F-BAB9-633CF856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D8B-7CB3-4FFA-9555-F17E66B5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E84-E63F-497C-8846-B8423EEE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F1C-5F46-4C75-AEB3-4CFF926A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EB9-2D2D-48E3-B740-DE8E56B2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19B-6D92-4445-A801-3376975B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0B4-D682-4227-A927-4959C5B0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5CC-A076-4B87-9509-F3F30841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8E2-1EA1-49F6-B483-4BDACE51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AD3C-8640-4ECC-AF28-9236379589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epny.pd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87040"/>
            <a:ext cx="3035160" cy="12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ho zapojení v krevním oběh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3" name="Picture 12" descr="bmsc006"/>
          <p:cNvPicPr/>
          <p:nvPr/>
        </p:nvPicPr>
        <p:blipFill>
          <a:blip r:embed="rId1"/>
          <a:srcRect l="12908" t="9867" r="10816" b="33034"/>
          <a:stretch/>
        </p:blipFill>
        <p:spPr>
          <a:xfrm>
            <a:off x="3564000" y="1195560"/>
            <a:ext cx="5329080" cy="5329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3"/>
          <p:cNvSpPr/>
          <p:nvPr/>
        </p:nvSpPr>
        <p:spPr>
          <a:xfrm>
            <a:off x="385920" y="3141720"/>
            <a:ext cx="31780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S – le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K – le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– aort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DŽ – dol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DŽ – hor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S – pra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K- pra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T – plicní tepny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P – mezikomorová přepážka (septum)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P – síňová přepážka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1 – chlopeň mitr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 – chlopeň aort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3 – chlopeň trojcíp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4 – chlopeň plícni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Obrázek 5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96872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srdce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a jeho základní rozmě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85920" y="1413000"/>
            <a:ext cx="3178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S – le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LK – le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 – aort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DDŽ – dol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DŽ – horní dutá žíl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S – pravá síň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K- pravá komor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 – plícnice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A uzel – sinoatriální uzel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S – Hissův svazek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R – Tavarova raménka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V – Purkyňova vlákna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M – chlopeň mitr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A – chlopeň aortáln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T – chlopeň trojcíp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CHP – chlopeň plícnice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9" name="Picture 6" descr="bmsc0080001"/>
          <p:cNvPicPr/>
          <p:nvPr/>
        </p:nvPicPr>
        <p:blipFill>
          <a:blip r:embed="rId1"/>
          <a:srcRect l="7147" t="15630" r="3333" b="11622"/>
          <a:stretch/>
        </p:blipFill>
        <p:spPr>
          <a:xfrm>
            <a:off x="3851280" y="1122480"/>
            <a:ext cx="47656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Vznik vírů za semilunární chlopní v aortálním s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Obrázek 5" descr="proudění za chlopní.JPG"/>
          <p:cNvPicPr/>
          <p:nvPr/>
        </p:nvPicPr>
        <p:blipFill>
          <a:blip r:embed="rId1"/>
          <a:srcRect l="0" t="43085" r="0" b="0"/>
          <a:stretch/>
        </p:blipFill>
        <p:spPr>
          <a:xfrm>
            <a:off x="614520" y="1773360"/>
            <a:ext cx="784512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imes New Roman"/>
              </a:rPr>
              <a:t>Příčný řez pravou a levou srdeční komor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85920" y="907920"/>
            <a:ext cx="360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770200" y="1328760"/>
            <a:ext cx="5689440" cy="4044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95280" y="1413000"/>
            <a:ext cx="2305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e kontrakci dochází jednak v příčné rovině, jednak podélné (přiblížení hrotu s báze srdeční).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Čerpací výkonnost srdce: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5,5 l/min. v klidu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ž 25 l/min při námaze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očet cyklů celkově za život řádu miliard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rdeční ske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Srdeční_skelet"/>
          <p:cNvPicPr/>
          <p:nvPr/>
        </p:nvPicPr>
        <p:blipFill>
          <a:blip r:embed="rId1"/>
          <a:srcRect l="0" t="635" r="0" b="1614"/>
          <a:stretch/>
        </p:blipFill>
        <p:spPr>
          <a:xfrm>
            <a:off x="1189080" y="1628640"/>
            <a:ext cx="67658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chéma a názvy </a:t>
            </a:r>
            <a:r>
              <a:rPr b="0" lang="cs-CZ" sz="3200" spc="-1" strike="noStrike">
                <a:solidFill>
                  <a:srgbClr val="333399"/>
                </a:solidFill>
                <a:latin typeface="Times New Roman"/>
              </a:rPr>
              <a:t>velkých tepen tělního obě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68360" y="2651040"/>
            <a:ext cx="8229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rcRect l="10027" t="19744" r="52243" b="13986"/>
          <a:stretch/>
        </p:blipFill>
        <p:spPr>
          <a:xfrm>
            <a:off x="826920" y="836640"/>
            <a:ext cx="504036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5724360" y="981000"/>
            <a:ext cx="31784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Latinské názv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elkých tepen:</a:t>
            </a:r>
            <a:br>
              <a:rPr sz="1800"/>
            </a:br>
            <a:br>
              <a:rPr sz="18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polečná tepna krční  pravá/levá -  Arteria carotis communis dextra/sinist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. podklíčková p./l. -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. subclavia dex./sin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Oblouk aorty – Arcus aortae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zestupná aorta – Aorta ascenden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Sestupná aorta hrudní –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orta thoracica descenden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oronární tepny –Arteriae coronariae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ledvinná p./l.– Arteria renalis d./s. 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orta břišní – Aorta abdominali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kyčelní – Arteria iliaca communis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epna stehen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– Arteria femoralis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148360" y="1341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Times New Roman"/>
              </a:rPr>
              <a:t>levá</a:t>
            </a:r>
            <a:endParaRPr b="0" lang="en-US" sz="1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4640" y="764640"/>
            <a:ext cx="2602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éma cév lidského těla</a:t>
            </a:r>
            <a:br>
              <a:rPr sz="3200"/>
            </a:b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ější informace lze nalézt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zd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cévy-anatomie"/>
          <p:cNvPicPr/>
          <p:nvPr/>
        </p:nvPicPr>
        <p:blipFill>
          <a:blip r:embed="rId2"/>
          <a:stretch/>
        </p:blipFill>
        <p:spPr>
          <a:xfrm>
            <a:off x="3738600" y="333360"/>
            <a:ext cx="5137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Jiří Burša</cp:lastModifiedBy>
  <dcterms:modified xsi:type="dcterms:W3CDTF">2012-02-22T09:31:06Z</dcterms:modified>
  <cp:revision>253</cp:revision>
  <dc:subject/>
  <dc:title>Biomechanics  of smooth muscle cells </dc:title>
</cp:coreProperties>
</file>