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210-0F04-4769-839A-0BE8299F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B45-94B9-4011-92A0-952253C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73C-EF58-4076-8B2B-899F5428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530-ADC1-449A-8482-BC38D792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FC0-2578-402F-B056-CF85962D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9C5-3459-4ED5-875B-F2237DEC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5D5-9220-4669-9192-A8E0FA13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BF6-169B-4D46-986C-937CB296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B720-6984-40B3-9893-CF07313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E4E-A973-46AE-9EBA-C18688A5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98E-9649-4C28-9975-0C3ADF13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903-723D-433B-8703-B9D5536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B16B-76D1-49AA-9162-0D2C45E96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cká pinze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agnetic tweez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9414" r="0" b="0"/>
          <a:stretch/>
        </p:blipFill>
        <p:spPr>
          <a:xfrm>
            <a:off x="1403280" y="1773360"/>
            <a:ext cx="5977080" cy="3671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40160" y="1897200"/>
            <a:ext cx="129528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kušební kom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8640" y="4255920"/>
            <a:ext cx="1476360" cy="570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leněná podlož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5:55:08Z</dcterms:created>
  <dc:creator>Jiri Bursa</dc:creator>
  <dc:description/>
  <dc:language>en-US</dc:language>
  <cp:lastModifiedBy>umt</cp:lastModifiedBy>
  <dcterms:modified xsi:type="dcterms:W3CDTF">2007-01-08T12:49:21Z</dcterms:modified>
  <cp:revision>2</cp:revision>
  <dc:subject/>
  <dc:title>Magnetická pinzeta (magnetic tweezer)</dc:title>
</cp:coreProperties>
</file>