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FF03-00EE-42D4-B2CD-2AF4C5BD6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70EE-9252-47BF-8FC0-C047B63FC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78D9-7F09-4462-9128-BC51255C0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87AD-2CC9-4A08-80BE-DB1CF516C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B0F5-C524-458D-AA66-8B5838BCA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5FEB-B17E-48B3-873E-39E753216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AECE-1806-43A8-BAE5-8D3FD55D6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B5AD-CC08-410A-9244-D370F1E41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BF3E-B76E-4DAC-BE9C-4E4D1AEC3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4D6F-C435-457E-B4D8-DC896FE83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BE05-FE2A-430B-80F5-6A39E06D6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5CF5-741D-4351-BBF5-BBA8CFD99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086A2-8E0F-4443-A712-8F97787CCC29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Skler&#243;za.ppt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4114800" cy="120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Times New Roman"/>
              </a:rPr>
              <a:t>Součásti kardiovaskulární </a:t>
            </a:r>
            <a:br>
              <a:rPr sz="2800"/>
            </a:br>
            <a:r>
              <a:rPr b="0" lang="cs-CZ" sz="2800" spc="-1" strike="noStrike">
                <a:solidFill>
                  <a:srgbClr val="333399"/>
                </a:solidFill>
                <a:latin typeface="Times New Roman"/>
              </a:rPr>
              <a:t>soustavy </a:t>
            </a:r>
            <a:br>
              <a:rPr sz="2800"/>
            </a:br>
            <a:r>
              <a:rPr b="0" lang="cs-CZ" sz="2800" spc="-1" strike="noStrike">
                <a:solidFill>
                  <a:srgbClr val="333399"/>
                </a:solidFill>
                <a:latin typeface="Times New Roman"/>
              </a:rPr>
              <a:t>a jejich základní funk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75"/>
          <p:cNvSpPr/>
          <p:nvPr/>
        </p:nvSpPr>
        <p:spPr>
          <a:xfrm>
            <a:off x="468360" y="2651040"/>
            <a:ext cx="822960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3" name="Rectangle 176"/>
          <p:cNvSpPr/>
          <p:nvPr/>
        </p:nvSpPr>
        <p:spPr>
          <a:xfrm>
            <a:off x="755640" y="2421000"/>
            <a:ext cx="7772400" cy="41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Srdce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– dvojitá pumpa, která zajišťuje krevní oběh, tedy průtok krve velkým (tělním) i malým (plicním) krevním okruhem.</a:t>
            </a: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Krevní cévy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– tvoří oba krevní okruhy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(celkem 96.000km)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, jsou trojího druhu:</a:t>
            </a: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Arterie (tepny) – zajišťují rozvod krve ze srdce do jednotlivých orgánů</a:t>
            </a:r>
            <a:endParaRPr b="0" lang="en-US" sz="1400" spc="-1" strike="noStrike">
              <a:solidFill>
                <a:srgbClr val="80808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Vény (žíly) – zajišťují návrat krve z těla do srdce</a:t>
            </a:r>
            <a:endParaRPr b="0" lang="en-US" sz="1400" spc="-1" strike="noStrike">
              <a:solidFill>
                <a:srgbClr val="80808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Kapiláry (vlásečnice) – zajišťují látkovou výměnu mezi krví a tkáněmi</a:t>
            </a:r>
            <a:endParaRPr b="0" lang="en-US" sz="14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Krev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– kromě základní funkce zásobování tkání kyslíkem a živinami a odvádění zplodin metabolismu zajišťuje řadu dalších funkcí – imunitní, termoregulační, udržování pH tělních tekutin aj.</a:t>
            </a: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V širším smyslu k ní patří ještě další tkáně, orgány a soustavy:</a:t>
            </a: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Mízní cévy a uzliny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– zajišťují návrat mízy (lymfy) do krevního oběhu a její filtraci.</a:t>
            </a: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Kostní dřeň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– zajišťuje krvetvorbu, především tvorbu erytrocytů.</a:t>
            </a: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Slezina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– zajišťuje likvidaci odumřelých erytrocytů</a:t>
            </a: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Nervové řízení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–řídí funkci soustavy a koordinaci s ostatními částmi.</a:t>
            </a: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457200" y="1671480"/>
          <a:ext cx="8229600" cy="749520"/>
        </p:xfrm>
        <a:graphic>
          <a:graphicData uri="http://schemas.openxmlformats.org/drawingml/2006/table">
            <a:tbl>
              <a:tblPr/>
              <a:tblGrid>
                <a:gridCol w="876240"/>
                <a:gridCol w="1608120"/>
                <a:gridCol w="878040"/>
                <a:gridCol w="1754280"/>
                <a:gridCol w="1118880"/>
                <a:gridCol w="890640"/>
                <a:gridCol w="1103400"/>
              </a:tblGrid>
              <a:tr h="749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rdce</a:t>
                      </a:r>
                      <a:endParaRPr b="0" lang="en-US" sz="2000" spc="-1" strike="noStrike">
                        <a:solidFill>
                          <a:srgbClr val="808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revní cévy</a:t>
                      </a:r>
                      <a:endParaRPr b="0" lang="en-US" sz="2000" spc="-1" strike="noStrike">
                        <a:solidFill>
                          <a:srgbClr val="808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rev</a:t>
                      </a:r>
                      <a:endParaRPr b="0" lang="en-US" sz="2000" spc="-1" strike="noStrike">
                        <a:solidFill>
                          <a:srgbClr val="808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ízní cévy a uzliny</a:t>
                      </a:r>
                      <a:endParaRPr b="0" lang="en-US" sz="2000" spc="-1" strike="noStrike">
                        <a:solidFill>
                          <a:srgbClr val="808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stní dřeň</a:t>
                      </a:r>
                      <a:endParaRPr b="0" lang="en-US" sz="2000" spc="-1" strike="noStrike">
                        <a:solidFill>
                          <a:srgbClr val="808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lezina</a:t>
                      </a:r>
                      <a:endParaRPr b="0" lang="en-US" sz="2000" spc="-1" strike="noStrike">
                        <a:solidFill>
                          <a:srgbClr val="808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rvové řízení</a:t>
                      </a:r>
                      <a:endParaRPr b="0" lang="en-US" sz="2000" spc="-1" strike="noStrike">
                        <a:solidFill>
                          <a:srgbClr val="808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" name="Line 219"/>
          <p:cNvSpPr/>
          <p:nvPr/>
        </p:nvSpPr>
        <p:spPr>
          <a:xfrm>
            <a:off x="3808440" y="1427040"/>
            <a:ext cx="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46" name="Obrázek 6" descr=""/>
          <p:cNvPicPr/>
          <p:nvPr/>
        </p:nvPicPr>
        <p:blipFill>
          <a:blip r:embed="rId1"/>
          <a:stretch/>
        </p:blipFill>
        <p:spPr>
          <a:xfrm>
            <a:off x="4284720" y="220680"/>
            <a:ext cx="4608360" cy="11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Arial"/>
              </a:rPr>
              <a:t>Vymezení základních lékařských obor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62828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Anatomie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– zabývá se popisem geometrie a topologie (topografická anatomie) tělních orgánů a orgánových soustav, tedy popisem jejich tvaru a rozmístění ve zdravém organism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Fyziologie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– zabývá se popisem procesů, probíhajících ve zdravém organismu a zajišťujících jeho životní funkce. Přitom využívá poznatků biochemie, biofyziky i dalších obor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Histologie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– zabývá se popisem složení a struktury jednotlivých tkání na mikroskopické úrovn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Patologie (patologická anatomie a patologická fyziologie)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– zabývá se změnami v anatomii a fyziologii, způsobenými chorobnými procesy v organismu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20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aterosklerotické změny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 tepnách, vady a choroby srd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3399"/>
                </a:solidFill>
                <a:latin typeface="Arial"/>
              </a:rPr>
              <a:t>Rozdělení cé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Tepny (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Arterie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velké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Ø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8 - 26 m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řední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Ø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 - 8 m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lé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 m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pénky (arterioly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Ø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,1 m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Vlásečnice (kapiláry)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– průměr v setinách 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Žíly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(vén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žilky (venuly 0,02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1 m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l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řed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velk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Anastomózy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– propojení mezi různými větvemi tepenné nebo žilní soustavy, vytvářející možnosti obtokových tr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Arteriovenózní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anastomózy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– přímé propojení mezi tepnami a žilami silnější než kapiláry – slouží regulaci průtoku a tlaku kr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152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ff"/>
                </a:solidFill>
                <a:latin typeface="Times New Roman"/>
              </a:rPr>
              <a:t>Schema kapilárního řečiš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457200" y="1285920"/>
            <a:ext cx="742788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elkový periferní odpor tělního oběhu 77-150 MPa.m</a:t>
            </a:r>
            <a:r>
              <a:rPr b="0" lang="cs-CZ" sz="2000" spc="-1" strike="noStrike" baseline="30000">
                <a:solidFill>
                  <a:srgbClr val="000000"/>
                </a:solidFill>
                <a:latin typeface="Times New Roman"/>
              </a:rPr>
              <a:t>-3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elkový periferní odpor plicního oběhu 2-12 MPa.m</a:t>
            </a:r>
            <a:r>
              <a:rPr b="0" lang="cs-CZ" sz="2000" spc="-1" strike="noStrike" baseline="30000">
                <a:solidFill>
                  <a:srgbClr val="000000"/>
                </a:solidFill>
                <a:latin typeface="Times New Roman"/>
              </a:rPr>
              <a:t>-3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roměnný průtočný odpor tepen je ovlivňován aktivním chováním 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svalové složky tkáně ve stěně tepny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Svalový tonus 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rekapilární sfinktery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Arteriovenózní anastomózy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53" name="Obrázek 4" descr="anastomózy.JPG"/>
          <p:cNvPicPr/>
          <p:nvPr/>
        </p:nvPicPr>
        <p:blipFill>
          <a:blip r:embed="rId1"/>
          <a:stretch/>
        </p:blipFill>
        <p:spPr>
          <a:xfrm>
            <a:off x="5557680" y="2201760"/>
            <a:ext cx="3086280" cy="4370400"/>
          </a:xfrm>
          <a:prstGeom prst="rect">
            <a:avLst/>
          </a:prstGeom>
          <a:ln w="0">
            <a:noFill/>
          </a:ln>
        </p:spPr>
      </p:pic>
      <p:sp>
        <p:nvSpPr>
          <p:cNvPr id="54" name="Line 13"/>
          <p:cNvSpPr/>
          <p:nvPr/>
        </p:nvSpPr>
        <p:spPr>
          <a:xfrm flipV="1">
            <a:off x="4049640" y="3714480"/>
            <a:ext cx="366552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06:35:38Z</dcterms:created>
  <dc:creator>Ing. Jiří Burša</dc:creator>
  <dc:description/>
  <dc:language>en-US</dc:language>
  <cp:lastModifiedBy>Jiří Burša</cp:lastModifiedBy>
  <dcterms:modified xsi:type="dcterms:W3CDTF">2011-09-05T08:17:39Z</dcterms:modified>
  <cp:revision>241</cp:revision>
  <dc:subject/>
  <dc:title>Biomechanics  of smooth muscle cells </dc:title>
</cp:coreProperties>
</file>