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0C3-DAE1-4E86-9E2A-D9211E3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DA3-7DE6-45EE-920C-12F2974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9B0-5BF2-41A6-87A2-748B6E18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52F-0B19-49CD-958B-B97665D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F78-AC58-4AFC-A5BC-171A2C16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A8E-0F18-4245-88A0-34E8B400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F04-923C-4639-8982-A338B6B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B18-D2B0-40F8-BC14-FD6CDE4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E4B-AA25-42EA-82F2-E044BBE4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C81-64C4-4CC9-B1AF-994BCD4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8F4-DF48-4961-9B96-7E81FFA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CD9-7252-43F9-90D6-3F30F44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D6DF-8ECA-44BE-B113-A00AD960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81342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eme of some types of material behaviou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8920" y="620640"/>
            <a:ext cx="8682120" cy="5829480"/>
            <a:chOff x="178920" y="620640"/>
            <a:chExt cx="8682120" cy="5829480"/>
          </a:xfrm>
        </p:grpSpPr>
        <p:sp>
          <p:nvSpPr>
            <p:cNvPr id="43" name=""/>
            <p:cNvSpPr/>
            <p:nvPr/>
          </p:nvSpPr>
          <p:spPr>
            <a:xfrm>
              <a:off x="6923160" y="2792160"/>
              <a:ext cx="3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22760" y="4164120"/>
              <a:ext cx="89316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Elast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7640" y="2792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78920" y="620640"/>
              <a:ext cx="8682120" cy="5829480"/>
              <a:chOff x="178920" y="620640"/>
              <a:chExt cx="8682120" cy="5829480"/>
            </a:xfrm>
          </p:grpSpPr>
          <p:sp>
            <p:nvSpPr>
              <p:cNvPr id="47" name=""/>
              <p:cNvSpPr/>
              <p:nvPr/>
            </p:nvSpPr>
            <p:spPr>
              <a:xfrm>
                <a:off x="4751640" y="107784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751640" y="1077840"/>
                <a:ext cx="2057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236320" y="1077840"/>
                <a:ext cx="2514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4294080" y="1992240"/>
                <a:ext cx="4572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51640" y="199224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0880" y="1534320"/>
                <a:ext cx="1371600" cy="457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36680" y="1992240"/>
                <a:ext cx="5713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50880" y="4849920"/>
                <a:ext cx="10285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rigid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55600" y="55357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73000" y="32493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25880" y="3249360"/>
                <a:ext cx="9619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6604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0160" y="3021120"/>
                <a:ext cx="1943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471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237360" y="3706920"/>
                <a:ext cx="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08840" y="4849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ewtone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6568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94000" y="5307120"/>
                <a:ext cx="57132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09040" y="1992240"/>
                <a:ext cx="2286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550520" y="3821040"/>
                <a:ext cx="5372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50880" y="3821040"/>
                <a:ext cx="3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2880" y="3135240"/>
                <a:ext cx="8247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Isotrop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94360" y="2334960"/>
                <a:ext cx="1257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fluid (with un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2760" y="2329920"/>
                <a:ext cx="125712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solid (with 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51640" y="5992920"/>
                <a:ext cx="7790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157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952040" y="4621320"/>
                <a:ext cx="5713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68200" y="3249360"/>
                <a:ext cx="1144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Times New Roman"/>
                  </a:rPr>
                  <a:t>immediate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25680" y="32493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out immediate 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72240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9408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22480" y="4849920"/>
                <a:ext cx="7999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near 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2120" y="3706920"/>
                <a:ext cx="495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79960" y="4621320"/>
                <a:ext cx="342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65480" y="4849920"/>
                <a:ext cx="9144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linear elas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2655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93520" y="5535720"/>
                <a:ext cx="571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23440" y="3706920"/>
                <a:ext cx="114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520" y="2334960"/>
                <a:ext cx="15314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864720" y="2792160"/>
                <a:ext cx="342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7800" y="279216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3400" y="96336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visco-plastic matt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79960" y="153000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58600" y="152928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65960" y="23295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visco 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50880" y="3135240"/>
                <a:ext cx="8456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inemat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22200" y="23349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79480" y="5992200"/>
                <a:ext cx="1600200" cy="457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Rigid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093320" y="1992240"/>
                <a:ext cx="11430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78920" y="2792160"/>
                <a:ext cx="10285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66040" y="848880"/>
                <a:ext cx="1257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922120" y="5535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1680" y="4849920"/>
                <a:ext cx="1257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Newtonean 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3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54520" y="5421240"/>
                <a:ext cx="11772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independent of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75600" y="5992920"/>
                <a:ext cx="6854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12000" y="5421240"/>
                <a:ext cx="11703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dependent on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351480" y="5307120"/>
                <a:ext cx="6858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7640" y="5307120"/>
                <a:ext cx="685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0087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1840" y="6107400"/>
                <a:ext cx="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518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662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89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6600" y="2334960"/>
                <a:ext cx="1122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09040" y="1992240"/>
                <a:ext cx="1485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08360" y="2792160"/>
                <a:ext cx="453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3720" y="3706920"/>
                <a:ext cx="1325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237360" y="3935520"/>
                <a:ext cx="7999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3400" y="5992920"/>
                <a:ext cx="68580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s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7520" y="4849920"/>
                <a:ext cx="960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plastic-rigid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510640" y="2792160"/>
                <a:ext cx="2970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436400" y="3706920"/>
                <a:ext cx="107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436040" y="370692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4720" y="5535720"/>
                <a:ext cx="1485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0600" y="4164120"/>
                <a:ext cx="164592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nditionally 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6400" y="4621320"/>
                <a:ext cx="685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6436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23160" y="848880"/>
                <a:ext cx="1828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4880" y="620640"/>
                <a:ext cx="171468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39320" y="848880"/>
                <a:ext cx="19432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08-05-30T10:53:57Z</dcterms:modified>
  <cp:revision>313</cp:revision>
  <dc:subject/>
  <dc:title>Biomechanics  of smooth muscle cells </dc:title>
</cp:coreProperties>
</file>