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753-BB69-484E-AD1D-7F1033FE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472-FA98-494D-BE14-03EEE4E6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3ED-3777-402C-9086-BD11477A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338-4911-42B4-8673-F332564D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59E-9148-4004-A484-09EEAB6B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C9F-39A5-4D02-8635-164AEF40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C00-0D19-4052-A2C4-87418B46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D13-C0F9-47BF-ACB7-CA5C580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291-594B-4559-8842-8422AC45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899-93E2-4B7F-AC3B-C7461996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295-B5C0-417E-B65A-69E581E1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06F-8327-4554-BF58-DB33A7D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BB71-9D43-4B65-817C-3BFD3E4F8A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572436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cture of arterial 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7"/>
          <p:cNvGrpSpPr/>
          <p:nvPr/>
        </p:nvGrpSpPr>
        <p:grpSpPr>
          <a:xfrm>
            <a:off x="468360" y="333360"/>
            <a:ext cx="8064360" cy="6048000"/>
            <a:chOff x="468360" y="333360"/>
            <a:chExt cx="8064360" cy="6048000"/>
          </a:xfrm>
        </p:grpSpPr>
        <p:pic>
          <p:nvPicPr>
            <p:cNvPr id="43" name="Picture 4" descr="CEVA"/>
            <p:cNvPicPr/>
            <p:nvPr/>
          </p:nvPicPr>
          <p:blipFill>
            <a:blip r:embed="rId1"/>
            <a:stretch/>
          </p:blipFill>
          <p:spPr>
            <a:xfrm>
              <a:off x="1663560" y="1947600"/>
              <a:ext cx="6126120" cy="44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468360" y="4285440"/>
              <a:ext cx="1223640" cy="11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outer elastic membran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6518160" y="4043520"/>
              <a:ext cx="1295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inner elastic membrán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" name="Text Box 7"/>
            <p:cNvSpPr/>
            <p:nvPr/>
          </p:nvSpPr>
          <p:spPr>
            <a:xfrm>
              <a:off x="4610160" y="1639800"/>
              <a:ext cx="129528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erythr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3132000" y="2308320"/>
              <a:ext cx="13874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endothelium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" name="Text Box 9"/>
            <p:cNvSpPr/>
            <p:nvPr/>
          </p:nvSpPr>
          <p:spPr>
            <a:xfrm>
              <a:off x="2700360" y="2635560"/>
              <a:ext cx="1004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intima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2124000" y="3273840"/>
              <a:ext cx="9856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media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6627600" y="1250280"/>
              <a:ext cx="1158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leuc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86680" y="333360"/>
              <a:ext cx="13460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thromb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2" name="Text Box 13"/>
            <p:cNvSpPr/>
            <p:nvPr/>
          </p:nvSpPr>
          <p:spPr>
            <a:xfrm>
              <a:off x="5784840" y="5472720"/>
              <a:ext cx="12286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adventitia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 flipV="1">
              <a:off x="2762280" y="5753520"/>
              <a:ext cx="318456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 flipV="1">
              <a:off x="7692840" y="706320"/>
              <a:ext cx="177840" cy="13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5" name="Line 16"/>
            <p:cNvSpPr/>
            <p:nvPr/>
          </p:nvSpPr>
          <p:spPr>
            <a:xfrm>
              <a:off x="7256520" y="163980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12400"/>
            <a:ext cx="842472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tructure of aortic wall obtained by histologic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Aorta-histo1"/>
          <p:cNvPicPr/>
          <p:nvPr/>
        </p:nvPicPr>
        <p:blipFill>
          <a:blip r:embed="rId1"/>
          <a:srcRect l="0" t="0" r="0" b="13416"/>
          <a:stretch/>
        </p:blipFill>
        <p:spPr>
          <a:xfrm>
            <a:off x="2411280" y="635040"/>
            <a:ext cx="4589640" cy="5962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6977160" y="1484280"/>
            <a:ext cx="1482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loured by orcein for elastic fibre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52360" y="1413000"/>
            <a:ext cx="15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loured by haematoxyline and eosin for SMC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604960" y="5805360"/>
            <a:ext cx="2266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7-08T08:36:51Z</dcterms:modified>
  <cp:revision>258</cp:revision>
  <dc:subject/>
  <dc:title>Biomechanics  of smooth muscle cells </dc:title>
</cp:coreProperties>
</file>