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25E-25C6-4E61-8D44-6176B4E3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300-C881-490F-A26F-0B32A6FE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78C7-2EAD-4408-A713-5B08F0AC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231-47D2-4112-8E46-99C5D528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526B-F943-4A2C-B8FA-4D5DF27E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132-E320-48D7-A579-B5EE29DC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A134-7C45-4C1A-AFBD-B78A6B34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EDF-2933-47BF-AEF2-52D77055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58A-6A25-48DA-BBCF-37154359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0BB-9473-402D-B509-DEEF183F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DF04-860E-4D04-90C3-4320AC62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181E-F386-431A-AFF4-B193DDDD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B88A-5B71-49DB-AD9C-3126C9292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7280" y="2097000"/>
            <a:ext cx="864072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Examples of applications of biomechanics on external bone fix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820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ří BURŠ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deněk FLORIA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tu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olid Mechanics, Mechatronics and Biomechanic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aculty of Mechan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no University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ec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4" descr=""/>
          <p:cNvPicPr/>
          <p:nvPr/>
        </p:nvPicPr>
        <p:blipFill>
          <a:blip r:embed="rId1"/>
          <a:stretch/>
        </p:blipFill>
        <p:spPr>
          <a:xfrm>
            <a:off x="2987640" y="446040"/>
            <a:ext cx="5761080" cy="1398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232000" cy="145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F4BA-087C-438D-9510-B1B239D06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8560" y="162864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thofi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xator makes good the function of stabilization of the broken lower extrem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er clearance between the bone and the fixator and its higher extension decrease the stiffness of the fix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angerous point of the fixator lies in his ne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other dangerous point is in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chan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rew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ing under pronounced bending load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nfluences unfavourably the mutual displacements of bone fra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064360" cy="971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99b8ba"/>
              </a:gs>
            </a:gsLst>
            <a:lin ang="5400000"/>
          </a:gradFill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Fixators of lower extrem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58920" y="2168280"/>
            <a:ext cx="84261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ompared types of fixators:   fixator POLDI 07 (elongation of lower extrem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ixator ORTHOFIX (fixation of leg frac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he analyses includ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E stress-strain analy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 fixator eleme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 callus (for  POLDI 07 fix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 bone tissues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valuation of allowable deformation of fix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Older types of fix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rcRect l="58323" t="5005" r="7851" b="13523"/>
          <a:stretch/>
        </p:blipFill>
        <p:spPr>
          <a:xfrm>
            <a:off x="5364000" y="1341360"/>
            <a:ext cx="2847960" cy="4678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rcRect l="1949" t="7170" r="48111" b="21150"/>
          <a:stretch/>
        </p:blipFill>
        <p:spPr>
          <a:xfrm>
            <a:off x="539640" y="1341360"/>
            <a:ext cx="4392720" cy="468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64000" y="6021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izaro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fi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826920" y="6093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einm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 nai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FC01-E12D-4518-BE87-08F936E91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10099" t="6251" r="19196" b="0"/>
          <a:stretch/>
        </p:blipFill>
        <p:spPr>
          <a:xfrm>
            <a:off x="287280" y="1557360"/>
            <a:ext cx="4094280" cy="489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rcRect l="0" t="0" r="56475" b="43115"/>
          <a:stretch/>
        </p:blipFill>
        <p:spPr>
          <a:xfrm>
            <a:off x="5580000" y="1341360"/>
            <a:ext cx="2016360" cy="1814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3"/>
          <a:srcRect l="30445" t="50561" r="28238" b="8359"/>
          <a:stretch/>
        </p:blipFill>
        <p:spPr>
          <a:xfrm>
            <a:off x="4067280" y="4581360"/>
            <a:ext cx="2448000" cy="1675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4"/>
          <a:srcRect l="58730" t="0" r="0" b="52586"/>
          <a:stretch/>
        </p:blipFill>
        <p:spPr>
          <a:xfrm>
            <a:off x="6659640" y="3141720"/>
            <a:ext cx="2305080" cy="1822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FIX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TOR POLDI 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D65F-2685-47B1-823C-286E185B6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Modelling of cal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09080" cy="4967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1079640" y="1773360"/>
            <a:ext cx="79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165800" y="1376280"/>
            <a:ext cx="15829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compressiv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82E6-C3E3-4D7D-B413-8F68366F8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on Mises equ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valen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t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0" t="18095" r="4628" b="11265"/>
          <a:stretch/>
        </p:blipFill>
        <p:spPr>
          <a:xfrm>
            <a:off x="0" y="1628640"/>
            <a:ext cx="5796000" cy="4451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rcRect l="0" t="14567" r="76296" b="48060"/>
          <a:stretch/>
        </p:blipFill>
        <p:spPr>
          <a:xfrm>
            <a:off x="7093080" y="4869000"/>
            <a:ext cx="93492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>
            <a:lum bright="-6000"/>
          </a:blip>
          <a:srcRect l="27379" t="14567" r="19645" b="12735"/>
          <a:stretch/>
        </p:blipFill>
        <p:spPr>
          <a:xfrm>
            <a:off x="5940360" y="1125360"/>
            <a:ext cx="2925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7928-DDF1-44D3-8D35-F868F989E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Times New Roman"/>
              </a:rPr>
              <a:t>ORTHOFIX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Fix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rcRect l="4138" t="0" r="44848" b="0"/>
          <a:stretch/>
        </p:blipFill>
        <p:spPr>
          <a:xfrm>
            <a:off x="216000" y="1736640"/>
            <a:ext cx="2663640" cy="4184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rcRect l="7451" t="0" r="17108" b="0"/>
          <a:stretch/>
        </p:blipFill>
        <p:spPr>
          <a:xfrm>
            <a:off x="3311640" y="1628640"/>
            <a:ext cx="2631960" cy="435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6300720" y="1665360"/>
            <a:ext cx="2270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CD85-E8F9-4519-BCC9-BB5E0ADA5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9700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isplacements of fixator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6040" r="52928" b="63431"/>
          <a:stretch/>
        </p:blipFill>
        <p:spPr>
          <a:xfrm>
            <a:off x="1079640" y="1449360"/>
            <a:ext cx="3132000" cy="1735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rcRect l="47080" t="6040" r="0" b="63431"/>
          <a:stretch/>
        </p:blipFill>
        <p:spPr>
          <a:xfrm>
            <a:off x="5256360" y="1415880"/>
            <a:ext cx="3384360" cy="1668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3"/>
          <a:srcRect l="0" t="61864" r="51472" b="2383"/>
          <a:stretch/>
        </p:blipFill>
        <p:spPr>
          <a:xfrm>
            <a:off x="1150920" y="4292640"/>
            <a:ext cx="2987640" cy="18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4"/>
          <a:srcRect l="47745" t="61864" r="3006" b="2383"/>
          <a:stretch/>
        </p:blipFill>
        <p:spPr>
          <a:xfrm>
            <a:off x="5292720" y="4292640"/>
            <a:ext cx="3024360" cy="18748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1403280" y="944640"/>
            <a:ext cx="70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displacement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splace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403280" y="3537000"/>
            <a:ext cx="70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splace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ce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FE71-F2AE-4093-80B7-217D53DE7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rcRect l="0" t="6981" r="49377" b="54827"/>
          <a:stretch/>
        </p:blipFill>
        <p:spPr>
          <a:xfrm>
            <a:off x="0" y="1773360"/>
            <a:ext cx="3959280" cy="2319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512640"/>
            <a:ext cx="8229600" cy="54000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tress distribution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 the fixator and in the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2"/>
          <a:srcRect l="50031" t="3157" r="1797" b="54827"/>
          <a:stretch/>
        </p:blipFill>
        <p:spPr>
          <a:xfrm>
            <a:off x="5219640" y="1685880"/>
            <a:ext cx="3421080" cy="2316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"/>
          <p:cNvPicPr/>
          <p:nvPr/>
        </p:nvPicPr>
        <p:blipFill>
          <a:blip r:embed="rId3"/>
          <a:srcRect l="0" t="56335" r="49973" b="0"/>
          <a:stretch/>
        </p:blipFill>
        <p:spPr>
          <a:xfrm>
            <a:off x="0" y="4443480"/>
            <a:ext cx="3564000" cy="2414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rcRect l="50656" t="55527" r="0" b="0"/>
          <a:stretch/>
        </p:blipFill>
        <p:spPr>
          <a:xfrm>
            <a:off x="5219640" y="4292640"/>
            <a:ext cx="3313080" cy="23191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2"/>
          <p:cNvSpPr/>
          <p:nvPr/>
        </p:nvSpPr>
        <p:spPr>
          <a:xfrm>
            <a:off x="1368360" y="1305000"/>
            <a:ext cx="70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n Mises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1008000" y="4113360"/>
            <a:ext cx="70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. principal stress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. principal s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3:38:20Z</dcterms:created>
  <dc:creator>janicek</dc:creator>
  <dc:description/>
  <dc:language>en-US</dc:language>
  <cp:lastModifiedBy>Jiří Burša</cp:lastModifiedBy>
  <dcterms:modified xsi:type="dcterms:W3CDTF">2011-05-14T19:18:02Z</dcterms:modified>
  <cp:revision>140</cp:revision>
  <dc:subject/>
  <dc:title>VÝPOČTOVÉ MODELOVÁNÍ V KLINICKÉ MAKROBIOMECHANICE</dc:title>
</cp:coreProperties>
</file>