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80B-0CB5-4808-9E0C-979A09E2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BAA-261F-4275-9066-03787917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CC3-F3F8-415C-A629-220F43F4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30E-99AE-4ABB-BDB2-836D10E8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0B5-8C4E-44D4-A7AB-AB7D2794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DDC-A33F-440C-BE25-0907E577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DC2-C104-4BE8-B21F-CF89D672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A66-ED30-4BD3-9A71-C913B8A3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84F-58D1-47DD-9DB5-D0139B69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AB0-A4DC-43A3-9D91-95D8F12C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B48-F333-4D8F-93DC-05CBD3FB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A4F7-D832-481C-8C24-172B1CB5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EB28-042F-4CA5-88C3-5A93B6732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al properties of ela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4" descr="Elastin1.JPG"/>
          <p:cNvPicPr/>
          <p:nvPr/>
        </p:nvPicPr>
        <p:blipFill>
          <a:blip r:embed="rId1"/>
          <a:stretch/>
        </p:blipFill>
        <p:spPr>
          <a:xfrm>
            <a:off x="611280" y="1989000"/>
            <a:ext cx="2838240" cy="404028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5" descr="Elastin2.JPG"/>
          <p:cNvPicPr/>
          <p:nvPr/>
        </p:nvPicPr>
        <p:blipFill>
          <a:blip r:embed="rId2"/>
          <a:stretch/>
        </p:blipFill>
        <p:spPr>
          <a:xfrm>
            <a:off x="3924360" y="4213080"/>
            <a:ext cx="3973320" cy="18799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4427640" y="142704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sured with ligament after having removed the collagen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= 200-400 k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ry narrow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yste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s loo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ctili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 t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130%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gligibl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lax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on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476360" y="2001960"/>
            <a:ext cx="194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ck ligament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292720" y="4078440"/>
            <a:ext cx="1943280" cy="5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ck ligament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403280" y="3741840"/>
            <a:ext cx="100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ding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268360" y="4654440"/>
            <a:ext cx="1295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loading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084720" y="5805360"/>
            <a:ext cx="2016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 (minutes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268360" y="5734080"/>
            <a:ext cx="151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tch ratio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al properties of col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7" descr="Kolagen1.JPG"/>
          <p:cNvPicPr/>
          <p:nvPr/>
        </p:nvPicPr>
        <p:blipFill>
          <a:blip r:embed="rId1"/>
          <a:stretch/>
        </p:blipFill>
        <p:spPr>
          <a:xfrm>
            <a:off x="468360" y="1960560"/>
            <a:ext cx="3832200" cy="442116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8" descr="Kolagen2.JPG"/>
          <p:cNvPicPr/>
          <p:nvPr/>
        </p:nvPicPr>
        <p:blipFill>
          <a:blip r:embed="rId2"/>
          <a:stretch/>
        </p:blipFill>
        <p:spPr>
          <a:xfrm>
            <a:off x="3995640" y="3973680"/>
            <a:ext cx="4619880" cy="2263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716360" y="119700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sured with a tendon – created of a nearly pure collagen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=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0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rrow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yste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s loo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ctili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 - 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%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ngth 90-130 MPa;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lax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on more pronounced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836720" y="2062080"/>
            <a:ext cx="194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581800" y="4005360"/>
            <a:ext cx="1942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916360" y="595008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tch ratio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6588000" y="5878440"/>
            <a:ext cx="2016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 (minutes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41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al properties of smooth muscle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7" descr="Hladký_sval1.JPG"/>
          <p:cNvPicPr/>
          <p:nvPr/>
        </p:nvPicPr>
        <p:blipFill>
          <a:blip r:embed="rId1"/>
          <a:stretch/>
        </p:blipFill>
        <p:spPr>
          <a:xfrm>
            <a:off x="539640" y="1197000"/>
            <a:ext cx="3629160" cy="5040360"/>
          </a:xfrm>
          <a:prstGeom prst="rect">
            <a:avLst/>
          </a:prstGeom>
          <a:ln w="0">
            <a:noFill/>
          </a:ln>
        </p:spPr>
      </p:pic>
      <p:pic>
        <p:nvPicPr>
          <p:cNvPr id="61" name="Obrázek 8" descr="Hladký_sval2.JPG"/>
          <p:cNvPicPr/>
          <p:nvPr/>
        </p:nvPicPr>
        <p:blipFill>
          <a:blip r:embed="rId2"/>
          <a:stretch/>
        </p:blipFill>
        <p:spPr>
          <a:xfrm>
            <a:off x="3995640" y="4151160"/>
            <a:ext cx="4727520" cy="187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6516720" y="5734080"/>
            <a:ext cx="2016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 (minutes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700360" y="58053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tch ratio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437080" y="4149720"/>
            <a:ext cx="244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ooth muscle tissue of intestin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619280" y="1700280"/>
            <a:ext cx="2448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ooth muscle tissue of intestin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716360" y="126828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sured with smooth muscle tissue of intestine in a passive (relaxed) state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=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k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oad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yste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s loo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ry prononounced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lax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on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Influence of smooth muscle excitation on the arterial wall stiffness (canine carotid art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" descr="vliv-svaloviny.jpg"/>
          <p:cNvPicPr/>
          <p:nvPr/>
        </p:nvPicPr>
        <p:blipFill>
          <a:blip r:embed="rId1"/>
          <a:srcRect l="12126" t="0" r="0" b="11597"/>
          <a:stretch/>
        </p:blipFill>
        <p:spPr>
          <a:xfrm>
            <a:off x="3714840" y="1428840"/>
            <a:ext cx="4754520" cy="50004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2916360" y="1989000"/>
            <a:ext cx="115416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ner pressur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076640" y="5877000"/>
            <a:ext cx="3880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ange of artery radiu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443640" y="5237280"/>
            <a:ext cx="1946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mooth muscle cells relaxed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572000" y="4365720"/>
            <a:ext cx="194616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mooth muscle cells excited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7-03T09:08:18Z</dcterms:modified>
  <cp:revision>295</cp:revision>
  <dc:subject/>
  <dc:title>Biomechanics  of smooth muscle cells </dc:title>
</cp:coreProperties>
</file>