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952-2D76-4E6A-B10F-72F7D395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EAA-CC7E-4CBE-A39C-62C8126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FCF-91A8-414B-84BF-108E93BF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D51-9EC8-4984-A723-9F9C748C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496-6DA8-4281-BBFB-DA2B87F0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942-63C8-443F-9766-710EDB8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68A-5F90-44E9-A7D6-6EFDF70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18C-A3DE-42A3-9366-E3AF2FF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7A2-64EE-4AE8-AE33-6943554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B32-8FB4-47B5-B20D-2CD7288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BF4-691E-43F3-8621-A3CF52B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95A-FE73-4162-AA2F-FCD0CF8C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7135-BB89-4B34-ABB8-2A59A62BCD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7280" y="2997000"/>
            <a:ext cx="59752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19280" y="4149720"/>
            <a:ext cx="799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. Prof. Jiří Burša, P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e of Solid Mechanics, Mechatronics and Bio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SI-ZP1-ANGL-SPEC"/>
          <p:cNvPicPr/>
          <p:nvPr/>
        </p:nvPicPr>
        <p:blipFill>
          <a:blip r:embed="rId1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Obrázek 6" descr=""/>
          <p:cNvPicPr/>
          <p:nvPr/>
        </p:nvPicPr>
        <p:blipFill>
          <a:blip r:embed="rId2"/>
          <a:stretch/>
        </p:blipFill>
        <p:spPr>
          <a:xfrm>
            <a:off x="3205080" y="407880"/>
            <a:ext cx="575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What is clinical biomechan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is application of knowledge, approaches and methods of mechanics to biological objects (human body – human biomechan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linical biomechanics aims at solutions to biomechanical problems required by clinical pract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perimental and computational meth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quantities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ss (force per unit area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ain (relative deformation, elongation per unit length [m/m = 1 –dimensionless quantity])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Young’s) modulus of elasticity– stress/strain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 – represents the material stiffness (slope of the stress-strain depend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types of stress-strain behaviour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 (linear or non-linear) – no permanent deformation afte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-plastic (some portion of deformation remains perman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coelastic (deformation is time and velocity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Basic types of animal living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l living tissues can be divided (from the mechanical viewpoint) into two basic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rd tissues (e.g. bones) – showing small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tissues (e.g. muscles) – showing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rge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iated muscle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ooth muscle tissue (occurs also in blood vessel w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specially organs created of soft tissues show highly non-linea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ss-strain depend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y is the description of large strain behaviour as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 nonlineari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SI-ZP1-ANGL-SPEC"/>
          <p:cNvPicPr/>
          <p:nvPr/>
        </p:nvPicPr>
        <p:blipFill>
          <a:blip r:embed="rId1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2" name="Object 5"/>
          <p:cNvGraphicFramePr/>
          <p:nvPr/>
        </p:nvGraphicFramePr>
        <p:xfrm>
          <a:off x="1344600" y="1628640"/>
          <a:ext cx="645480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4600" y="1628640"/>
                    <a:ext cx="64548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GSTR110"/>
          <p:cNvPicPr/>
          <p:nvPr/>
        </p:nvPicPr>
        <p:blipFill>
          <a:blip r:embed="rId4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4428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nonlinearity is characterized by "large" displacements and/or rotations,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mpanied by large str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displacement … slender structures – fishing rod, frames, sh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tr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asticity of steel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simulatio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)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... hyperelasticity of elastomers (rubb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operties of arterial wall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chanical behaviour of arterial wall tissues sh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ructural non-homogeneity – arterial wall consists of several layers with different structure and properties, changing also in axial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ach layer created of several components (elastin membranes and fibres, collagen fibres, smooth muscle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arge strain under physiological lo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on-linear stress-strain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coelasticity– time-dependen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isotropy –  material properties are dependent on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erent properties under tension or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low compres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pronounced temperature dependence of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loading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the age of a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modelation under influence of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ctive behaviour – mechanical properties can be changed substantially by activation (or relaxation) of muscle fib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..to be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ny different constitutive models have been created to describe these proper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yperelastic isotropic or anisotropic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models are most frequently used for modelling of soft t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eals with human bo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to biomechanical problems required by clinical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at the level of tissues and higher structures (organs, systems of organs, whole body)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Ilustrativ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big joints (e.g. hip, knee, elbow j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out implants (osteotomi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 implants (endoprosth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vertebral column and its elements (vertebras, intervertebral pl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arteries (e.g. aneurysms, vascular graf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fixators of lower extrem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 vertebral fix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72000" y="1855440"/>
            <a:ext cx="51847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nocni brno1"/>
          <p:cNvPicPr/>
          <p:nvPr/>
        </p:nvPicPr>
        <p:blipFill>
          <a:blip r:embed="rId1"/>
          <a:srcRect l="5197" t="7171" r="5194" b="9837"/>
          <a:stretch/>
        </p:blipFill>
        <p:spPr>
          <a:xfrm>
            <a:off x="1835280" y="2490840"/>
            <a:ext cx="6913440" cy="410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SI-ZP1-ANGL-SPEC"/>
          <p:cNvPicPr/>
          <p:nvPr/>
        </p:nvPicPr>
        <p:blipFill>
          <a:blip r:embed="rId2"/>
          <a:stretch/>
        </p:blipFill>
        <p:spPr>
          <a:xfrm>
            <a:off x="468360" y="333360"/>
            <a:ext cx="2813040" cy="18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Obrázek 4" descr=""/>
          <p:cNvPicPr/>
          <p:nvPr/>
        </p:nvPicPr>
        <p:blipFill>
          <a:blip r:embed="rId3"/>
          <a:stretch/>
        </p:blipFill>
        <p:spPr>
          <a:xfrm>
            <a:off x="3384720" y="297000"/>
            <a:ext cx="56163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9-05T09:14:00Z</dcterms:modified>
  <cp:revision>140</cp:revision>
  <dc:subject/>
  <dc:title>VÝPOČTOVÉ MODELOVÁNÍ V KLINICKÉ MAKROBIOMECHANICE</dc:title>
</cp:coreProperties>
</file>