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C98-0BF9-4B80-8C58-47301875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6A6-0A88-4EF9-B2F2-2BD414D9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429-BD89-46EA-9DA0-06F234DC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E2D-9C14-4A7C-A299-C60D20F7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E5D-3C55-4014-AB4E-BB939A18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61E-1A60-46AE-89C1-7DE2AFAE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E79-AECC-4C11-91C9-AF58F05A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7A4-DDD7-499D-A281-20572D72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36B-9756-47BB-83CE-D412FF2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093-4AB5-4B79-AE54-EA81C2C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EFF-AA82-4D58-8551-E85B192B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BA9-9EA3-4041-AE07-9F1A627C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3566-63BD-4BC7-9746-EBF5785B870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-obr&#225;zek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mluvní přetvoření (pro malé deform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3559320" y="1197000"/>
                <a:ext cx="4541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Rectangle 6"/>
          <p:cNvSpPr/>
          <p:nvPr/>
        </p:nvSpPr>
        <p:spPr>
          <a:xfrm>
            <a:off x="384120" y="1185840"/>
            <a:ext cx="80755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Délková (označení viz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rázek 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ro ostatní složky analogic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Úhlová (zkos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ro ostatní složky analogic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Vzhledem k tomu, že složkami tenzoru přetvoření jsou poloviční zkosy, lze napsat </a:t>
            </a:r>
            <a:r>
              <a:rPr b="0" lang="cs-CZ" sz="2000" spc="-1" strike="noStrike">
                <a:solidFill>
                  <a:srgbClr val="cc0000"/>
                </a:solidFill>
                <a:latin typeface="Arial"/>
              </a:rPr>
              <a:t>obecný tenzorový vz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kde souřadnicím X,Y,Z odpovídají X</a:t>
            </a:r>
            <a:r>
              <a:rPr b="0" lang="cs-CZ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 a posuvům u,v,w posuvy u</a:t>
            </a:r>
            <a:r>
              <a:rPr b="0" lang="cs-CZ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 (pro i=1,2,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4356000" y="2212920"/>
                <a:ext cx="1706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1403280" y="3036960"/>
                <a:ext cx="6410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4268880" y="4164120"/>
                <a:ext cx="3220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0"/>
              <p:cNvSpPr txBox="1"/>
              <p:nvPr/>
            </p:nvSpPr>
            <p:spPr>
              <a:xfrm>
                <a:off x="5724360" y="5132520"/>
                <a:ext cx="2216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17:26Z</dcterms:created>
  <dc:creator>Jiri Bursa</dc:creator>
  <dc:description/>
  <dc:language>en-US</dc:language>
  <cp:lastModifiedBy>Prof. Jindrich Petruska</cp:lastModifiedBy>
  <dcterms:modified xsi:type="dcterms:W3CDTF">2010-01-08T11:56:54Z</dcterms:modified>
  <cp:revision>2</cp:revision>
  <dc:subject/>
  <dc:title>Smluvní přetvoření (pro malé deformace)</dc:title>
</cp:coreProperties>
</file>