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E26-D802-4432-B428-4D7ED9AB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DE3-D0FB-4076-9233-FFF2D243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5DE-1983-4B31-A8CF-20299669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57C-0C6E-4847-8595-D7DBE89D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421-6940-4EC1-81B9-1D24BB4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442-9BEF-48D3-870E-2EB90EC5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9F0-7B5C-4208-8814-4A2CDC6E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F4D-7752-48E7-842A-10A7BF6B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DCE-E142-4F6F-BBB4-931F2ED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0FE-F028-4E40-926A-F6FD2F1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F9E-B142-4C38-9558-183AC0A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B27-9212-4BD3-B63D-46C0FA4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745-053B-4D35-ADFA-B1F3001843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0280" y="54936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1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717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1.Piola-Kirchhoffův tenzor napětí (označovaný také jako Lagrangeův nebo Piol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mluvní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engineering stress) je definován jako skutečná elementární síla vztažená na původní (tj. ne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4565520" y="3630600"/>
                <a:ext cx="1806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203640" y="5227560"/>
                <a:ext cx="18064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37Z</dcterms:modified>
  <cp:revision>5</cp:revision>
  <dc:subject/>
  <dc:title>Piola-Kirchhoffův tenzor napětí 1. druhu </dc:title>
</cp:coreProperties>
</file>