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4EEC-5748-45A2-A01B-F30520DA89C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25EB-85BD-475E-A500-BDDA3803506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AA0E-5FE4-4B4C-803A-6AF6BE7E29A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F1CF-2D80-4A47-9C8C-A9C9C432858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64C7-47ED-4529-A0B4-558471B7FF4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9FF1-7C88-4C2B-8088-2E5B837B5C9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5020-68DF-4823-8138-BCF3B1C70DA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8A17-8480-4CAA-8C32-D57F5F2C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7566-44A6-4AC1-9CF7-30CBA33F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1FB-D42D-4998-B913-33EFB645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EF7-5FF1-4F96-AE35-211B2941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AAB7-28C5-4041-B9CC-F6BCAB2D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A3AF-F25D-4C5C-9BD2-5D1C6B17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941F-5554-4FBB-BE48-55EE414D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B0C9-3743-4077-8003-9FE6625D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BAF2-344E-462F-BEF2-DA5BCC4E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ACE1-972B-404B-841E-BFDC585F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C0BC-0C40-42AC-B6E1-4DCA4447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3620-2D84-42C0-8519-85528AE7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0D4E-F3CD-4971-B528-BC5AA25A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93EF-7970-4437-8C79-800FD9D8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6D3B-94EF-4C07-948A-4043F2D2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1EEB-1812-4C5E-A26F-41571502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7C89-43D2-43DB-9621-5FE71AB0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357-144C-4DDC-A78F-1058B33A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9497-77B8-4E09-B4C9-0A46C721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8D6-C63E-489C-8C9B-DA78EC6C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10E-9805-4036-A396-0A552047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966-10EB-4C84-BF8E-7BF802B9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57AA-178B-4FD1-9CD5-490354EA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8A9-C95F-4182-AB8A-6DCA22B4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BAF8-7B7C-4700-8412-030B47A0CC1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3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378000" y="1676520"/>
                <a:ext cx="8370720" cy="221112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"/>
              <p:cNvSpPr/>
              <p:nvPr/>
            </p:nvSpPr>
            <p:spPr>
              <a:xfrm>
                <a:off x="396720" y="1676520"/>
                <a:ext cx="8371080" cy="221112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7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1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2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F893-5F39-4CC1-86B9-91D13155C1F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ástupný symbol pro číslo snímku 3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BFB8-0298-4266-90A7-FB53FF11BCE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684360" y="692280"/>
            <a:ext cx="7772400" cy="30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Grantový  projekt  FRVŠ  MŠMT  č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599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/2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/F1/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novac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ýuky nelineární mechaniky těles ve vybraných předmětech studia strojního inženýrstv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bdélník 5"/>
          <p:cNvSpPr/>
          <p:nvPr/>
        </p:nvSpPr>
        <p:spPr>
          <a:xfrm>
            <a:off x="1071720" y="4572000"/>
            <a:ext cx="66434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itel:    Prof. Ing. Jindřich Petruška, CSc.,  FSI VUT v Brn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bdélník 8"/>
          <p:cNvSpPr/>
          <p:nvPr/>
        </p:nvSpPr>
        <p:spPr>
          <a:xfrm>
            <a:off x="2071800" y="4929120"/>
            <a:ext cx="692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f. Ing. Stanislav Holý, CSc., FS ČVUT Pra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c. Ing. Miroslav Španiel, CSc., FS ČVUT Pra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g. Jitka Jágrová, CSc., FS TU Liber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ovéPole 9"/>
          <p:cNvSpPr/>
          <p:nvPr/>
        </p:nvSpPr>
        <p:spPr>
          <a:xfrm>
            <a:off x="169560" y="4005360"/>
            <a:ext cx="88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Část 1 – MKP v nelineárních úlohách mechaniky těles - podklady k přednáškám a samostud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ovéPole 10"/>
          <p:cNvSpPr/>
          <p:nvPr/>
        </p:nvSpPr>
        <p:spPr>
          <a:xfrm>
            <a:off x="433800" y="485784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poluřešitelé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545E-CDD4-46E1-8169-C48C0048BAF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o je příčinou nelineárního chování konstrukcí?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58920" y="3428640"/>
            <a:ext cx="380988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t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GSTR111"/>
          <p:cNvPicPr/>
          <p:nvPr/>
        </p:nvPicPr>
        <p:blipFill>
          <a:blip r:embed="rId1"/>
          <a:stretch/>
        </p:blipFill>
        <p:spPr>
          <a:xfrm>
            <a:off x="1042920" y="3357720"/>
            <a:ext cx="3800520" cy="28670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808200" y="18432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755640" y="1541520"/>
            <a:ext cx="784872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ůžeme identifikovat tři základní příčiny nelineárního chování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é posuvy (případně i přetvoření), tedy změna geometrické konfigurace v průběhu zatěžování (jako např. ztráta stabilit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lineární odezva materiálu (plasticita, viskózní chování …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měna stykové plochy při kontaktu mezi těle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Zástupný symbol pro číslo snímku 7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0D16-8E05-46C3-9BE3-9E645030D93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o je příčinou nelineárního chování konstrukcí?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3924360" y="2924280"/>
                <a:ext cx="11142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 txBox="1"/>
          <p:nvPr/>
        </p:nvSpPr>
        <p:spPr>
          <a:xfrm>
            <a:off x="900000" y="1773360"/>
            <a:ext cx="7710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e všech případech dostaneme nelineární průběh závislosti mezi zatížením a deformací tělesa – tedy proměnnou tuhost konstrukce. Základní rovnice deformační varianty MKP pro statickou lineární úloh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 tuhost nezávisela na deformaci se mění tak, že matice tuhosti je závislá na dosaženém stupni deform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3924360" y="4221000"/>
                <a:ext cx="15192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Zástupný symbol pro číslo snímku 5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F4D9-830C-4E86-8D92-F5F699C8073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Řešení nelineární soustavy rov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3324240" cy="41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Line 5"/>
          <p:cNvSpPr/>
          <p:nvPr/>
        </p:nvSpPr>
        <p:spPr>
          <a:xfrm>
            <a:off x="3059280" y="3141720"/>
            <a:ext cx="792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3708360" y="3141720"/>
            <a:ext cx="0" cy="208764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2124000" y="3933720"/>
            <a:ext cx="1295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276720" y="3933720"/>
            <a:ext cx="0" cy="129564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2124000" y="3933720"/>
            <a:ext cx="1295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619280" y="4459320"/>
            <a:ext cx="1079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2556000" y="3933720"/>
            <a:ext cx="0" cy="50328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3995640" y="3789360"/>
            <a:ext cx="792360" cy="504720"/>
          </a:xfrm>
          <a:prstGeom prst="borderCallout2">
            <a:avLst>
              <a:gd name="adj1" fmla="val 18750"/>
              <a:gd name="adj2" fmla="val -8333"/>
              <a:gd name="adj3" fmla="val 22643"/>
              <a:gd name="adj4" fmla="val -22444"/>
              <a:gd name="adj5" fmla="val 77986"/>
              <a:gd name="adj6" fmla="val -3567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ad 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3995640" y="4581360"/>
            <a:ext cx="7923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48495"/>
              <a:gd name="adj5" fmla="val -29513"/>
              <a:gd name="adj6" fmla="val -89379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2987640" y="3429000"/>
            <a:ext cx="878040" cy="298440"/>
          </a:xfrm>
          <a:prstGeom prst="borderCallout2">
            <a:avLst>
              <a:gd name="adj1" fmla="val 18750"/>
              <a:gd name="adj2" fmla="val -8333"/>
              <a:gd name="adj3" fmla="val 38296"/>
              <a:gd name="adj4" fmla="val -8680"/>
              <a:gd name="adj5" fmla="val 262763"/>
              <a:gd name="adj6" fmla="val -4792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e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4788000" y="1989000"/>
            <a:ext cx="3816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 mnoha MKP systémech je pro řešení nelineárních problémů aplikován algoritmus modifikované Newtonovy-Raphsonovy metody. Celkové zatížení je zde zpravidla rozděleno do jednoho nebo více zatěžovacích kroků (load steps). I v rámci jednoho kroku narůstá zatížení po přírůstcích (substeps), jejichž velikost je obvykle automaticky přizpůsobována aktuální rychlosti konvergence – tedy počtu iterací nutných k dosažení rovnováhy v rámci daného substep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1258920" y="5516640"/>
            <a:ext cx="1944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7"/>
              <p:cNvSpPr txBox="1"/>
              <p:nvPr/>
            </p:nvSpPr>
            <p:spPr>
              <a:xfrm>
                <a:off x="5508720" y="662040"/>
                <a:ext cx="17272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EDA3-950E-4EAE-B09C-6A421B96B35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Řešení nelineární soustavy rovn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5435640" y="662040"/>
                <a:ext cx="180036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3324240" cy="41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Text Box 7"/>
          <p:cNvSpPr/>
          <p:nvPr/>
        </p:nvSpPr>
        <p:spPr>
          <a:xfrm>
            <a:off x="4572000" y="1916280"/>
            <a:ext cx="3851280" cy="45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ždá z iterací představuje řešení lineární soustavy rovnic pro přírůstek posuvů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F – K(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okamžitá matice tuhosti (tečná ke křivce F-u) a na pravé straně je rozdíl mezi aktuálním vnějším zatížením a vnitřními silami v řešeném tělese, označovaný jako reziduum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ční proces je ukončen po splnění kritérií konvergence, která kontrolují velikost reziduálních sil vůči celkovému zatíže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F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ot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 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ípadně i velikost přírůstku posuv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ot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zhledem k předem daným tolerancím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547640" y="4581360"/>
            <a:ext cx="0" cy="503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1846440" y="4219560"/>
            <a:ext cx="0" cy="865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1547640" y="5013360"/>
            <a:ext cx="287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619280" y="4508640"/>
            <a:ext cx="1512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050920" y="3933720"/>
            <a:ext cx="1081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2411280" y="3971880"/>
            <a:ext cx="0" cy="50328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1763640" y="479736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2268360" y="4005360"/>
            <a:ext cx="180036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 – K(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 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17"/>
          <p:cNvSpPr/>
          <p:nvPr/>
        </p:nvSpPr>
        <p:spPr>
          <a:xfrm>
            <a:off x="1989000" y="2246400"/>
            <a:ext cx="638280" cy="39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2579" y="6322"/>
                </a:moveTo>
                <a:lnTo>
                  <a:pt x="-20257" y="6322"/>
                </a:lnTo>
                <a:lnTo>
                  <a:pt x="-20257" y="64010"/>
                </a:lnTo>
                <a:lnTo>
                  <a:pt x="-10048" y="105278"/>
                </a:lnTo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1042920" y="5445000"/>
            <a:ext cx="3240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wtonova-Raphsonova iterační meto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3978360" y="5157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ED5B-0BC1-4D96-AE63-65D5D6A547A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940360" y="1844640"/>
            <a:ext cx="2664000" cy="1584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Řešení nelineární soustavy rov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908000" y="4076640"/>
            <a:ext cx="5616720" cy="196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2" name="Text Box 5"/>
          <p:cNvSpPr/>
          <p:nvPr/>
        </p:nvSpPr>
        <p:spPr>
          <a:xfrm>
            <a:off x="755640" y="1773360"/>
            <a:ext cx="5040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 některých případech může být matice tuhosti singulární, což způsobuje velké problémy s konvergencí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ton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v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aphson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vy metody. V takových případech je vhodné aktivovat metodu „arc length“, která hledá rovnovážný bod v rámci iterací podél oblouku a snáze se tak vyrovná s případy nulové nebo i negativní tuhosti konstrukce, která nastává typicky u stabilitních problémů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Object 7"/>
          <p:cNvGraphicFramePr/>
          <p:nvPr/>
        </p:nvGraphicFramePr>
        <p:xfrm>
          <a:off x="5940360" y="1773360"/>
          <a:ext cx="2579760" cy="172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773360"/>
                    <a:ext cx="257976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EFC6-7104-4900-B780-F7C84580248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2556000" y="3429000"/>
            <a:ext cx="3527280" cy="2808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onzervativní a nekonzervativní soust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755640" y="1773360"/>
            <a:ext cx="7632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ro volbu velikosti zatěžovacích přírůstků je důležité, zda je vyšetřovaný problém pružný, tj. křivka F-u je stejná pro fázi zatížení i odlehčení, nebo ne. V prvním případě hovoříme o konzervativní, ve druhém o nekonzervativní soustavě. U konzervativních soustav nezáleží na posloupnosti zatěžovacích kroků a pro dané zatížení je deformace i napjatost vždy stejná. U nekonzervativních záleží výsledek na celé historii zatěžování, nejen na finální hodnotě. Zpravidla je proto nutné u takových úloh volit menší přírůstky zatížení, abychom správně kopírovali celou zatěžovací cestu. Typickým příkladem nekonzervativních problémů jsou úlohy z oblasti plastic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0" descr="GSTR105"/>
          <p:cNvPicPr/>
          <p:nvPr/>
        </p:nvPicPr>
        <p:blipFill>
          <a:blip r:embed="rId1"/>
          <a:stretch/>
        </p:blipFill>
        <p:spPr>
          <a:xfrm>
            <a:off x="2771640" y="3706920"/>
            <a:ext cx="3110040" cy="23860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3276720" y="3645000"/>
            <a:ext cx="1871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lastický klo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7:15:50Z</dcterms:created>
  <dc:creator>Rudolf Fret</dc:creator>
  <dc:description/>
  <dc:language>en-US</dc:language>
  <cp:lastModifiedBy>Jindřich Petruška</cp:lastModifiedBy>
  <dcterms:modified xsi:type="dcterms:W3CDTF">2010-01-11T21:03:14Z</dcterms:modified>
  <cp:revision>119</cp:revision>
  <dc:subject/>
  <dc:title>STRUKTURNÍ STABILITA ŽÁRUPEVNÝCH OCELÍ A JEJICH SVAROVÝCH SPOJŮ</dc:title>
</cp:coreProperties>
</file>