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6.jpeg" ContentType="image/jpeg"/>
  <Override PartName="/ppt/media/image24.png" ContentType="image/png"/>
  <Override PartName="/ppt/media/image22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4285-FA9E-44F6-8BAE-BB212D6106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E067-60E5-4A87-B51B-0D716F8657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206B-D2DA-43C0-8698-9F90735DE9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B244-E4BA-49DE-9926-5CCC3587D4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31F2-F598-4F02-984F-5DB69D6E38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3E94-8D81-4C73-8626-87F68E8CD03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B7D-4E33-4C37-928A-0A09D5ED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776-54BB-4290-A946-E956F93A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BA8-90DD-4327-9E9F-8E209B86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67B-DF09-4A36-9264-2AFDC792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BF63-DB2A-4267-A088-02BD5335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F38E-836C-435E-AF92-3F295E14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15EF-9894-4896-A977-EA6C5D9E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6B4C-A9D9-4DE3-9CCD-9E5F5968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32B6-209F-468E-B807-CBA87A29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C0A3-3374-4D2F-9BB6-B66A6FE3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3479-7708-482B-921D-84D26A00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E57-DA52-4757-A7C9-539ED9D3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EBAA-477D-423F-A239-67C596FA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A391-3788-4885-B4B5-C32F6F14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BAF9-2959-42BC-A26F-414987CD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47CD-7219-4584-9F00-F7AEF7B6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A28F-DEC9-41A6-9D19-2016D9F3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84F-BA0F-4B12-8450-E2A2A26C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0D2-B706-4619-910E-A2B286DC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86B-1653-42BB-824E-7AFF100A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A65-B109-41B7-9E41-009300F2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732-3CF0-49E3-A89B-08D50CFF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2ED-4E7E-414A-9DC6-78905C64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C43-15AE-4832-BA33-720CC08B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609C-0CAE-4A44-84AA-1F4DE596873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E060-A431-4E2F-B2B7-AAA33A73D9D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B246-1464-48D0-9A18-1197739B6CC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ĚKTERÉ PROBLÉMY VÝPOČTOVÉ SIMULACE TVÁŘECÍCH PROCES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47419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Z historie výpočtového řeš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aint-Venant (70. léta 19.stol.) – deformační teorie plast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.Prandtl (1921) – teorie kluzových č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.Hill (1950) – inkrementální teorie plast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ornfield, Lee, Zienkiewicz (70. léta 20.stol.) – MKP v problémech tvář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120" name="Rectangle 6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Object 7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3" name="Picture 9" descr="O8"/>
          <p:cNvPicPr/>
          <p:nvPr/>
        </p:nvPicPr>
        <p:blipFill>
          <a:blip r:embed="rId3"/>
          <a:stretch/>
        </p:blipFill>
        <p:spPr>
          <a:xfrm>
            <a:off x="5003640" y="1628640"/>
            <a:ext cx="2727360" cy="152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Picture 10" descr="O9"/>
          <p:cNvPicPr/>
          <p:nvPr/>
        </p:nvPicPr>
        <p:blipFill>
          <a:blip r:embed="rId4"/>
          <a:stretch/>
        </p:blipFill>
        <p:spPr>
          <a:xfrm>
            <a:off x="5364000" y="3213000"/>
            <a:ext cx="3267360" cy="9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5210280" y="4425840"/>
                <a:ext cx="15224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ε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dλ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4804-6E68-4116-98DB-DC1CFD3B522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plikace explicitního algoritmu M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Výpočtová predikce zvlnění okrajů při lisování lamel odporníků elektrických lokomoti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6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234" name="Rectangle 7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5" name="Object 8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Napětí ve směru osy Z - celá lamela.avi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3809880" cy="2852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24494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21" descr=""/>
          <p:cNvPicPr/>
          <p:nvPr/>
        </p:nvPicPr>
        <p:blipFill>
          <a:blip r:embed="rId5"/>
          <a:srcRect l="0" t="0" r="0" b="12434"/>
          <a:stretch/>
        </p:blipFill>
        <p:spPr>
          <a:xfrm>
            <a:off x="5003640" y="2133720"/>
            <a:ext cx="3387960" cy="1971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2" descr=""/>
          <p:cNvPicPr/>
          <p:nvPr/>
        </p:nvPicPr>
        <p:blipFill>
          <a:blip r:embed="rId6"/>
          <a:srcRect l="0" t="2210" r="0" b="6999"/>
          <a:stretch/>
        </p:blipFill>
        <p:spPr>
          <a:xfrm>
            <a:off x="5724360" y="4149720"/>
            <a:ext cx="2907000" cy="20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" name="AutoShape 23"/>
          <p:cNvSpPr/>
          <p:nvPr/>
        </p:nvSpPr>
        <p:spPr>
          <a:xfrm>
            <a:off x="6588000" y="3645000"/>
            <a:ext cx="289080" cy="647640"/>
          </a:xfrm>
          <a:prstGeom prst="upDownArrow">
            <a:avLst>
              <a:gd name="adj1" fmla="val 50000"/>
              <a:gd name="adj2" fmla="val 44599"/>
            </a:avLst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24"/>
          <p:cNvSpPr/>
          <p:nvPr/>
        </p:nvSpPr>
        <p:spPr>
          <a:xfrm>
            <a:off x="7380360" y="26028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e4fb0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0200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81D0-5E82-48B2-83B2-B4AD718BA43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tová predikce tvárného poruš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rné porušení jako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ežádoucí fenomé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terý limituje míru přípustných tvarových změ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mpirická kritéria tvárného lomu ty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kritické zhodnocení použitelnosti jednotlivých kritéri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návrh postupu výpočtově- experimentální kalibrace jednotlivých kritérií pro konkrétní materiá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implementace kritérií do postprocesoru MK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aplikace na základní typy tvářecích proces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5" descr="cockroft_srouby_v92"/>
          <p:cNvPicPr/>
          <p:nvPr/>
        </p:nvPicPr>
        <p:blipFill>
          <a:blip r:embed="rId1"/>
          <a:stretch/>
        </p:blipFill>
        <p:spPr>
          <a:xfrm>
            <a:off x="6732720" y="3645000"/>
            <a:ext cx="188748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Picture 17" descr="P1100478"/>
          <p:cNvPicPr/>
          <p:nvPr/>
        </p:nvPicPr>
        <p:blipFill>
          <a:blip r:embed="rId2"/>
          <a:stretch/>
        </p:blipFill>
        <p:spPr>
          <a:xfrm>
            <a:off x="826920" y="4437000"/>
            <a:ext cx="2629080" cy="1809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file009"/>
          <p:cNvPicPr/>
          <p:nvPr/>
        </p:nvPicPr>
        <p:blipFill>
          <a:blip r:embed="rId3"/>
          <a:stretch/>
        </p:blipFill>
        <p:spPr>
          <a:xfrm>
            <a:off x="3780000" y="4451400"/>
            <a:ext cx="2736720" cy="207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54" name="Object 21"/>
              <p:cNvSpPr txBox="1"/>
              <p:nvPr/>
            </p:nvSpPr>
            <p:spPr>
              <a:xfrm>
                <a:off x="5508720" y="2120760"/>
                <a:ext cx="14824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A28D-1D15-4043-B770-63696A205DD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tová predikce tvárného poruš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várné porušení jako klíčový proces při popisu operací dělení materiá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užití modelů založených na popisu iniciace, růstu a koalescence du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plikace na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roces ořezávání hlav šroub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260" name="Rectangle 5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1" name="Object 6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Radius.avi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101760" cy="2327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1" descr=""/>
          <p:cNvPicPr/>
          <p:nvPr/>
        </p:nvPicPr>
        <p:blipFill>
          <a:blip r:embed="rId4"/>
          <a:stretch/>
        </p:blipFill>
        <p:spPr>
          <a:xfrm>
            <a:off x="826920" y="52466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2" descr=""/>
          <p:cNvPicPr/>
          <p:nvPr/>
        </p:nvPicPr>
        <p:blipFill>
          <a:blip r:embed="rId5"/>
          <a:stretch/>
        </p:blipFill>
        <p:spPr>
          <a:xfrm>
            <a:off x="1835280" y="5064120"/>
            <a:ext cx="1655640" cy="1241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3" descr=""/>
          <p:cNvPicPr/>
          <p:nvPr/>
        </p:nvPicPr>
        <p:blipFill>
          <a:blip r:embed="rId6"/>
          <a:stretch/>
        </p:blipFill>
        <p:spPr>
          <a:xfrm>
            <a:off x="2771640" y="477684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4" descr="16"/>
          <p:cNvPicPr/>
          <p:nvPr/>
        </p:nvPicPr>
        <p:blipFill>
          <a:blip r:embed="rId7"/>
          <a:stretch/>
        </p:blipFill>
        <p:spPr>
          <a:xfrm>
            <a:off x="3419640" y="3552840"/>
            <a:ext cx="24699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8200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Zástupný symbol pro číslo snímku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5E92-DB8B-41FE-B43D-B99AC139306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61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tová simulace tvářecích procesů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hrnutí a perspekti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toda konečných prvků se i v oblasti tváření prosadila jako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standardní nástroj počítačové podpor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ro návrh a optimalizaci procesních parametrů a geometrie nástroj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alší vývoj lze díky stále rostoucím výkonům výpočetní techniky očekávat v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ostupném nahrazování dosud dominujícího modelu makroskopického kontinua strukturně-mechanickými materiálovými model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a bázi mesomechaniky. Zejména se to týká modelů v oblasti  - lokalizace plastických efektů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poškozování a tvárného lom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strukturně vázaných výpočtových mode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stykových podmínek u „multibody“ úlo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276" name="Rectangle 6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7" name="Object 7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8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ástupný symbol pro číslo snímku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142A-E327-4C90-8025-2DD327F6B6A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uhoplastická rychlostní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ormu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5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130" name="Rectangle 6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1" name="Object 7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33" name="Object 141"/>
              <p:cNvSpPr txBox="1"/>
              <p:nvPr/>
            </p:nvSpPr>
            <p:spPr>
              <a:xfrm>
                <a:off x="5068800" y="2781360"/>
                <a:ext cx="1519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40"/>
              <p:cNvSpPr txBox="1"/>
              <p:nvPr/>
            </p:nvSpPr>
            <p:spPr>
              <a:xfrm>
                <a:off x="3564000" y="3463920"/>
                <a:ext cx="2232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39"/>
              <p:cNvSpPr txBox="1"/>
              <p:nvPr/>
            </p:nvSpPr>
            <p:spPr>
              <a:xfrm>
                <a:off x="6300720" y="3429000"/>
                <a:ext cx="2232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38"/>
              <p:cNvSpPr txBox="1"/>
              <p:nvPr/>
            </p:nvSpPr>
            <p:spPr>
              <a:xfrm>
                <a:off x="3564000" y="4197240"/>
                <a:ext cx="14396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l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Rectangle 150"/>
          <p:cNvSpPr/>
          <p:nvPr/>
        </p:nvSpPr>
        <p:spPr>
          <a:xfrm>
            <a:off x="0" y="2104920"/>
            <a:ext cx="44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53"/>
          <p:cNvSpPr/>
          <p:nvPr/>
        </p:nvSpPr>
        <p:spPr>
          <a:xfrm>
            <a:off x="0" y="210492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55"/>
          <p:cNvSpPr/>
          <p:nvPr/>
        </p:nvSpPr>
        <p:spPr>
          <a:xfrm>
            <a:off x="0" y="210492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58"/>
          <p:cNvSpPr/>
          <p:nvPr/>
        </p:nvSpPr>
        <p:spPr>
          <a:xfrm>
            <a:off x="0" y="210492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60"/>
          <p:cNvSpPr/>
          <p:nvPr/>
        </p:nvSpPr>
        <p:spPr>
          <a:xfrm>
            <a:off x="0" y="278136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5"/>
          <p:cNvSpPr/>
          <p:nvPr/>
        </p:nvSpPr>
        <p:spPr>
          <a:xfrm>
            <a:off x="6229440" y="51195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álníh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kon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61"/>
          <p:cNvSpPr/>
          <p:nvPr/>
        </p:nvSpPr>
        <p:spPr>
          <a:xfrm>
            <a:off x="0" y="475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3"/>
          <p:cNvSpPr/>
          <p:nvPr/>
        </p:nvSpPr>
        <p:spPr>
          <a:xfrm>
            <a:off x="1180080" y="1773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roblé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5"/>
          <p:cNvSpPr/>
          <p:nvPr/>
        </p:nvSpPr>
        <p:spPr>
          <a:xfrm>
            <a:off x="3702600" y="1773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lasti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66"/>
          <p:cNvSpPr/>
          <p:nvPr/>
        </p:nvSpPr>
        <p:spPr>
          <a:xfrm>
            <a:off x="6588000" y="177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vář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6"/>
          <p:cNvSpPr/>
          <p:nvPr/>
        </p:nvSpPr>
        <p:spPr>
          <a:xfrm>
            <a:off x="870480" y="220500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eznámá veliči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88"/>
          <p:cNvSpPr/>
          <p:nvPr/>
        </p:nvSpPr>
        <p:spPr>
          <a:xfrm>
            <a:off x="2676600" y="5148360"/>
            <a:ext cx="3408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irtuální prá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89"/>
          <p:cNvSpPr/>
          <p:nvPr/>
        </p:nvSpPr>
        <p:spPr>
          <a:xfrm>
            <a:off x="3709800" y="2205000"/>
            <a:ext cx="1038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suv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90"/>
          <p:cNvSpPr/>
          <p:nvPr/>
        </p:nvSpPr>
        <p:spPr>
          <a:xfrm>
            <a:off x="6601320" y="2168640"/>
            <a:ext cx="130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ost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91"/>
          <p:cNvSpPr/>
          <p:nvPr/>
        </p:nvSpPr>
        <p:spPr>
          <a:xfrm>
            <a:off x="866160" y="285264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Rovnice rovnová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94"/>
          <p:cNvSpPr/>
          <p:nvPr/>
        </p:nvSpPr>
        <p:spPr>
          <a:xfrm>
            <a:off x="819360" y="3429000"/>
            <a:ext cx="23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Geometrické vzta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95"/>
          <p:cNvSpPr/>
          <p:nvPr/>
        </p:nvSpPr>
        <p:spPr>
          <a:xfrm>
            <a:off x="764640" y="422100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onstitutivní rovn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96"/>
          <p:cNvSpPr/>
          <p:nvPr/>
        </p:nvSpPr>
        <p:spPr>
          <a:xfrm>
            <a:off x="839880" y="5157720"/>
            <a:ext cx="229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Výchozí princ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Diskretizace MK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9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97"/>
              <p:cNvSpPr txBox="1"/>
              <p:nvPr/>
            </p:nvSpPr>
            <p:spPr>
              <a:xfrm>
                <a:off x="6300720" y="3860640"/>
                <a:ext cx="1532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</m:acc>
                      </m:den>
                    </m:f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Rectangle 30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99"/>
              <p:cNvSpPr txBox="1"/>
              <p:nvPr/>
            </p:nvSpPr>
            <p:spPr>
              <a:xfrm>
                <a:off x="6300720" y="4683240"/>
                <a:ext cx="23036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</m:acc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30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01"/>
              <p:cNvSpPr txBox="1"/>
              <p:nvPr/>
            </p:nvSpPr>
            <p:spPr>
              <a:xfrm>
                <a:off x="3830760" y="5751360"/>
                <a:ext cx="10476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03"/>
              <p:cNvSpPr txBox="1"/>
              <p:nvPr/>
            </p:nvSpPr>
            <p:spPr>
              <a:xfrm>
                <a:off x="6227640" y="5746680"/>
                <a:ext cx="2376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Line 305"/>
          <p:cNvSpPr/>
          <p:nvPr/>
        </p:nvSpPr>
        <p:spPr>
          <a:xfrm>
            <a:off x="3276720" y="1773360"/>
            <a:ext cx="0" cy="4392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06"/>
          <p:cNvSpPr/>
          <p:nvPr/>
        </p:nvSpPr>
        <p:spPr>
          <a:xfrm>
            <a:off x="5867280" y="1773360"/>
            <a:ext cx="0" cy="93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07"/>
          <p:cNvSpPr/>
          <p:nvPr/>
        </p:nvSpPr>
        <p:spPr>
          <a:xfrm>
            <a:off x="5867280" y="3357720"/>
            <a:ext cx="0" cy="2808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08"/>
          <p:cNvSpPr/>
          <p:nvPr/>
        </p:nvSpPr>
        <p:spPr>
          <a:xfrm>
            <a:off x="684360" y="220500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09"/>
          <p:cNvSpPr/>
          <p:nvPr/>
        </p:nvSpPr>
        <p:spPr>
          <a:xfrm>
            <a:off x="684360" y="270828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10"/>
          <p:cNvSpPr/>
          <p:nvPr/>
        </p:nvSpPr>
        <p:spPr>
          <a:xfrm>
            <a:off x="684360" y="335772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11"/>
          <p:cNvSpPr/>
          <p:nvPr/>
        </p:nvSpPr>
        <p:spPr>
          <a:xfrm>
            <a:off x="684360" y="389556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12"/>
          <p:cNvSpPr/>
          <p:nvPr/>
        </p:nvSpPr>
        <p:spPr>
          <a:xfrm>
            <a:off x="684360" y="515772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13"/>
          <p:cNvSpPr/>
          <p:nvPr/>
        </p:nvSpPr>
        <p:spPr>
          <a:xfrm>
            <a:off x="755640" y="5661000"/>
            <a:ext cx="7920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14"/>
          <p:cNvSpPr/>
          <p:nvPr/>
        </p:nvSpPr>
        <p:spPr>
          <a:xfrm>
            <a:off x="684360" y="1773360"/>
            <a:ext cx="7991280" cy="4392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52F3-B0A1-43D6-837C-5745C03E00D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4" descr="O6"/>
          <p:cNvPicPr/>
          <p:nvPr/>
        </p:nvPicPr>
        <p:blipFill>
          <a:blip r:embed="rId1"/>
          <a:stretch/>
        </p:blipFill>
        <p:spPr>
          <a:xfrm>
            <a:off x="826920" y="3789360"/>
            <a:ext cx="3071880" cy="24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 aplikace válc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D a 3D problé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družené teplotně-deformační řeš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stacionární analý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pojení stude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polupráce s průmys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ÚHŽ Dobrá, ITA Ostr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178" name="Rectangle 6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9" name="Object 7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0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1" descr="O1"/>
          <p:cNvPicPr/>
          <p:nvPr/>
        </p:nvPicPr>
        <p:blipFill>
          <a:blip r:embed="rId4"/>
          <a:stretch/>
        </p:blipFill>
        <p:spPr>
          <a:xfrm>
            <a:off x="6659640" y="260280"/>
            <a:ext cx="208584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Picture 25" descr="O7"/>
          <p:cNvPicPr/>
          <p:nvPr/>
        </p:nvPicPr>
        <p:blipFill>
          <a:blip r:embed="rId5"/>
          <a:stretch/>
        </p:blipFill>
        <p:spPr>
          <a:xfrm>
            <a:off x="5224320" y="1700280"/>
            <a:ext cx="3451320" cy="22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8" name="Picture 22" descr="O2"/>
          <p:cNvPicPr/>
          <p:nvPr/>
        </p:nvPicPr>
        <p:blipFill>
          <a:blip r:embed="rId6"/>
          <a:stretch/>
        </p:blipFill>
        <p:spPr>
          <a:xfrm>
            <a:off x="4211640" y="3573360"/>
            <a:ext cx="3987720" cy="208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Zástupný symbol pro číslo snímku 7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111E-E2AD-4CA5-B34A-40563D99799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obr01"/>
          <p:cNvPicPr/>
          <p:nvPr/>
        </p:nvPicPr>
        <p:blipFill>
          <a:blip r:embed="rId1"/>
          <a:stretch/>
        </p:blipFill>
        <p:spPr>
          <a:xfrm>
            <a:off x="2700360" y="2349360"/>
            <a:ext cx="5543640" cy="356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obr02"/>
          <p:cNvPicPr/>
          <p:nvPr/>
        </p:nvPicPr>
        <p:blipFill>
          <a:blip r:embed="rId2"/>
          <a:stretch/>
        </p:blipFill>
        <p:spPr>
          <a:xfrm>
            <a:off x="1044720" y="2349360"/>
            <a:ext cx="4606920" cy="3529080"/>
          </a:xfrm>
          <a:prstGeom prst="rect">
            <a:avLst/>
          </a:prstGeom>
          <a:ln w="0">
            <a:noFill/>
          </a:ln>
        </p:spPr>
      </p:pic>
      <p:pic>
        <p:nvPicPr>
          <p:cNvPr id="193" name="animace04.avi" descr=""/>
          <p:cNvPicPr/>
          <p:nvPr/>
        </p:nvPicPr>
        <p:blipFill>
          <a:blip r:embed="rId3"/>
          <a:stretch/>
        </p:blipFill>
        <p:spPr>
          <a:xfrm>
            <a:off x="5938920" y="189000"/>
            <a:ext cx="2954160" cy="20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112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příčného vál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0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Zástupný symbol pro číslo snímku 7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2FFF-65F7-44ED-BB7E-4B8CB948B75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3" descr="obr07"/>
          <p:cNvPicPr/>
          <p:nvPr/>
        </p:nvPicPr>
        <p:blipFill>
          <a:blip r:embed="rId1"/>
          <a:stretch/>
        </p:blipFill>
        <p:spPr>
          <a:xfrm>
            <a:off x="826920" y="1773360"/>
            <a:ext cx="4537080" cy="33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Picture 4" descr="obr08"/>
          <p:cNvPicPr/>
          <p:nvPr/>
        </p:nvPicPr>
        <p:blipFill>
          <a:blip r:embed="rId2"/>
          <a:stretch/>
        </p:blipFill>
        <p:spPr>
          <a:xfrm>
            <a:off x="4356000" y="3206880"/>
            <a:ext cx="4138560" cy="30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Picture 5" descr="FSI-ZP1-ANGL-SPEC"/>
          <p:cNvPicPr/>
          <p:nvPr/>
        </p:nvPicPr>
        <p:blipFill>
          <a:blip r:embed="rId3"/>
          <a:stretch/>
        </p:blipFill>
        <p:spPr>
          <a:xfrm>
            <a:off x="6915240" y="189000"/>
            <a:ext cx="183348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854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příčného vál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2835-F1D6-4C70-85AA-9F0D38BCF48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animace10.avi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810240" cy="3352680"/>
          </a:xfrm>
          <a:prstGeom prst="rect">
            <a:avLst/>
          </a:prstGeom>
          <a:ln w="0">
            <a:noFill/>
          </a:ln>
        </p:spPr>
      </p:pic>
      <p:pic>
        <p:nvPicPr>
          <p:cNvPr id="204" name="animace11.avi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FSI-ZP1-ANGL-SPEC"/>
          <p:cNvPicPr/>
          <p:nvPr/>
        </p:nvPicPr>
        <p:blipFill>
          <a:blip r:embed="rId3"/>
          <a:stretch/>
        </p:blipFill>
        <p:spPr>
          <a:xfrm>
            <a:off x="6915240" y="189000"/>
            <a:ext cx="183348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příčného vál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B20F-DE12-4D18-BEB6-A3D32E71F93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animace12.avi" descr=""/>
          <p:cNvPicPr/>
          <p:nvPr/>
        </p:nvPicPr>
        <p:blipFill>
          <a:blip r:embed="rId1"/>
          <a:stretch/>
        </p:blipFill>
        <p:spPr>
          <a:xfrm>
            <a:off x="838080" y="2205000"/>
            <a:ext cx="3810240" cy="3208320"/>
          </a:xfrm>
          <a:prstGeom prst="rect">
            <a:avLst/>
          </a:prstGeom>
          <a:ln w="0">
            <a:noFill/>
          </a:ln>
        </p:spPr>
      </p:pic>
      <p:pic>
        <p:nvPicPr>
          <p:cNvPr id="210" name="animace13.avi" descr=""/>
          <p:cNvPicPr/>
          <p:nvPr/>
        </p:nvPicPr>
        <p:blipFill>
          <a:blip r:embed="rId2"/>
          <a:stretch/>
        </p:blipFill>
        <p:spPr>
          <a:xfrm>
            <a:off x="4800600" y="2163600"/>
            <a:ext cx="3809880" cy="3291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FSI-ZP1-ANGL-SPEC"/>
          <p:cNvPicPr/>
          <p:nvPr/>
        </p:nvPicPr>
        <p:blipFill>
          <a:blip r:embed="rId3"/>
          <a:stretch/>
        </p:blipFill>
        <p:spPr>
          <a:xfrm>
            <a:off x="6915240" y="189000"/>
            <a:ext cx="183348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příčného vál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Zástupný symbol pro číslo snímku 7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540E-8C34-48B4-8286-38799AEC859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nimace14.avi" descr=""/>
          <p:cNvPicPr/>
          <p:nvPr/>
        </p:nvPicPr>
        <p:blipFill>
          <a:blip r:embed="rId1"/>
          <a:stretch/>
        </p:blipFill>
        <p:spPr>
          <a:xfrm>
            <a:off x="755640" y="1763640"/>
            <a:ext cx="3013200" cy="260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animace15.avi" descr=""/>
          <p:cNvPicPr/>
          <p:nvPr/>
        </p:nvPicPr>
        <p:blipFill>
          <a:blip r:embed="rId2"/>
          <a:stretch/>
        </p:blipFill>
        <p:spPr>
          <a:xfrm>
            <a:off x="3132000" y="2852640"/>
            <a:ext cx="2725920" cy="235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animace16.avi" descr=""/>
          <p:cNvPicPr/>
          <p:nvPr/>
        </p:nvPicPr>
        <p:blipFill>
          <a:blip r:embed="rId3"/>
          <a:stretch/>
        </p:blipFill>
        <p:spPr>
          <a:xfrm>
            <a:off x="5557680" y="3886200"/>
            <a:ext cx="2830680" cy="24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6" descr="FSI-ZP1-ANGL-SPEC"/>
          <p:cNvPicPr/>
          <p:nvPr/>
        </p:nvPicPr>
        <p:blipFill>
          <a:blip r:embed="rId4"/>
          <a:stretch/>
        </p:blipFill>
        <p:spPr>
          <a:xfrm>
            <a:off x="6915240" y="217440"/>
            <a:ext cx="1833480" cy="11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válcování v kalib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2E85-9FCF-4815-9198-A11F0AC0591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5965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mplicitní a explicitní algoritmus MKP v simulaci tvář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5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mplicitní algorit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ované řešení velké soustavy rovn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eární závislost délky řešení na počtu neznámých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dratická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šířce pásu (fronty) matic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blém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3D analý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tížná predikovatelnost délky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Explicitní algoritmu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pouze dynamické problé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 u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( 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- u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diagonální matic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pad soustavy na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ezávislé rovni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pouze lineární závislost délky řešení na počtu neznámý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velmi rychlé řešení jednotlivých kro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hodné pro 3D analýzy rychlých děj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od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něně stabilní řeš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3276720" y="1700280"/>
                <a:ext cx="14875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6032520" y="2540160"/>
                <a:ext cx="1344600" cy="25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" name="AutoShape 12"/>
          <p:cNvSpPr/>
          <p:nvPr/>
        </p:nvSpPr>
        <p:spPr>
          <a:xfrm flipH="1">
            <a:off x="7424640" y="2637000"/>
            <a:ext cx="503280" cy="288720"/>
          </a:xfrm>
          <a:prstGeom prst="rightArrow">
            <a:avLst>
              <a:gd name="adj1" fmla="val 75824"/>
              <a:gd name="adj2" fmla="val 53335"/>
            </a:avLst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 flipH="1">
            <a:off x="5650920" y="5065560"/>
            <a:ext cx="502920" cy="289080"/>
          </a:xfrm>
          <a:prstGeom prst="rightArrow">
            <a:avLst>
              <a:gd name="adj1" fmla="val 75824"/>
              <a:gd name="adj2" fmla="val 53231"/>
            </a:avLst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7:15:50Z</dcterms:created>
  <dc:creator>Rudolf Fret</dc:creator>
  <dc:description/>
  <dc:language>en-US</dc:language>
  <cp:lastModifiedBy>Prof. Jindrich Petruska</cp:lastModifiedBy>
  <dcterms:modified xsi:type="dcterms:W3CDTF">2010-01-08T11:47:45Z</dcterms:modified>
  <cp:revision>83</cp:revision>
  <dc:subject/>
  <dc:title>STRUKTURNÍ STABILITA ŽÁRUPEVNÝCH OCELÍ A JEJICH SVAROVÝCH SPOJŮ</dc:title>
</cp:coreProperties>
</file>