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5E8E-22D4-4F2E-B6A7-C441D53272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C1F-B3AA-4960-ADE5-6E0C3CCCCE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EB8D-1C3E-472C-BE2E-7D59C77A3F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57F-9FCE-4D0B-9640-AFF86C798F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24BA-3CA6-480B-9D05-D6773EFCB7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8E39-F3E1-45E6-8228-7B503FD161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E6EF-2359-4EF2-967F-CBEA48F875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A4A0-3410-43B7-A8CB-3B1AA3FE6A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FF5-D684-46E2-8B71-1C35EE5258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5BE-0C75-4F6B-A4B1-E1259955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62D-613E-469E-866F-6C19235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219-8591-43F1-87B4-3FDA444E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2CE-49B0-4D3D-95DB-815B19FB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B67-B7D8-4831-AFCA-E4E294A1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6D5-DD85-4826-9AE6-7AE54886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FF4-E60D-4861-9055-E690CBD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D89-307B-421F-8076-3E841A01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BDB-F703-4772-BE65-636FD6C6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51F-1894-4FDB-8C5F-4B038FA4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8DC-6633-48B5-8C4B-C7F87E4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E5A-C9DE-4258-BB83-DD7ADEB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7078-AB30-4047-9CCC-DD0767F08D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deformovan&#233;%20sou&#345;adnice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p&#345;etvo&#345;en&#237;_smluvn&#237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344600" y="1571760"/>
          <a:ext cx="645480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571760"/>
                    <a:ext cx="645480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6" descr="GSTR110"/>
          <p:cNvPicPr/>
          <p:nvPr/>
        </p:nvPicPr>
        <p:blipFill>
          <a:blip r:embed="rId3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826920" y="45036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arita je zapříčiněna „velkými“ posuvy, kter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ýt doprovázeny velkým přetvořením. Podle toho rozlišujeme dva rozdílné případy geometrické neline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elké posuvy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elká přetvoř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tra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zahrnují v sobě vždy i velké pos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4081320" y="3616200"/>
                <a:ext cx="2578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26920" y="4765680"/>
            <a:ext cx="3468960" cy="14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 Box 10"/>
          <p:cNvSpPr/>
          <p:nvPr/>
        </p:nvSpPr>
        <p:spPr>
          <a:xfrm>
            <a:off x="5076720" y="5013360"/>
            <a:ext cx="32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ární rozklad na příkladu smykové de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otace + Změna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84360" y="620640"/>
            <a:ext cx="799128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 rozklad deformačního gradi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 = R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gonál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nzor r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rotace elementárního okol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vý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nzor protaže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hlavním souřadném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změna tvaru elementárního prv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irozených přetvo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3564000" y="1844640"/>
                <a:ext cx="3240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AutoShape 13"/>
          <p:cNvSpPr/>
          <p:nvPr/>
        </p:nvSpPr>
        <p:spPr>
          <a:xfrm>
            <a:off x="4427640" y="5373720"/>
            <a:ext cx="503280" cy="288720"/>
          </a:xfrm>
          <a:prstGeom prst="lef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5"/>
              <p:cNvSpPr txBox="1"/>
              <p:nvPr/>
            </p:nvSpPr>
            <p:spPr>
              <a:xfrm>
                <a:off x="6399360" y="2565360"/>
                <a:ext cx="2060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755640" y="836640"/>
            <a:ext cx="79200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nzory napětí při velkých přetvo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ší se podle toho, v jaké geometrické konfiguraci je vyjádřena plocha, přenášející vnitřní síly v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uchyho tenzor skutečných napětí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e skutečné ploše v aktuální deformovan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 ploše v počáteční geometrick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z tenzorů je energeticky konjugovaný s Almansiho tenzorem přetvoření, druhý s Green-Lagrangeovým tenzorem přetvoření, proto využíván v oblasti analýzy deformovateln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souzení mezních stavů těles je nutno znát přepočet mezi oběma tenz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de představuje deformační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5065560" y="2421000"/>
                <a:ext cx="1019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086440" y="3500280"/>
                <a:ext cx="998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547640" y="5843520"/>
                <a:ext cx="1729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468360" y="476280"/>
            <a:ext cx="7993080" cy="64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napětí je de facto dobře známým „smluvním napětím“, používaným tradičně pro záznam tahové zkoušky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napětí F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luvní napětí F/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využití prvního P.-K. tenzoru je komplikováno skutečností, že se jedná o nesymetrický tenzor. Proto se více vy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Druhý Piola-Kirchhoffův tenzor napětí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 ploše v počáteční geometrické konfiguraci je vztažena fiktivní síla, přepočtená ze skutečné síly pomocí deformačního gradientu. Jedná se o symetrický tenzor bez jasné fyzikální interpretace, který je používán proto, že je energeticky konjugovaný s Green-Lagrangeovým tenzorem přetvoření. Jeho transformace na skutečný tenzor napětí je dána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763640" y="1197000"/>
          <a:ext cx="2743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2743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1763640" y="5943600"/>
                <a:ext cx="2376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903240" y="2573280"/>
          <a:ext cx="33544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573280"/>
                    <a:ext cx="3354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5859360" y="4964040"/>
                <a:ext cx="1449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4181400" y="4521240"/>
                <a:ext cx="1073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4249800" y="5186520"/>
                <a:ext cx="923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4086360" y="3357720"/>
                <a:ext cx="706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086360" y="2708280"/>
                <a:ext cx="769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5640480" y="3130560"/>
                <a:ext cx="14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3"/>
          <p:cNvSpPr/>
          <p:nvPr/>
        </p:nvSpPr>
        <p:spPr>
          <a:xfrm>
            <a:off x="4356000" y="256536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788000" y="4221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468360" y="69228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počet pracovního diagramu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smluvních hodnot inženýrského napětí a přetvoření na závislost mezi skutečným napětím a přirozeným (logaritmickým) přetvo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8360" y="732240"/>
            <a:ext cx="77058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lké posuvy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díl mezi výchozí nedeformovanou geometri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 deformovanou geometrickou konfigurac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le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brázk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e popsán jednoduchým vztahem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 = X + 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 rovnováhy v lineárním případě, vyjádřené pomocí MKP známou rovnic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K.U = F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pisují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deformovan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tav. Pro sestavení matice tuhosti se ovšem vychází z výchozí, známé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nedeformovan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onfigurace, te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tom j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 výsledky lze akceptovat pouze za předpokladu, že posuv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e zanedbatelný z hlediska změny geometrie řešeného probl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Kdy to lze předpoklád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to bohužel neexistuje jednoduše kvantifikovatelná odpověď.  Například u tenkostěnných konstrukcí se uvádí jako hrubé měřítko požadavek, aby průhyb nepřesáhl tloušťku stěn. Jak se lze přesvědčit, v některých případech dominantního ohybového namáhání, případně spojeného s tahovou membránovou napjatostí stěn, je odezva lineární i při významném překročení zmíněného kritéria. Naopak v přítomnosti tlakového membránového namáhání stěn může dojít k nelineárnímu chování už při průhybech řádově menš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Závě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v případě tlakového membránového namáhání a i v dalších sporných případech nezbývá než použít nelineární algoritmus řešení, který je obecnější a lineární případy v sobě přirozeně zahrnu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2987640" y="2708280"/>
                <a:ext cx="1944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nary>
                    <m:r>
                      <m:t xml:space="preserve">B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39640" y="963360"/>
            <a:ext cx="770580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 Velká přetvoření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 odvození geometrických vztahů mezi složkami posuvů a přetvoření jsme v základním kurzu pružnosti předpokládali, že složky tenzoru přetvoření jsou malé, řádu 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Pak lze zanedbat kvadratické členy geometrických vztahů a používat běžně známý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ženýrský (též smluvní, infinitesimální) tenzor přetvoř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ato formulace zcela vyhovuje pro inženýrskou analýzu ocelových strojních konstrukcí. Hranic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užitelnosti inženýrského tenzor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etvoření bývá obvykle uváděna hodnoto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tvoření 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ed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ád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řípadech jako je simulace toku materiálu při tváření, deformace komponent z pryže, plastu a jiných netradičních materiálů, mohou složky přetvoření dosáhnout i stovek procent. Nelineární členy pak není možno zanedbat a je nutno používat obecnější tenzory přetvoření. Ty lze definovat různým způsobem podle toho, kterou geometrickou konfiguraci tělesa považujeme za základní vztažnou. Existuj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va základní přístu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 popisu kinematiky při velkých deformací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dy nezávisle proměnnou je ne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nezávisle proměnnou je 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4427640" y="2421000"/>
                <a:ext cx="1657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55640" y="543960"/>
            <a:ext cx="77058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ým způsobem lze rozdíl mezi oběma přístupy znázornit na příkladu řady vozidel projíždějících úsekem dálnice. Zatímco pozice řidiče, pevně svázaného s vozidlem a zaznamenávajícího změny polohy, rychlosti a zrychlení, odpovídá Lagrangeově popisu, Eulerův popis odpovídá pozici pozorovatele, sledujícího z místa na okraji silnice proud voz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ický pro popis pohybu tvárných těl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 čase sledována trajektorie jednotlivých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ch bod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iřazených počáteční geometrické konfiguraci v čase t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Jednoduchým způsobem tak lze průběžně sledovat deformačně napěťovou historii v každém bodě kontinua, která je nezbytná pro adekvátní popis chování materiálu u mnoha typů konstitutivních vztahů (plasticita, viskoplasticita). Někdy se proto používá termí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 pop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Tenzor přetvoření svázaný s Lagrange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reenův-Lagrangeův tenz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úlohy MKP řešené Lagrangeovským přístupem je typická síť prvků, jejichž uzlové body jsou svázány s materiálem a která se v průběhu řešení deformuje a „protéká“ vymezeným prosto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2571840" y="3749760"/>
                <a:ext cx="3224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690120"/>
            <a:ext cx="770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naopak typický pr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pis pohybu kapalin a plyn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ztažný souřadný systém svázán s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ixovanou oblastí prostor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lopatková mříž, průtokový profil potrubí, armatury) a sledované médium touto oblastí proték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zor přetvoření svázaný s Euler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mansih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 též Almansiho-Hamelův) tenzor přetvo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e. Pro úlohy MKP řešené Eulerovským přístupem je typická síť prvků, jejichž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zlové body jsou svázány s pevnými bo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prostoru, kterými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dované médium volně proté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se lze snadno přesvědčit, v případě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lých přetvoř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lze zanedbat kvadratické člen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lývají oba uvedené tenzo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známým inženýrským tenzorem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ou vlastností obou uvedených tenzorů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jektiv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d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závislost na posuvech a rotacích těle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ako tuhého celku. Tuto vlastnost nemá inženýrský tenzor a je proto použitelný pouze pro malá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3708360" y="2235240"/>
                <a:ext cx="2303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239400"/>
            <a:ext cx="770580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formační gradie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transformaci mezi aktuální a výchozí geometrickou konfig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yzikální význam jeho složek jsou poměrn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a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stretch). V jednoosém případě s uvažováním konečných hodnot tyče protažené z délky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dél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rotažení rov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ecném trojosém případě je tvar deformačního gradientu uveden zde, v případě orientace ve směru hlavních os protažení bývá označová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                       , obdobně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formační gradient je tenzor, který sám o sobě nemůže sloužit jako míra přetvoření, protož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ní objek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ři pohybu tělesa jako tuhého celku jsou jeho složky nenulové.  Jeho prostřednictvím je však možno vyjádřit další tenzory přetvoření, např. Greenův-Lagrangeů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ožňuje rovněž vyjádření dalších kinematických veličin při velkých deformacích, například poměrnou změnu objem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203640" y="1011240"/>
                <a:ext cx="8636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7"/>
              <p:cNvSpPr txBox="1"/>
              <p:nvPr/>
            </p:nvSpPr>
            <p:spPr>
              <a:xfrm>
                <a:off x="2906640" y="2133720"/>
                <a:ext cx="52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0"/>
              <p:cNvSpPr txBox="1"/>
              <p:nvPr/>
            </p:nvSpPr>
            <p:spPr>
              <a:xfrm>
                <a:off x="2627280" y="3295800"/>
                <a:ext cx="13683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5076720" y="3348000"/>
                <a:ext cx="863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7" name="Picture 16" descr=""/>
          <p:cNvPicPr/>
          <p:nvPr/>
        </p:nvPicPr>
        <p:blipFill>
          <a:blip r:embed="rId1"/>
          <a:stretch/>
        </p:blipFill>
        <p:spPr>
          <a:xfrm>
            <a:off x="5364000" y="5229360"/>
            <a:ext cx="2202120" cy="4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7" descr=""/>
          <p:cNvPicPr/>
          <p:nvPr/>
        </p:nvPicPr>
        <p:blipFill>
          <a:blip r:embed="rId2"/>
          <a:stretch/>
        </p:blipFill>
        <p:spPr>
          <a:xfrm>
            <a:off x="4356000" y="5950080"/>
            <a:ext cx="1513080" cy="67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39640" y="40464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rozené (Cauchyho, logaritmické) přetvo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říve uvedených tenzorů přetvoření byly všechny poměrné změny vztaženy ke konkrétní, počáteční nebo konečné geometrické konfiguraci. Přirozené přetvoření vztahuje každý přírůstek k okamžité aktuální geometrii. V jednoosém případě je tedy přirozené přetvoření defin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orientace ve směru hlavních os protažení je možno tenzor přirozeného přetvoření získat jednoduše logaritmováním složek deformačního gradi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403280" y="2349360"/>
                <a:ext cx="5184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l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1332000" y="4208400"/>
                <a:ext cx="230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Rectangle 4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40:05Z</dcterms:created>
  <dc:creator>Jindřich Petruška</dc:creator>
  <dc:description/>
  <dc:language>en-US</dc:language>
  <cp:lastModifiedBy>Prof. Jindrich Petruska</cp:lastModifiedBy>
  <dcterms:modified xsi:type="dcterms:W3CDTF">2010-01-08T11:53:22Z</dcterms:modified>
  <cp:revision>18</cp:revision>
  <dc:subject/>
  <dc:title>Geometric nonlinearity </dc:title>
</cp:coreProperties>
</file>