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0D2-FD87-4769-9295-CF0D8D2C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F1E-5F32-47D6-AF25-9E3998E2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015-A173-4045-B8D5-FCD8857A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BCA-E77B-4E9C-A380-AA6C3317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693-E3DB-4694-A8D4-E157D24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CFA-EB52-41E3-9210-0E589564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170-9323-41E6-BA12-7246FA8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A10-B8BD-435C-BC4B-75AF856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488-838A-4117-9807-4C0441F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A64-3CF9-48C4-8BB5-2D1544B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58F-1A1D-497F-B732-68B12DF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548-9EF6-47DE-B641-6B84024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8A08-D285-4488-BA08-C49C6804C7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nergeticky%20konjugovan&#233;%20tenzory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2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74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2. Piola-Kirchhoffův (označovaný také jen jako Kirchhoffův) tenzor napětí je definován jako elementární síla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0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vztažená na původní (tj. nedeformovanou) plochu elementu. Tato síla je však při přenášení na původní element změněna oproti skutečné síle 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stejným poměrem jako elementární rozměr v odpovídajícím směru. Ten se mění při zatížení podle vztahu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      , re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ři zpětné transformaci do nedeformovaného tvaru. Podobně transformujeme i elementární s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akže  napětí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Konkrétně pro normálové napětí ve směru 1 pla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ento tenzor nemá jasný fyzikální význam, používá se proto, že je i pro velká přetvoření symetrický a j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ergeticky konjugovaný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s Green-Lagrangeovým tenzorem přetvoř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2700360" y="3929040"/>
                <a:ext cx="1508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6365880" y="4640400"/>
                <a:ext cx="1576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9"/>
              <p:cNvSpPr txBox="1"/>
              <p:nvPr/>
            </p:nvSpPr>
            <p:spPr>
              <a:xfrm>
                <a:off x="3389400" y="2482920"/>
                <a:ext cx="15015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"/>
              <p:cNvSpPr txBox="1"/>
              <p:nvPr/>
            </p:nvSpPr>
            <p:spPr>
              <a:xfrm>
                <a:off x="6183360" y="2482920"/>
                <a:ext cx="1460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1"/>
              <p:cNvSpPr txBox="1"/>
              <p:nvPr/>
            </p:nvSpPr>
            <p:spPr>
              <a:xfrm>
                <a:off x="5487840" y="3419640"/>
                <a:ext cx="15210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45Z</dcterms:modified>
  <cp:revision>9</cp:revision>
  <dc:subject/>
  <dc:title>Piola-Kirchhoffův tenzor napětí 1. druhu </dc:title>
</cp:coreProperties>
</file>