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EA3-9BBC-4522-9D0A-5D21E1ED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8B2-6B7A-4432-804E-43D94A6A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9B0-C929-4513-90BE-0D315095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11E-2EBE-4909-9468-EF1D027E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E7A8-4C20-4DCD-A977-21807CD1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C08F-A2E0-42B8-8AFF-D24C5B7E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CC1C-4C3E-4690-8951-74A0B146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A960-CC4C-4902-8D6A-6ABC38D7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D1BD-86E5-4590-87BE-A3330734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43F4-E770-484E-95D7-F4B6299A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666C-75DA-4B52-BB7C-75CDD5E6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524-6C12-44C4-8763-867B077A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37F8-258B-45DA-BAFD-53A7BB44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D87D-CA62-474F-BF27-DADF4A44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3B81-01E7-4731-9380-FFC66DD4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A252-D331-491C-9FE7-372F016C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57F4-E7B5-4AE7-8329-F4DF7DD7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CFF-F504-4335-BA5B-26F6C53B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28E-2D23-4EE9-94D7-765B6228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2B5-18D7-4183-B998-98F4D04B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20E-87C7-4F63-B5F5-D90B3F40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040-8729-49F8-8292-632E2EC6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5DB-53FF-4E59-B796-B4A94473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6ED-1A17-4CC2-A70D-23D6F3C6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991C-2E8F-4369-ADC1-98FA39DE553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177E-16C4-4D03-B1FA-64633E1AD12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k:@MSITStore:C:%5CProgram%20Files%5CAnsys%20Inc%5Cv100%5CCommonFiles%5CHELP%5Cen-us%5Cansyshelp.chm::/Hlp_E_TARGE169.html" TargetMode="External"/><Relationship Id="rId3" Type="http://schemas.openxmlformats.org/officeDocument/2006/relationships/hyperlink" Target="mk:@MSITStore:C:%5CProgram%20Files%5CAnsys%20Inc%5Cv100%5CCommonFiles%5CHELP%5Cen-us%5Cansyshelp.chm::/Hlp_E_TARGE170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Kontaktní úlohy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a jejich řešení pomocí MK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Zástupný symbol pro číslo snímku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9943-6D88-4548-BF27-C8604CB0009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bdélník 4"/>
          <p:cNvSpPr/>
          <p:nvPr/>
        </p:nvSpPr>
        <p:spPr>
          <a:xfrm>
            <a:off x="928800" y="571680"/>
            <a:ext cx="69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d 2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toda Lagrangeových multiplikátor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ovéPole 5"/>
          <p:cNvSpPr/>
          <p:nvPr/>
        </p:nvSpPr>
        <p:spPr>
          <a:xfrm>
            <a:off x="785880" y="1785960"/>
            <a:ext cx="7929360" cy="37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ruhá z metod řešení kontaktních algoritmů je založena na přesném splnění podmínky nepronikání kontaktních povrch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terá je zavedena do standardního funkcionálu právě pomocí tzv. Lagrangeových multiplikátorů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edstavuje počáteční kontaktní mezeru mezi odpovídajícími deformačními parametry (definovanými opět maticí G) na protilehlých površích. Multiplikátory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tvoří vedle deformačních parametrů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alší nezávislé proměnné, vůči nimž je minimalizován funkcionál </a:t>
            </a:r>
            <a:r>
              <a:rPr b="0" lang="az-Cyrl-AZ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. Z podmínky stacionární hodnoty </a:t>
            </a:r>
            <a:r>
              <a:rPr b="0" lang="az-Cyrl-AZ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získáme finální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stav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ejíž řešení je řešením kontaktního problému. Fyzikální význam multiplikátorů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kontaktní tlak mezi těles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3787920" y="2274840"/>
                <a:ext cx="1260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2849400" y="2928960"/>
                <a:ext cx="34372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6" name="Object 4"/>
          <p:cNvGraphicFramePr/>
          <p:nvPr/>
        </p:nvGraphicFramePr>
        <p:xfrm>
          <a:off x="3505320" y="4286160"/>
          <a:ext cx="185256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286160"/>
                    <a:ext cx="18525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Zástupný symbol pro číslo snímku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22BB-2ABB-4A0D-8656-F98A16004A9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bdélník 4"/>
          <p:cNvSpPr/>
          <p:nvPr/>
        </p:nvSpPr>
        <p:spPr>
          <a:xfrm>
            <a:off x="928800" y="5716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toda Lagrangeových multiplikátorů – výhody a nedostat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ovéPole 5"/>
          <p:cNvSpPr/>
          <p:nvPr/>
        </p:nvSpPr>
        <p:spPr>
          <a:xfrm>
            <a:off x="1071720" y="2000160"/>
            <a:ext cx="764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ho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sné splnění podmínky neprostupnosti povrch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ní třeba definovat kontaktní tu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dostatk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ultiplikátor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představují další neznámé parametry problému – úloha se zvětš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uly na diagonále matice soustavy znemožňují využít iterační řešiče pro zvlášť velké úlo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toda je citlivá na změny stavu v kontak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ávěr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toda je vhodná spíše pro 2D a menší 3D úlo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Zástupný symbol pro číslo snímku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87FD-F210-416B-9516-BA68E0B954D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bdélník 4"/>
          <p:cNvSpPr/>
          <p:nvPr/>
        </p:nvSpPr>
        <p:spPr>
          <a:xfrm>
            <a:off x="928800" y="571680"/>
            <a:ext cx="74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rovnání  přesnosti a rychlosti výpočtu (počtu iterací) u metod Penalty vs. Lagrange na příkladu Hertzova kontak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785880" y="2071800"/>
            <a:ext cx="1928520" cy="3465720"/>
            <a:chOff x="785880" y="2071800"/>
            <a:chExt cx="1928520" cy="3465720"/>
          </a:xfrm>
        </p:grpSpPr>
        <p:pic>
          <p:nvPicPr>
            <p:cNvPr id="434" name="Picture 11" descr="file001"/>
            <p:cNvPicPr/>
            <p:nvPr/>
          </p:nvPicPr>
          <p:blipFill>
            <a:blip r:embed="rId1"/>
            <a:srcRect l="15558" t="14072" r="40578" b="11170"/>
            <a:stretch/>
          </p:blipFill>
          <p:spPr>
            <a:xfrm>
              <a:off x="785880" y="2460600"/>
              <a:ext cx="925560" cy="13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12" descr="file001"/>
            <p:cNvPicPr/>
            <p:nvPr/>
          </p:nvPicPr>
          <p:blipFill>
            <a:blip r:embed="rId2">
              <a:lum bright="-6000"/>
            </a:blip>
            <a:srcRect l="70926" t="66366" r="15975" b="10117"/>
            <a:stretch/>
          </p:blipFill>
          <p:spPr>
            <a:xfrm>
              <a:off x="989280" y="3916440"/>
              <a:ext cx="519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Rectangle 13"/>
            <p:cNvSpPr/>
            <p:nvPr/>
          </p:nvSpPr>
          <p:spPr>
            <a:xfrm>
              <a:off x="790200" y="20718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Picture 14" descr="file002"/>
            <p:cNvPicPr/>
            <p:nvPr/>
          </p:nvPicPr>
          <p:blipFill>
            <a:blip r:embed="rId3"/>
            <a:srcRect l="23988" t="25649" r="48196" b="26451"/>
            <a:stretch/>
          </p:blipFill>
          <p:spPr>
            <a:xfrm>
              <a:off x="1815120" y="2488680"/>
              <a:ext cx="899280" cy="13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15" descr="file002"/>
            <p:cNvPicPr/>
            <p:nvPr/>
          </p:nvPicPr>
          <p:blipFill>
            <a:blip r:embed="rId4">
              <a:lum bright="-6000"/>
            </a:blip>
            <a:srcRect l="70769" t="46935" r="11698" b="29798"/>
            <a:stretch/>
          </p:blipFill>
          <p:spPr>
            <a:xfrm>
              <a:off x="1934280" y="3925440"/>
              <a:ext cx="667440" cy="7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16"/>
            <p:cNvSpPr/>
            <p:nvPr/>
          </p:nvSpPr>
          <p:spPr>
            <a:xfrm>
              <a:off x="1846440" y="213048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1017720" y="4770360"/>
              <a:ext cx="139680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gr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=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35"/>
          <p:cNvGrpSpPr/>
          <p:nvPr/>
        </p:nvGrpSpPr>
        <p:grpSpPr>
          <a:xfrm>
            <a:off x="6223680" y="2143080"/>
            <a:ext cx="2425680" cy="3356640"/>
            <a:chOff x="6223680" y="2143080"/>
            <a:chExt cx="2425680" cy="3356640"/>
          </a:xfrm>
        </p:grpSpPr>
        <p:sp>
          <p:nvSpPr>
            <p:cNvPr id="442" name="Rectangle 24"/>
            <p:cNvSpPr/>
            <p:nvPr/>
          </p:nvSpPr>
          <p:spPr>
            <a:xfrm>
              <a:off x="6223680" y="4732560"/>
              <a:ext cx="242568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alty(FKN=1e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=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25"/>
            <p:cNvSpPr/>
            <p:nvPr/>
          </p:nvSpPr>
          <p:spPr>
            <a:xfrm>
              <a:off x="6289920" y="214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26"/>
            <p:cNvSpPr/>
            <p:nvPr/>
          </p:nvSpPr>
          <p:spPr>
            <a:xfrm>
              <a:off x="7526880" y="214308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5" name="Picture 28" descr="file000"/>
            <p:cNvPicPr/>
            <p:nvPr/>
          </p:nvPicPr>
          <p:blipFill>
            <a:blip r:embed="rId5"/>
            <a:srcRect l="24688" t="16360" r="46912" b="34618"/>
            <a:stretch/>
          </p:blipFill>
          <p:spPr>
            <a:xfrm>
              <a:off x="7427160" y="2482560"/>
              <a:ext cx="1052280" cy="13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29" descr="file000"/>
            <p:cNvPicPr/>
            <p:nvPr/>
          </p:nvPicPr>
          <p:blipFill>
            <a:blip r:embed="rId6">
              <a:lum bright="-6000"/>
            </a:blip>
            <a:srcRect l="71362" t="55390" r="10055" b="16529"/>
            <a:stretch/>
          </p:blipFill>
          <p:spPr>
            <a:xfrm>
              <a:off x="7662600" y="3875400"/>
              <a:ext cx="747360" cy="82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30" descr="file001"/>
            <p:cNvPicPr/>
            <p:nvPr/>
          </p:nvPicPr>
          <p:blipFill>
            <a:blip r:embed="rId7"/>
            <a:srcRect l="15244" t="4200" r="40210" b="9684"/>
            <a:stretch/>
          </p:blipFill>
          <p:spPr>
            <a:xfrm>
              <a:off x="6289560" y="2471760"/>
              <a:ext cx="995400" cy="13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31" descr="file002"/>
            <p:cNvPicPr/>
            <p:nvPr/>
          </p:nvPicPr>
          <p:blipFill>
            <a:blip r:embed="rId8">
              <a:lum bright="-6000"/>
            </a:blip>
            <a:srcRect l="71223" t="17137" r="13736" b="54369"/>
            <a:stretch/>
          </p:blipFill>
          <p:spPr>
            <a:xfrm>
              <a:off x="6519600" y="3904560"/>
              <a:ext cx="624960" cy="86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Skupina 21"/>
          <p:cNvGrpSpPr/>
          <p:nvPr/>
        </p:nvGrpSpPr>
        <p:grpSpPr>
          <a:xfrm>
            <a:off x="3294000" y="2128680"/>
            <a:ext cx="2278080" cy="3373200"/>
            <a:chOff x="3294000" y="2128680"/>
            <a:chExt cx="2278080" cy="3373200"/>
          </a:xfrm>
        </p:grpSpPr>
        <p:pic>
          <p:nvPicPr>
            <p:cNvPr id="450" name="Picture 18" descr="file003"/>
            <p:cNvPicPr/>
            <p:nvPr/>
          </p:nvPicPr>
          <p:blipFill>
            <a:blip r:embed="rId9">
              <a:lum bright="-6000"/>
            </a:blip>
            <a:srcRect l="17318" t="14899" r="42661" b="13627"/>
            <a:stretch/>
          </p:blipFill>
          <p:spPr>
            <a:xfrm>
              <a:off x="3336480" y="2504520"/>
              <a:ext cx="1069200" cy="13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19" descr="file003"/>
            <p:cNvPicPr/>
            <p:nvPr/>
          </p:nvPicPr>
          <p:blipFill>
            <a:blip r:embed="rId10">
              <a:lum bright="-6000"/>
            </a:blip>
            <a:srcRect l="70926" t="67005" r="16133" b="9922"/>
            <a:stretch/>
          </p:blipFill>
          <p:spPr>
            <a:xfrm>
              <a:off x="3574080" y="3913200"/>
              <a:ext cx="646920" cy="8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Rectangle 20"/>
            <p:cNvSpPr/>
            <p:nvPr/>
          </p:nvSpPr>
          <p:spPr>
            <a:xfrm>
              <a:off x="3393360" y="2128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21"/>
            <p:cNvSpPr/>
            <p:nvPr/>
          </p:nvSpPr>
          <p:spPr>
            <a:xfrm>
              <a:off x="4631040" y="216432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4" name="Picture 22" descr="file004"/>
            <p:cNvPicPr/>
            <p:nvPr/>
          </p:nvPicPr>
          <p:blipFill>
            <a:blip r:embed="rId11"/>
            <a:srcRect l="24670" t="27918" r="50224" b="28331"/>
            <a:stretch/>
          </p:blipFill>
          <p:spPr>
            <a:xfrm>
              <a:off x="4508280" y="2549880"/>
              <a:ext cx="10638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3" descr="file004"/>
            <p:cNvPicPr/>
            <p:nvPr/>
          </p:nvPicPr>
          <p:blipFill>
            <a:blip r:embed="rId12">
              <a:lum bright="-6000"/>
            </a:blip>
            <a:srcRect l="71084" t="46716" r="12155" b="29579"/>
            <a:stretch/>
          </p:blipFill>
          <p:spPr>
            <a:xfrm>
              <a:off x="4649040" y="3933000"/>
              <a:ext cx="806400" cy="7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7"/>
            <p:cNvSpPr/>
            <p:nvPr/>
          </p:nvSpPr>
          <p:spPr>
            <a:xfrm>
              <a:off x="3294000" y="4734720"/>
              <a:ext cx="214236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alty(FKN=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=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68360" y="507240"/>
            <a:ext cx="8137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kladní klasifikace kontaktu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yst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ému MKP ANS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le chování povrch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le výběru kontaktních  en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uhý-poddajn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gid – flexibl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el na uzel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od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ddajný-poddajný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el na povrch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ufa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exible - flex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ible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vrch na povrch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fa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urfa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bvyklá kombina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taktní prvky typu povrch na pov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del kontak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být vytvořen speciálními typy kontaktních prvků, pokrývajících povrchy těles v místech, která mohou v průběhu zatěžování přijít do styku. Protilehlé povrchy jsou přitom pokryty vždy odlišnými, navzájem komplementárními typy prvků: první „cílový povrch“ (target surface) je pokryt prvky typu TARGET a druhý „kontaktní povrch“ (contact surface) pokrývají prvky typu CONTACT. Dohromady tvoří kontaktní pár, jehož vzájemná příslušnost je definována společným sdílením identifikátoru kontaktních vlastností, tzv. „reálných konstant“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009880" y="2560680"/>
            <a:ext cx="4867200" cy="41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Text Box 6"/>
          <p:cNvSpPr/>
          <p:nvPr/>
        </p:nvSpPr>
        <p:spPr>
          <a:xfrm>
            <a:off x="611280" y="476280"/>
            <a:ext cx="7802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lad modelu kontaktu mezi jedním deformovatelným a dvěma tuhými tělesy ve 2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takt mezi tuhým tělesem č.1 (2) a deformovatelným tělesem může nastat pouze na části povrchu pokrytém kontaktními prvky s identifikátorem reálných konstant č.1 (2). Tentýž povrch může být pokryt více vrstvami kontaktních prvků s různými reálnými konstant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871640" y="2622600"/>
            <a:ext cx="5400720" cy="35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Rectangle 6"/>
          <p:cNvSpPr/>
          <p:nvPr/>
        </p:nvSpPr>
        <p:spPr>
          <a:xfrm>
            <a:off x="395280" y="765000"/>
            <a:ext cx="837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ílový povr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e modelován buď prvky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TARGE169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ebo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TARGE17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pro 2D a 3D problém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ntaktní povr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ůže být modelován prvky CONTA171, CONTA172 (2D problémy) nebo CONTA173, CONTA174 (3D problém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4905360" y="2757600"/>
            <a:ext cx="2994480" cy="2027520"/>
            <a:chOff x="4905360" y="2757600"/>
            <a:chExt cx="2994480" cy="2027520"/>
          </a:xfrm>
        </p:grpSpPr>
        <p:sp>
          <p:nvSpPr>
            <p:cNvPr id="119" name="Text Box 5"/>
            <p:cNvSpPr/>
            <p:nvPr/>
          </p:nvSpPr>
          <p:spPr>
            <a:xfrm>
              <a:off x="6470640" y="2757600"/>
              <a:ext cx="3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 flipH="1">
              <a:off x="6386040" y="2862000"/>
              <a:ext cx="3240" cy="5475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Group 7"/>
            <p:cNvGrpSpPr/>
            <p:nvPr/>
          </p:nvGrpSpPr>
          <p:grpSpPr>
            <a:xfrm>
              <a:off x="4905360" y="3030480"/>
              <a:ext cx="2994480" cy="1754640"/>
              <a:chOff x="4905360" y="3030480"/>
              <a:chExt cx="2994480" cy="1754640"/>
            </a:xfrm>
          </p:grpSpPr>
          <p:grpSp>
            <p:nvGrpSpPr>
              <p:cNvPr id="122" name="Group 8"/>
              <p:cNvGrpSpPr/>
              <p:nvPr/>
            </p:nvGrpSpPr>
            <p:grpSpPr>
              <a:xfrm>
                <a:off x="4905360" y="4122000"/>
                <a:ext cx="2994480" cy="663120"/>
                <a:chOff x="4905360" y="4122000"/>
                <a:chExt cx="2994480" cy="663120"/>
              </a:xfrm>
            </p:grpSpPr>
            <p:cxnSp>
              <p:nvCxnSpPr>
                <p:cNvPr id="123" name="AutoShape 9"/>
                <p:cNvCxnSpPr/>
                <p:nvPr/>
              </p:nvCxnSpPr>
              <p:spPr>
                <a:xfrm>
                  <a:off x="4923000" y="4122000"/>
                  <a:ext cx="74664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124" name="AutoShape 10"/>
                <p:cNvCxnSpPr/>
                <p:nvPr/>
              </p:nvCxnSpPr>
              <p:spPr>
                <a:xfrm>
                  <a:off x="5668920" y="412200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125" name="AutoShape 11"/>
                <p:cNvCxnSpPr/>
                <p:nvPr/>
              </p:nvCxnSpPr>
              <p:spPr>
                <a:xfrm>
                  <a:off x="6411960" y="412200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126" name="AutoShape 12"/>
                <p:cNvCxnSpPr/>
                <p:nvPr/>
              </p:nvCxnSpPr>
              <p:spPr>
                <a:xfrm>
                  <a:off x="7155000" y="4122000"/>
                  <a:ext cx="74520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sp>
              <p:nvSpPr>
                <p:cNvPr id="127" name="Line 13"/>
                <p:cNvSpPr/>
                <p:nvPr/>
              </p:nvSpPr>
              <p:spPr>
                <a:xfrm>
                  <a:off x="4917960" y="4190040"/>
                  <a:ext cx="0" cy="57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4"/>
                <p:cNvSpPr/>
                <p:nvPr/>
              </p:nvSpPr>
              <p:spPr>
                <a:xfrm>
                  <a:off x="5668920" y="4122360"/>
                  <a:ext cx="0" cy="57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5"/>
                <p:cNvSpPr/>
                <p:nvPr/>
              </p:nvSpPr>
              <p:spPr>
                <a:xfrm>
                  <a:off x="6411960" y="4122360"/>
                  <a:ext cx="0" cy="65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6"/>
                <p:cNvSpPr/>
                <p:nvPr/>
              </p:nvSpPr>
              <p:spPr>
                <a:xfrm>
                  <a:off x="7155000" y="4122360"/>
                  <a:ext cx="0" cy="57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17"/>
                <p:cNvSpPr/>
                <p:nvPr/>
              </p:nvSpPr>
              <p:spPr>
                <a:xfrm>
                  <a:off x="7899480" y="4122360"/>
                  <a:ext cx="0" cy="65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18"/>
                <p:cNvSpPr/>
                <p:nvPr/>
              </p:nvSpPr>
              <p:spPr>
                <a:xfrm>
                  <a:off x="4905360" y="4682160"/>
                  <a:ext cx="2973240" cy="10296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19"/>
              <p:cNvGrpSpPr/>
              <p:nvPr/>
            </p:nvGrpSpPr>
            <p:grpSpPr>
              <a:xfrm>
                <a:off x="5087520" y="3030480"/>
                <a:ext cx="2603880" cy="1386720"/>
                <a:chOff x="5087520" y="3030480"/>
                <a:chExt cx="2603880" cy="1386720"/>
              </a:xfrm>
            </p:grpSpPr>
            <p:cxnSp>
              <p:nvCxnSpPr>
                <p:cNvPr id="134" name="AutoShape 20"/>
                <p:cNvCxnSpPr/>
                <p:nvPr/>
              </p:nvCxnSpPr>
              <p:spPr>
                <a:xfrm>
                  <a:off x="5163840" y="3736440"/>
                  <a:ext cx="383400" cy="4622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5" name="AutoShape 21"/>
                <p:cNvCxnSpPr/>
                <p:nvPr/>
              </p:nvCxnSpPr>
              <p:spPr>
                <a:xfrm>
                  <a:off x="5546880" y="4187160"/>
                  <a:ext cx="419760" cy="22608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6" name="AutoShape 22"/>
                <p:cNvCxnSpPr/>
                <p:nvPr/>
              </p:nvCxnSpPr>
              <p:spPr>
                <a:xfrm>
                  <a:off x="5976720" y="4411080"/>
                  <a:ext cx="826200" cy="216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7" name="AutoShape 23"/>
                <p:cNvCxnSpPr/>
                <p:nvPr/>
              </p:nvCxnSpPr>
              <p:spPr>
                <a:xfrm flipV="1">
                  <a:off x="6781320" y="4221720"/>
                  <a:ext cx="451800" cy="1958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8" name="AutoShape 24"/>
                <p:cNvCxnSpPr/>
                <p:nvPr/>
              </p:nvCxnSpPr>
              <p:spPr>
                <a:xfrm flipV="1">
                  <a:off x="7232400" y="3745440"/>
                  <a:ext cx="384840" cy="47628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sp>
              <p:nvSpPr>
                <p:cNvPr id="139" name="Line 25"/>
                <p:cNvSpPr/>
                <p:nvPr/>
              </p:nvSpPr>
              <p:spPr>
                <a:xfrm flipH="1" flipV="1">
                  <a:off x="5087520" y="3030480"/>
                  <a:ext cx="74520" cy="7156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26"/>
                <p:cNvSpPr/>
                <p:nvPr/>
              </p:nvSpPr>
              <p:spPr>
                <a:xfrm flipV="1">
                  <a:off x="5535720" y="3227040"/>
                  <a:ext cx="98280" cy="926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27"/>
                <p:cNvSpPr/>
                <p:nvPr/>
              </p:nvSpPr>
              <p:spPr>
                <a:xfrm flipV="1">
                  <a:off x="5967360" y="3439080"/>
                  <a:ext cx="162000" cy="9507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28"/>
                <p:cNvSpPr/>
                <p:nvPr/>
              </p:nvSpPr>
              <p:spPr>
                <a:xfrm>
                  <a:off x="6645240" y="3420720"/>
                  <a:ext cx="165240" cy="96480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29"/>
                <p:cNvSpPr/>
                <p:nvPr/>
              </p:nvSpPr>
              <p:spPr>
                <a:xfrm flipH="1" flipV="1">
                  <a:off x="7095960" y="3234600"/>
                  <a:ext cx="123840" cy="9615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30"/>
                <p:cNvSpPr/>
                <p:nvPr/>
              </p:nvSpPr>
              <p:spPr>
                <a:xfrm flipV="1">
                  <a:off x="7616880" y="3030480"/>
                  <a:ext cx="74520" cy="7156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31"/>
                <p:cNvSpPr/>
                <p:nvPr/>
              </p:nvSpPr>
              <p:spPr>
                <a:xfrm>
                  <a:off x="5578560" y="3661920"/>
                  <a:ext cx="496800" cy="2376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32"/>
                <p:cNvSpPr/>
                <p:nvPr/>
              </p:nvSpPr>
              <p:spPr>
                <a:xfrm flipV="1">
                  <a:off x="6089760" y="3888720"/>
                  <a:ext cx="625320" cy="28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33"/>
                <p:cNvSpPr/>
                <p:nvPr/>
              </p:nvSpPr>
              <p:spPr>
                <a:xfrm flipV="1">
                  <a:off x="6691320" y="3661920"/>
                  <a:ext cx="479520" cy="242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34"/>
                <p:cNvSpPr/>
                <p:nvPr/>
              </p:nvSpPr>
              <p:spPr>
                <a:xfrm>
                  <a:off x="5113440" y="3328560"/>
                  <a:ext cx="469800" cy="3232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35"/>
                <p:cNvSpPr/>
                <p:nvPr/>
              </p:nvSpPr>
              <p:spPr>
                <a:xfrm flipV="1">
                  <a:off x="7157880" y="3328560"/>
                  <a:ext cx="495360" cy="3232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36"/>
                <p:cNvSpPr/>
                <p:nvPr/>
              </p:nvSpPr>
              <p:spPr>
                <a:xfrm>
                  <a:off x="5087880" y="3030480"/>
                  <a:ext cx="2603520" cy="42012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1" name="Group 37"/>
          <p:cNvGrpSpPr/>
          <p:nvPr/>
        </p:nvGrpSpPr>
        <p:grpSpPr>
          <a:xfrm>
            <a:off x="6105600" y="4110120"/>
            <a:ext cx="322200" cy="676080"/>
            <a:chOff x="6105600" y="4110120"/>
            <a:chExt cx="322200" cy="676080"/>
          </a:xfrm>
        </p:grpSpPr>
        <mc:AlternateContent>
          <mc:Choice xmlns:a14="http://schemas.microsoft.com/office/drawing/2010/main" Requires="a14">
            <p:sp>
              <p:nvSpPr>
                <p:cNvPr id="152" name="Object 38"/>
                <p:cNvSpPr txBox="1"/>
                <p:nvPr/>
              </p:nvSpPr>
              <p:spPr>
                <a:xfrm>
                  <a:off x="6105600" y="4329000"/>
                  <a:ext cx="322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Line 39"/>
            <p:cNvSpPr/>
            <p:nvPr/>
          </p:nvSpPr>
          <p:spPr>
            <a:xfrm>
              <a:off x="6227640" y="4325760"/>
              <a:ext cx="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0"/>
            <p:cNvSpPr/>
            <p:nvPr/>
          </p:nvSpPr>
          <p:spPr>
            <a:xfrm>
              <a:off x="6227640" y="4181400"/>
              <a:ext cx="8892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1"/>
            <p:cNvSpPr/>
            <p:nvPr/>
          </p:nvSpPr>
          <p:spPr>
            <a:xfrm flipV="1">
              <a:off x="6137280" y="4218120"/>
              <a:ext cx="17928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2"/>
            <p:cNvSpPr/>
            <p:nvPr/>
          </p:nvSpPr>
          <p:spPr>
            <a:xfrm flipH="1" flipV="1">
              <a:off x="6136920" y="4289040"/>
              <a:ext cx="9036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3"/>
            <p:cNvSpPr/>
            <p:nvPr/>
          </p:nvSpPr>
          <p:spPr>
            <a:xfrm>
              <a:off x="6227640" y="4110120"/>
              <a:ext cx="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44"/>
          <p:cNvGrpSpPr/>
          <p:nvPr/>
        </p:nvGrpSpPr>
        <p:grpSpPr>
          <a:xfrm>
            <a:off x="7010280" y="4000680"/>
            <a:ext cx="1449360" cy="500040"/>
            <a:chOff x="7010280" y="4000680"/>
            <a:chExt cx="1449360" cy="500040"/>
          </a:xfrm>
        </p:grpSpPr>
        <p:sp>
          <p:nvSpPr>
            <p:cNvPr id="159" name="Line 45"/>
            <p:cNvSpPr/>
            <p:nvPr/>
          </p:nvSpPr>
          <p:spPr>
            <a:xfrm>
              <a:off x="7010280" y="4472280"/>
              <a:ext cx="132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6"/>
            <p:cNvSpPr/>
            <p:nvPr/>
          </p:nvSpPr>
          <p:spPr>
            <a:xfrm>
              <a:off x="8016840" y="41263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7"/>
                <p:cNvSpPr txBox="1"/>
                <p:nvPr/>
              </p:nvSpPr>
              <p:spPr>
                <a:xfrm>
                  <a:off x="8059680" y="4000680"/>
                  <a:ext cx="399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Text Box 48"/>
          <p:cNvSpPr/>
          <p:nvPr/>
        </p:nvSpPr>
        <p:spPr>
          <a:xfrm>
            <a:off x="372960" y="1709640"/>
            <a:ext cx="83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d 1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kladní myšlenkou pokutového algoritmu řešení kontaktu je skoková změna tuhosti kontaktních prvků při penetraci povrch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49"/>
          <p:cNvGrpSpPr/>
          <p:nvPr/>
        </p:nvGrpSpPr>
        <p:grpSpPr>
          <a:xfrm>
            <a:off x="1332000" y="2467080"/>
            <a:ext cx="2485080" cy="2461680"/>
            <a:chOff x="1332000" y="2467080"/>
            <a:chExt cx="2485080" cy="2461680"/>
          </a:xfrm>
        </p:grpSpPr>
        <p:sp>
          <p:nvSpPr>
            <p:cNvPr id="164" name="Text Box 50"/>
            <p:cNvSpPr/>
            <p:nvPr/>
          </p:nvSpPr>
          <p:spPr>
            <a:xfrm>
              <a:off x="1370160" y="4561920"/>
              <a:ext cx="242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AutoShape 51"/>
            <p:cNvCxnSpPr/>
            <p:nvPr/>
          </p:nvCxnSpPr>
          <p:spPr>
            <a:xfrm>
              <a:off x="1346400" y="4111920"/>
              <a:ext cx="60444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166" name="AutoShape 52"/>
            <p:cNvCxnSpPr/>
            <p:nvPr/>
          </p:nvCxnSpPr>
          <p:spPr>
            <a:xfrm>
              <a:off x="1950840" y="4111920"/>
              <a:ext cx="60264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167" name="AutoShape 53"/>
            <p:cNvCxnSpPr/>
            <p:nvPr/>
          </p:nvCxnSpPr>
          <p:spPr>
            <a:xfrm>
              <a:off x="2553120" y="4111920"/>
              <a:ext cx="6069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168" name="AutoShape 54"/>
            <p:cNvCxnSpPr/>
            <p:nvPr/>
          </p:nvCxnSpPr>
          <p:spPr>
            <a:xfrm>
              <a:off x="3159360" y="4111920"/>
              <a:ext cx="60264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169" name="Line 55"/>
            <p:cNvSpPr/>
            <p:nvPr/>
          </p:nvSpPr>
          <p:spPr>
            <a:xfrm>
              <a:off x="1342440" y="4157280"/>
              <a:ext cx="180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6"/>
            <p:cNvSpPr/>
            <p:nvPr/>
          </p:nvSpPr>
          <p:spPr>
            <a:xfrm>
              <a:off x="1950840" y="4112280"/>
              <a:ext cx="216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7"/>
            <p:cNvSpPr/>
            <p:nvPr/>
          </p:nvSpPr>
          <p:spPr>
            <a:xfrm>
              <a:off x="2553120" y="4112280"/>
              <a:ext cx="21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58"/>
            <p:cNvSpPr/>
            <p:nvPr/>
          </p:nvSpPr>
          <p:spPr>
            <a:xfrm>
              <a:off x="3159360" y="4112280"/>
              <a:ext cx="216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59"/>
            <p:cNvSpPr/>
            <p:nvPr/>
          </p:nvSpPr>
          <p:spPr>
            <a:xfrm>
              <a:off x="3761640" y="4112280"/>
              <a:ext cx="21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60"/>
            <p:cNvSpPr/>
            <p:nvPr/>
          </p:nvSpPr>
          <p:spPr>
            <a:xfrm>
              <a:off x="1332000" y="4479120"/>
              <a:ext cx="2414520" cy="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61"/>
            <p:cNvSpPr/>
            <p:nvPr/>
          </p:nvSpPr>
          <p:spPr>
            <a:xfrm>
              <a:off x="2503800" y="2584800"/>
              <a:ext cx="1800" cy="370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2"/>
            <p:cNvSpPr/>
            <p:nvPr/>
          </p:nvSpPr>
          <p:spPr>
            <a:xfrm>
              <a:off x="2538000" y="24670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63"/>
            <p:cNvGrpSpPr/>
            <p:nvPr/>
          </p:nvGrpSpPr>
          <p:grpSpPr>
            <a:xfrm>
              <a:off x="1451520" y="2706480"/>
              <a:ext cx="2115000" cy="936720"/>
              <a:chOff x="1451520" y="2706480"/>
              <a:chExt cx="2115000" cy="936720"/>
            </a:xfrm>
          </p:grpSpPr>
          <p:cxnSp>
            <p:nvCxnSpPr>
              <p:cNvPr id="178" name="AutoShape 64"/>
              <p:cNvCxnSpPr/>
              <p:nvPr/>
            </p:nvCxnSpPr>
            <p:spPr>
              <a:xfrm>
                <a:off x="1511640" y="3174120"/>
                <a:ext cx="312840" cy="312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179" name="AutoShape 65"/>
              <p:cNvCxnSpPr/>
              <p:nvPr/>
            </p:nvCxnSpPr>
            <p:spPr>
              <a:xfrm>
                <a:off x="1824120" y="3486240"/>
                <a:ext cx="436320" cy="15660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180" name="AutoShape 66"/>
              <p:cNvCxnSpPr/>
              <p:nvPr/>
            </p:nvCxnSpPr>
            <p:spPr>
              <a:xfrm>
                <a:off x="2259720" y="3642480"/>
                <a:ext cx="49896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181" name="AutoShape 67"/>
              <p:cNvCxnSpPr/>
              <p:nvPr/>
            </p:nvCxnSpPr>
            <p:spPr>
              <a:xfrm flipV="1">
                <a:off x="2757960" y="3485880"/>
                <a:ext cx="437400" cy="15660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182" name="AutoShape 68"/>
              <p:cNvCxnSpPr/>
              <p:nvPr/>
            </p:nvCxnSpPr>
            <p:spPr>
              <a:xfrm flipV="1">
                <a:off x="3194640" y="3173760"/>
                <a:ext cx="311400" cy="312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183" name="Line 69"/>
              <p:cNvSpPr/>
              <p:nvPr/>
            </p:nvSpPr>
            <p:spPr>
              <a:xfrm flipH="1" flipV="1">
                <a:off x="1451520" y="2706480"/>
                <a:ext cx="60120" cy="468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70"/>
              <p:cNvSpPr/>
              <p:nvPr/>
            </p:nvSpPr>
            <p:spPr>
              <a:xfrm flipV="1">
                <a:off x="1814400" y="2834280"/>
                <a:ext cx="80280" cy="6076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71"/>
              <p:cNvSpPr/>
              <p:nvPr/>
            </p:nvSpPr>
            <p:spPr>
              <a:xfrm flipV="1">
                <a:off x="2257200" y="2973240"/>
                <a:ext cx="39960" cy="6577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72"/>
              <p:cNvSpPr/>
              <p:nvPr/>
            </p:nvSpPr>
            <p:spPr>
              <a:xfrm>
                <a:off x="2715480" y="2985120"/>
                <a:ext cx="30240" cy="64656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3"/>
              <p:cNvSpPr/>
              <p:nvPr/>
            </p:nvSpPr>
            <p:spPr>
              <a:xfrm flipH="1" flipV="1">
                <a:off x="3082680" y="2839680"/>
                <a:ext cx="100440" cy="629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74"/>
              <p:cNvSpPr/>
              <p:nvPr/>
            </p:nvSpPr>
            <p:spPr>
              <a:xfrm flipV="1">
                <a:off x="3506040" y="2706480"/>
                <a:ext cx="60480" cy="468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75"/>
              <p:cNvSpPr/>
              <p:nvPr/>
            </p:nvSpPr>
            <p:spPr>
              <a:xfrm>
                <a:off x="1849320" y="3118680"/>
                <a:ext cx="423000" cy="1728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76"/>
              <p:cNvSpPr/>
              <p:nvPr/>
            </p:nvSpPr>
            <p:spPr>
              <a:xfrm>
                <a:off x="2282400" y="3291480"/>
                <a:ext cx="442800" cy="5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V="1">
                <a:off x="2735640" y="3118680"/>
                <a:ext cx="407520" cy="167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78"/>
              <p:cNvSpPr/>
              <p:nvPr/>
            </p:nvSpPr>
            <p:spPr>
              <a:xfrm>
                <a:off x="1471680" y="2901240"/>
                <a:ext cx="382680" cy="2116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79"/>
              <p:cNvSpPr/>
              <p:nvPr/>
            </p:nvSpPr>
            <p:spPr>
              <a:xfrm flipV="1">
                <a:off x="3133440" y="2901240"/>
                <a:ext cx="402480" cy="2116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80"/>
              <p:cNvSpPr/>
              <p:nvPr/>
            </p:nvSpPr>
            <p:spPr>
              <a:xfrm>
                <a:off x="1451880" y="2706480"/>
                <a:ext cx="2114640" cy="27396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Line 81"/>
            <p:cNvSpPr/>
            <p:nvPr/>
          </p:nvSpPr>
          <p:spPr>
            <a:xfrm flipV="1">
              <a:off x="2497680" y="3597840"/>
              <a:ext cx="1800" cy="4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82"/>
            <p:cNvSpPr/>
            <p:nvPr/>
          </p:nvSpPr>
          <p:spPr>
            <a:xfrm>
              <a:off x="2578680" y="3776760"/>
              <a:ext cx="12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Rectangle 83"/>
          <p:cNvSpPr/>
          <p:nvPr/>
        </p:nvSpPr>
        <p:spPr>
          <a:xfrm>
            <a:off x="2340000" y="3711600"/>
            <a:ext cx="136836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4"/>
          <p:cNvSpPr/>
          <p:nvPr/>
        </p:nvSpPr>
        <p:spPr>
          <a:xfrm>
            <a:off x="2495520" y="3621240"/>
            <a:ext cx="0" cy="4330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85"/>
          <p:cNvGrpSpPr/>
          <p:nvPr/>
        </p:nvGrpSpPr>
        <p:grpSpPr>
          <a:xfrm>
            <a:off x="2340000" y="3571920"/>
            <a:ext cx="1449360" cy="500040"/>
            <a:chOff x="2340000" y="3571920"/>
            <a:chExt cx="1449360" cy="500040"/>
          </a:xfrm>
        </p:grpSpPr>
        <p:sp>
          <p:nvSpPr>
            <p:cNvPr id="200" name="Line 86"/>
            <p:cNvSpPr/>
            <p:nvPr/>
          </p:nvSpPr>
          <p:spPr>
            <a:xfrm>
              <a:off x="2340000" y="4043520"/>
              <a:ext cx="132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87"/>
            <p:cNvSpPr/>
            <p:nvPr/>
          </p:nvSpPr>
          <p:spPr>
            <a:xfrm>
              <a:off x="3346560" y="3697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Object 88"/>
                <p:cNvSpPr txBox="1"/>
                <p:nvPr/>
              </p:nvSpPr>
              <p:spPr>
                <a:xfrm>
                  <a:off x="3389400" y="3571920"/>
                  <a:ext cx="399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3" name="Text Box 89"/>
          <p:cNvSpPr/>
          <p:nvPr/>
        </p:nvSpPr>
        <p:spPr>
          <a:xfrm>
            <a:off x="8245440" y="4103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90"/>
          <p:cNvSpPr/>
          <p:nvPr/>
        </p:nvSpPr>
        <p:spPr>
          <a:xfrm>
            <a:off x="3492360" y="367524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1"/>
          <p:cNvSpPr/>
          <p:nvPr/>
        </p:nvSpPr>
        <p:spPr>
          <a:xfrm>
            <a:off x="1979640" y="4889520"/>
            <a:ext cx="158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2"/>
          <p:cNvSpPr/>
          <p:nvPr/>
        </p:nvSpPr>
        <p:spPr>
          <a:xfrm>
            <a:off x="5724360" y="4818240"/>
            <a:ext cx="158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3"/>
          <p:cNvSpPr/>
          <p:nvPr/>
        </p:nvSpPr>
        <p:spPr>
          <a:xfrm>
            <a:off x="1714680" y="5300640"/>
            <a:ext cx="6143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álová kontaktní tu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era/průnik (penetrace) v normálovém smě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bdélník 92"/>
          <p:cNvSpPr/>
          <p:nvPr/>
        </p:nvSpPr>
        <p:spPr>
          <a:xfrm>
            <a:off x="642960" y="357120"/>
            <a:ext cx="7858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kladní algoritmy řešení kontaktního problé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okutový přístup (Penalty algorith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Metoda Lagrangeových multiplikátorů (Lagrange multipl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8"/>
          <p:cNvSpPr/>
          <p:nvPr/>
        </p:nvSpPr>
        <p:spPr>
          <a:xfrm>
            <a:off x="928800" y="5716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e zahrnutím smykového tře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1051"/>
          <p:cNvGrpSpPr/>
          <p:nvPr/>
        </p:nvGrpSpPr>
        <p:grpSpPr>
          <a:xfrm>
            <a:off x="4786200" y="1357200"/>
            <a:ext cx="2994480" cy="2028960"/>
            <a:chOff x="4786200" y="1357200"/>
            <a:chExt cx="2994480" cy="2028960"/>
          </a:xfrm>
        </p:grpSpPr>
        <p:sp>
          <p:nvSpPr>
            <p:cNvPr id="212" name="Text Box 1052"/>
            <p:cNvSpPr/>
            <p:nvPr/>
          </p:nvSpPr>
          <p:spPr>
            <a:xfrm>
              <a:off x="6351480" y="1357200"/>
              <a:ext cx="3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053"/>
            <p:cNvSpPr/>
            <p:nvPr/>
          </p:nvSpPr>
          <p:spPr>
            <a:xfrm flipH="1">
              <a:off x="6266880" y="1461960"/>
              <a:ext cx="3240" cy="54792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Group 1054"/>
            <p:cNvGrpSpPr/>
            <p:nvPr/>
          </p:nvGrpSpPr>
          <p:grpSpPr>
            <a:xfrm>
              <a:off x="4786200" y="1630080"/>
              <a:ext cx="2994480" cy="1756080"/>
              <a:chOff x="4786200" y="1630080"/>
              <a:chExt cx="2994480" cy="1756080"/>
            </a:xfrm>
          </p:grpSpPr>
          <p:grpSp>
            <p:nvGrpSpPr>
              <p:cNvPr id="215" name="Group 1055"/>
              <p:cNvGrpSpPr/>
              <p:nvPr/>
            </p:nvGrpSpPr>
            <p:grpSpPr>
              <a:xfrm>
                <a:off x="4786200" y="2722320"/>
                <a:ext cx="2994480" cy="663840"/>
                <a:chOff x="4786200" y="2722320"/>
                <a:chExt cx="2994480" cy="663840"/>
              </a:xfrm>
            </p:grpSpPr>
            <p:cxnSp>
              <p:nvCxnSpPr>
                <p:cNvPr id="216" name="AutoShape 1056"/>
                <p:cNvCxnSpPr/>
                <p:nvPr/>
              </p:nvCxnSpPr>
              <p:spPr>
                <a:xfrm>
                  <a:off x="4803840" y="2722320"/>
                  <a:ext cx="74664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217" name="AutoShape 1057"/>
                <p:cNvCxnSpPr/>
                <p:nvPr/>
              </p:nvCxnSpPr>
              <p:spPr>
                <a:xfrm>
                  <a:off x="5549760" y="272232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218" name="AutoShape 1058"/>
                <p:cNvCxnSpPr/>
                <p:nvPr/>
              </p:nvCxnSpPr>
              <p:spPr>
                <a:xfrm>
                  <a:off x="6292800" y="272232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219" name="AutoShape 1059"/>
                <p:cNvCxnSpPr/>
                <p:nvPr/>
              </p:nvCxnSpPr>
              <p:spPr>
                <a:xfrm>
                  <a:off x="7035840" y="2722320"/>
                  <a:ext cx="74520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sp>
              <p:nvSpPr>
                <p:cNvPr id="220" name="Line 1060"/>
                <p:cNvSpPr/>
                <p:nvPr/>
              </p:nvSpPr>
              <p:spPr>
                <a:xfrm>
                  <a:off x="4798800" y="2790720"/>
                  <a:ext cx="0" cy="57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1061"/>
                <p:cNvSpPr/>
                <p:nvPr/>
              </p:nvSpPr>
              <p:spPr>
                <a:xfrm>
                  <a:off x="5549760" y="2722680"/>
                  <a:ext cx="0" cy="57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1062"/>
                <p:cNvSpPr/>
                <p:nvPr/>
              </p:nvSpPr>
              <p:spPr>
                <a:xfrm>
                  <a:off x="6292800" y="2722680"/>
                  <a:ext cx="0" cy="660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1063"/>
                <p:cNvSpPr/>
                <p:nvPr/>
              </p:nvSpPr>
              <p:spPr>
                <a:xfrm>
                  <a:off x="7035840" y="2722680"/>
                  <a:ext cx="0" cy="57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1064"/>
                <p:cNvSpPr/>
                <p:nvPr/>
              </p:nvSpPr>
              <p:spPr>
                <a:xfrm>
                  <a:off x="7780320" y="2722680"/>
                  <a:ext cx="0" cy="660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065"/>
                <p:cNvSpPr/>
                <p:nvPr/>
              </p:nvSpPr>
              <p:spPr>
                <a:xfrm>
                  <a:off x="4786200" y="3282840"/>
                  <a:ext cx="2973240" cy="1033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1066"/>
              <p:cNvGrpSpPr/>
              <p:nvPr/>
            </p:nvGrpSpPr>
            <p:grpSpPr>
              <a:xfrm>
                <a:off x="4968360" y="1630080"/>
                <a:ext cx="2603880" cy="1387440"/>
                <a:chOff x="4968360" y="1630080"/>
                <a:chExt cx="2603880" cy="1387440"/>
              </a:xfrm>
            </p:grpSpPr>
            <p:cxnSp>
              <p:nvCxnSpPr>
                <p:cNvPr id="227" name="AutoShape 1067"/>
                <p:cNvCxnSpPr/>
                <p:nvPr/>
              </p:nvCxnSpPr>
              <p:spPr>
                <a:xfrm>
                  <a:off x="5044680" y="2336400"/>
                  <a:ext cx="383400" cy="46260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228" name="AutoShape 1068"/>
                <p:cNvCxnSpPr/>
                <p:nvPr/>
              </p:nvCxnSpPr>
              <p:spPr>
                <a:xfrm>
                  <a:off x="5427720" y="2787120"/>
                  <a:ext cx="419760" cy="2264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229" name="AutoShape 1069"/>
                <p:cNvCxnSpPr/>
                <p:nvPr/>
              </p:nvCxnSpPr>
              <p:spPr>
                <a:xfrm>
                  <a:off x="5857560" y="3011040"/>
                  <a:ext cx="826200" cy="252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230" name="AutoShape 1070"/>
                <p:cNvCxnSpPr/>
                <p:nvPr/>
              </p:nvCxnSpPr>
              <p:spPr>
                <a:xfrm flipV="1">
                  <a:off x="6662160" y="2821680"/>
                  <a:ext cx="451800" cy="19620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231" name="AutoShape 1071"/>
                <p:cNvCxnSpPr/>
                <p:nvPr/>
              </p:nvCxnSpPr>
              <p:spPr>
                <a:xfrm flipV="1">
                  <a:off x="7113240" y="2346120"/>
                  <a:ext cx="384840" cy="4766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sp>
              <p:nvSpPr>
                <p:cNvPr id="232" name="Line 1072"/>
                <p:cNvSpPr/>
                <p:nvPr/>
              </p:nvSpPr>
              <p:spPr>
                <a:xfrm flipH="1" flipV="1">
                  <a:off x="4968360" y="1630080"/>
                  <a:ext cx="74520" cy="7160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Line 1073"/>
                <p:cNvSpPr/>
                <p:nvPr/>
              </p:nvSpPr>
              <p:spPr>
                <a:xfrm flipV="1">
                  <a:off x="5416560" y="1827000"/>
                  <a:ext cx="98280" cy="9270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Line 1074"/>
                <p:cNvSpPr/>
                <p:nvPr/>
              </p:nvSpPr>
              <p:spPr>
                <a:xfrm flipV="1">
                  <a:off x="5848200" y="2039760"/>
                  <a:ext cx="162000" cy="95112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075"/>
                <p:cNvSpPr/>
                <p:nvPr/>
              </p:nvSpPr>
              <p:spPr>
                <a:xfrm>
                  <a:off x="6526080" y="2021040"/>
                  <a:ext cx="165240" cy="96516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Line 1076"/>
                <p:cNvSpPr/>
                <p:nvPr/>
              </p:nvSpPr>
              <p:spPr>
                <a:xfrm flipH="1" flipV="1">
                  <a:off x="6976800" y="1835280"/>
                  <a:ext cx="123840" cy="96192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Line 1077"/>
                <p:cNvSpPr/>
                <p:nvPr/>
              </p:nvSpPr>
              <p:spPr>
                <a:xfrm flipV="1">
                  <a:off x="7497720" y="1630080"/>
                  <a:ext cx="74520" cy="7160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1078"/>
                <p:cNvSpPr/>
                <p:nvPr/>
              </p:nvSpPr>
              <p:spPr>
                <a:xfrm>
                  <a:off x="5459400" y="2262240"/>
                  <a:ext cx="496800" cy="2379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Line 1079"/>
                <p:cNvSpPr/>
                <p:nvPr/>
              </p:nvSpPr>
              <p:spPr>
                <a:xfrm flipV="1">
                  <a:off x="5970600" y="2488680"/>
                  <a:ext cx="625320" cy="32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1080"/>
                <p:cNvSpPr/>
                <p:nvPr/>
              </p:nvSpPr>
              <p:spPr>
                <a:xfrm flipV="1">
                  <a:off x="6572160" y="2261880"/>
                  <a:ext cx="479520" cy="2430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1081"/>
                <p:cNvSpPr/>
                <p:nvPr/>
              </p:nvSpPr>
              <p:spPr>
                <a:xfrm>
                  <a:off x="4994280" y="1928880"/>
                  <a:ext cx="469800" cy="323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Line 1082"/>
                <p:cNvSpPr/>
                <p:nvPr/>
              </p:nvSpPr>
              <p:spPr>
                <a:xfrm flipV="1">
                  <a:off x="7038720" y="1928520"/>
                  <a:ext cx="495360" cy="323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83"/>
                <p:cNvSpPr/>
                <p:nvPr/>
              </p:nvSpPr>
              <p:spPr>
                <a:xfrm>
                  <a:off x="4968720" y="1630440"/>
                  <a:ext cx="2603520" cy="42048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4" name="Group 1044"/>
          <p:cNvGrpSpPr/>
          <p:nvPr/>
        </p:nvGrpSpPr>
        <p:grpSpPr>
          <a:xfrm>
            <a:off x="6000840" y="2714760"/>
            <a:ext cx="322200" cy="676080"/>
            <a:chOff x="6000840" y="2714760"/>
            <a:chExt cx="322200" cy="676080"/>
          </a:xfrm>
        </p:grpSpPr>
        <mc:AlternateContent>
          <mc:Choice xmlns:a14="http://schemas.microsoft.com/office/drawing/2010/main" Requires="a14">
            <p:sp>
              <p:nvSpPr>
                <p:cNvPr id="245" name="Object 7"/>
                <p:cNvSpPr txBox="1"/>
                <p:nvPr/>
              </p:nvSpPr>
              <p:spPr>
                <a:xfrm>
                  <a:off x="6000840" y="2933640"/>
                  <a:ext cx="322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Line 1046"/>
            <p:cNvSpPr/>
            <p:nvPr/>
          </p:nvSpPr>
          <p:spPr>
            <a:xfrm>
              <a:off x="6122880" y="2930400"/>
              <a:ext cx="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047"/>
            <p:cNvSpPr/>
            <p:nvPr/>
          </p:nvSpPr>
          <p:spPr>
            <a:xfrm>
              <a:off x="6122880" y="2786040"/>
              <a:ext cx="8892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048"/>
            <p:cNvSpPr/>
            <p:nvPr/>
          </p:nvSpPr>
          <p:spPr>
            <a:xfrm flipV="1">
              <a:off x="6032520" y="2822760"/>
              <a:ext cx="17928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049"/>
            <p:cNvSpPr/>
            <p:nvPr/>
          </p:nvSpPr>
          <p:spPr>
            <a:xfrm flipH="1" flipV="1">
              <a:off x="6032160" y="2893680"/>
              <a:ext cx="9036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50"/>
            <p:cNvSpPr/>
            <p:nvPr/>
          </p:nvSpPr>
          <p:spPr>
            <a:xfrm>
              <a:off x="6122880" y="2714760"/>
              <a:ext cx="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1099"/>
          <p:cNvGrpSpPr/>
          <p:nvPr/>
        </p:nvGrpSpPr>
        <p:grpSpPr>
          <a:xfrm>
            <a:off x="6143760" y="2714760"/>
            <a:ext cx="509040" cy="1055520"/>
            <a:chOff x="6143760" y="2714760"/>
            <a:chExt cx="509040" cy="1055520"/>
          </a:xfrm>
        </p:grpSpPr>
        <p:sp>
          <p:nvSpPr>
            <p:cNvPr id="252" name="Line 1100"/>
            <p:cNvSpPr/>
            <p:nvPr/>
          </p:nvSpPr>
          <p:spPr>
            <a:xfrm>
              <a:off x="6649920" y="2714760"/>
              <a:ext cx="2880" cy="9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8"/>
                <p:cNvSpPr txBox="1"/>
                <p:nvPr/>
              </p:nvSpPr>
              <p:spPr>
                <a:xfrm>
                  <a:off x="6251400" y="3313080"/>
                  <a:ext cx="363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Line 1102"/>
            <p:cNvSpPr/>
            <p:nvPr/>
          </p:nvSpPr>
          <p:spPr>
            <a:xfrm>
              <a:off x="6143760" y="342288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084"/>
          <p:cNvGrpSpPr/>
          <p:nvPr/>
        </p:nvGrpSpPr>
        <p:grpSpPr>
          <a:xfrm>
            <a:off x="6143760" y="2571480"/>
            <a:ext cx="598320" cy="516240"/>
            <a:chOff x="6143760" y="2571480"/>
            <a:chExt cx="598320" cy="516240"/>
          </a:xfrm>
        </p:grpSpPr>
        <mc:AlternateContent>
          <mc:Choice xmlns:a14="http://schemas.microsoft.com/office/drawing/2010/main" Requires="a14">
            <p:sp>
              <p:nvSpPr>
                <p:cNvPr id="256" name="Object 9"/>
                <p:cNvSpPr txBox="1"/>
                <p:nvPr/>
              </p:nvSpPr>
              <p:spPr>
                <a:xfrm>
                  <a:off x="6426000" y="2666880"/>
                  <a:ext cx="29232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Line 1086"/>
            <p:cNvSpPr/>
            <p:nvPr/>
          </p:nvSpPr>
          <p:spPr>
            <a:xfrm>
              <a:off x="6635880" y="2685960"/>
              <a:ext cx="10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087"/>
            <p:cNvSpPr/>
            <p:nvPr/>
          </p:nvSpPr>
          <p:spPr>
            <a:xfrm flipH="1" flipV="1">
              <a:off x="6525720" y="2571480"/>
              <a:ext cx="73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088"/>
            <p:cNvSpPr/>
            <p:nvPr/>
          </p:nvSpPr>
          <p:spPr>
            <a:xfrm flipH="1">
              <a:off x="6599160" y="2685960"/>
              <a:ext cx="36720" cy="1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89"/>
            <p:cNvSpPr/>
            <p:nvPr/>
          </p:nvSpPr>
          <p:spPr>
            <a:xfrm flipV="1">
              <a:off x="6216480" y="2601720"/>
              <a:ext cx="33480" cy="11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090"/>
            <p:cNvSpPr/>
            <p:nvPr/>
          </p:nvSpPr>
          <p:spPr>
            <a:xfrm>
              <a:off x="6143760" y="2716200"/>
              <a:ext cx="7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091"/>
            <p:cNvSpPr/>
            <p:nvPr/>
          </p:nvSpPr>
          <p:spPr>
            <a:xfrm flipH="1" flipV="1">
              <a:off x="6381360" y="2571480"/>
              <a:ext cx="73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092"/>
            <p:cNvSpPr/>
            <p:nvPr/>
          </p:nvSpPr>
          <p:spPr>
            <a:xfrm flipV="1">
              <a:off x="6464160" y="2579400"/>
              <a:ext cx="73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093"/>
            <p:cNvSpPr/>
            <p:nvPr/>
          </p:nvSpPr>
          <p:spPr>
            <a:xfrm flipV="1">
              <a:off x="6321240" y="2579400"/>
              <a:ext cx="716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094"/>
            <p:cNvSpPr/>
            <p:nvPr/>
          </p:nvSpPr>
          <p:spPr>
            <a:xfrm flipH="1" flipV="1">
              <a:off x="6258960" y="2571480"/>
              <a:ext cx="73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095"/>
          <p:cNvGrpSpPr/>
          <p:nvPr/>
        </p:nvGrpSpPr>
        <p:grpSpPr>
          <a:xfrm>
            <a:off x="6837480" y="2571840"/>
            <a:ext cx="1449360" cy="500040"/>
            <a:chOff x="6837480" y="2571840"/>
            <a:chExt cx="1449360" cy="500040"/>
          </a:xfrm>
        </p:grpSpPr>
        <p:sp>
          <p:nvSpPr>
            <p:cNvPr id="267" name="Line 1096"/>
            <p:cNvSpPr/>
            <p:nvPr/>
          </p:nvSpPr>
          <p:spPr>
            <a:xfrm>
              <a:off x="6837480" y="3043440"/>
              <a:ext cx="132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097"/>
            <p:cNvSpPr/>
            <p:nvPr/>
          </p:nvSpPr>
          <p:spPr>
            <a:xfrm>
              <a:off x="7844040" y="26974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10"/>
                <p:cNvSpPr txBox="1"/>
                <p:nvPr/>
              </p:nvSpPr>
              <p:spPr>
                <a:xfrm>
                  <a:off x="7886880" y="2571840"/>
                  <a:ext cx="399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TextovéPole 63"/>
          <p:cNvSpPr/>
          <p:nvPr/>
        </p:nvSpPr>
        <p:spPr>
          <a:xfrm>
            <a:off x="642960" y="3857760"/>
            <a:ext cx="8358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ný tvar základní rovnice MKP s kontakty řešenými penalty algoritm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loupcová matice normálných a tečných tuhostí v diskrétních bodech konta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Matice definující odpovídající dvojice deformačních parametrů, které přicházejí při kontaktu do vzájemného sty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1"/>
              <p:cNvSpPr txBox="1"/>
              <p:nvPr/>
            </p:nvSpPr>
            <p:spPr>
              <a:xfrm>
                <a:off x="3000240" y="4357800"/>
                <a:ext cx="3048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Obdélník 65"/>
          <p:cNvSpPr/>
          <p:nvPr/>
        </p:nvSpPr>
        <p:spPr>
          <a:xfrm>
            <a:off x="928800" y="50292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8"/>
          <p:cNvSpPr/>
          <p:nvPr/>
        </p:nvSpPr>
        <p:spPr>
          <a:xfrm>
            <a:off x="857160" y="723960"/>
            <a:ext cx="72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 uvedeného vyplývají následující vlastnosti  penalty algorit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ovéPole 67"/>
          <p:cNvSpPr/>
          <p:nvPr/>
        </p:nvSpPr>
        <p:spPr>
          <a:xfrm>
            <a:off x="1214280" y="2071800"/>
            <a:ext cx="714384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takt se projeví změnou tuhosti prvků matice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uhost v kontaktu je nastavena tak, aby při malé penetraci bylo dosaženo rovnováhy                 , kd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e kontaktní síla přenášená mezi konkrétní dvojicí deformačních paramet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ýho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ádné změny v počtu stupňů volnos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olehlivost při iteračním řešení velmi rozsáhlých soustav rov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výho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ždy je nutná určitá míra penetrace stykových povrchů, což je v rozporu s kinematikou reálných kontakt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dmíněnost matice soustavy                                a tím i rychlost konvergence významně závisí na volbě kontaktní tuhos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3938760" y="2732040"/>
                <a:ext cx="8474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Obdélník 68"/>
          <p:cNvSpPr/>
          <p:nvPr/>
        </p:nvSpPr>
        <p:spPr>
          <a:xfrm>
            <a:off x="4768920" y="55008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3929040" y="5168880"/>
                <a:ext cx="1522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K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8"/>
          <p:cNvSpPr/>
          <p:nvPr/>
        </p:nvSpPr>
        <p:spPr>
          <a:xfrm>
            <a:off x="857160" y="723960"/>
            <a:ext cx="72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lastnosti  penalty algoritmu - 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ovéPole 7"/>
          <p:cNvSpPr/>
          <p:nvPr/>
        </p:nvSpPr>
        <p:spPr>
          <a:xfrm>
            <a:off x="1071720" y="1643040"/>
            <a:ext cx="7572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uhost v kontaktu     je automaticky nastavena podle tuhosti okolních materiálů a může být  uživatelem změněna pomocí přenastavení parametru FKN (pomocí nástroje „contact wizard“). Změnou tuhosti  dojde vždy ke změně penetrace. Pokud se přitom kontaktní napětí a rozsah kontaktní plochy změní jen málo, je možno výsledek kontaktního výpočtu považovat za přijatelný – viz příklad. V opačném případě je nutné další zvýšení kontaktní tuhos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bdélník 8"/>
          <p:cNvSpPr/>
          <p:nvPr/>
        </p:nvSpPr>
        <p:spPr>
          <a:xfrm>
            <a:off x="2357280" y="15717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72"/>
          <p:cNvGrpSpPr/>
          <p:nvPr/>
        </p:nvGrpSpPr>
        <p:grpSpPr>
          <a:xfrm>
            <a:off x="3353040" y="3071880"/>
            <a:ext cx="1652400" cy="2778120"/>
            <a:chOff x="3353040" y="3071880"/>
            <a:chExt cx="1652400" cy="2778120"/>
          </a:xfrm>
        </p:grpSpPr>
        <p:sp>
          <p:nvSpPr>
            <p:cNvPr id="284" name="Rectangle 73"/>
            <p:cNvSpPr/>
            <p:nvPr/>
          </p:nvSpPr>
          <p:spPr>
            <a:xfrm>
              <a:off x="3353040" y="3071880"/>
              <a:ext cx="105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KN=1e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74"/>
            <p:cNvSpPr/>
            <p:nvPr/>
          </p:nvSpPr>
          <p:spPr>
            <a:xfrm>
              <a:off x="3357360" y="408276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75"/>
            <p:cNvSpPr/>
            <p:nvPr/>
          </p:nvSpPr>
          <p:spPr>
            <a:xfrm>
              <a:off x="3395880" y="551268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Picture 76" descr="file000"/>
            <p:cNvPicPr/>
            <p:nvPr/>
          </p:nvPicPr>
          <p:blipFill>
            <a:blip r:embed="rId1"/>
            <a:srcRect l="24688" t="32719" r="46912" b="41582"/>
            <a:stretch/>
          </p:blipFill>
          <p:spPr>
            <a:xfrm>
              <a:off x="3429000" y="3326760"/>
              <a:ext cx="890280" cy="67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77" descr="file000"/>
            <p:cNvPicPr/>
            <p:nvPr/>
          </p:nvPicPr>
          <p:blipFill>
            <a:blip r:embed="rId2">
              <a:lum bright="-6000"/>
            </a:blip>
            <a:srcRect l="71362" t="55390" r="10055" b="16529"/>
            <a:stretch/>
          </p:blipFill>
          <p:spPr>
            <a:xfrm>
              <a:off x="4372920" y="3326760"/>
              <a:ext cx="632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78" descr="file001"/>
            <p:cNvPicPr/>
            <p:nvPr/>
          </p:nvPicPr>
          <p:blipFill>
            <a:blip r:embed="rId3"/>
            <a:srcRect l="15244" t="12110" r="40210" b="18158"/>
            <a:stretch/>
          </p:blipFill>
          <p:spPr>
            <a:xfrm>
              <a:off x="3429000" y="4374000"/>
              <a:ext cx="842040" cy="110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79" descr="file002"/>
            <p:cNvPicPr/>
            <p:nvPr/>
          </p:nvPicPr>
          <p:blipFill>
            <a:blip r:embed="rId4">
              <a:lum bright="-6000"/>
            </a:blip>
            <a:srcRect l="71223" t="17137" r="13736" b="54369"/>
            <a:stretch/>
          </p:blipFill>
          <p:spPr>
            <a:xfrm>
              <a:off x="4372920" y="4559040"/>
              <a:ext cx="528480" cy="84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64"/>
          <p:cNvGrpSpPr/>
          <p:nvPr/>
        </p:nvGrpSpPr>
        <p:grpSpPr>
          <a:xfrm>
            <a:off x="1214280" y="3071880"/>
            <a:ext cx="1785600" cy="2718360"/>
            <a:chOff x="1214280" y="3071880"/>
            <a:chExt cx="1785600" cy="2718360"/>
          </a:xfrm>
        </p:grpSpPr>
        <p:sp>
          <p:nvSpPr>
            <p:cNvPr id="292" name="Rectangle 65"/>
            <p:cNvSpPr/>
            <p:nvPr/>
          </p:nvSpPr>
          <p:spPr>
            <a:xfrm>
              <a:off x="1269360" y="3071880"/>
              <a:ext cx="82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KN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66"/>
            <p:cNvSpPr/>
            <p:nvPr/>
          </p:nvSpPr>
          <p:spPr>
            <a:xfrm>
              <a:off x="1313640" y="405684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67"/>
            <p:cNvSpPr/>
            <p:nvPr/>
          </p:nvSpPr>
          <p:spPr>
            <a:xfrm>
              <a:off x="1260720" y="545292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68" descr="file003"/>
            <p:cNvPicPr/>
            <p:nvPr/>
          </p:nvPicPr>
          <p:blipFill>
            <a:blip r:embed="rId5">
              <a:lum bright="-6000"/>
            </a:blip>
            <a:srcRect l="17318" t="19343" r="42661" b="20641"/>
            <a:stretch/>
          </p:blipFill>
          <p:spPr>
            <a:xfrm>
              <a:off x="1235160" y="4388400"/>
              <a:ext cx="93492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69" descr="file003"/>
            <p:cNvPicPr/>
            <p:nvPr/>
          </p:nvPicPr>
          <p:blipFill>
            <a:blip r:embed="rId6">
              <a:lum bright="-6000"/>
            </a:blip>
            <a:srcRect l="70926" t="67005" r="16133" b="9922"/>
            <a:stretch/>
          </p:blipFill>
          <p:spPr>
            <a:xfrm>
              <a:off x="2294640" y="4566240"/>
              <a:ext cx="565920" cy="76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70" descr="file004"/>
            <p:cNvPicPr/>
            <p:nvPr/>
          </p:nvPicPr>
          <p:blipFill>
            <a:blip r:embed="rId7"/>
            <a:srcRect l="24670" t="37896" r="50224" b="34806"/>
            <a:stretch/>
          </p:blipFill>
          <p:spPr>
            <a:xfrm>
              <a:off x="1214280" y="3328920"/>
              <a:ext cx="93060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71" descr="file004"/>
            <p:cNvPicPr/>
            <p:nvPr/>
          </p:nvPicPr>
          <p:blipFill>
            <a:blip r:embed="rId8">
              <a:lum bright="-6000"/>
            </a:blip>
            <a:srcRect l="71084" t="46716" r="12155" b="29579"/>
            <a:stretch/>
          </p:blipFill>
          <p:spPr>
            <a:xfrm>
              <a:off x="2294640" y="3319920"/>
              <a:ext cx="705240" cy="76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Rectangle 62"/>
          <p:cNvSpPr/>
          <p:nvPr/>
        </p:nvSpPr>
        <p:spPr>
          <a:xfrm>
            <a:off x="5643720" y="3429000"/>
            <a:ext cx="23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měna penetra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.281e-3/ 0.284e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1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3"/>
          <p:cNvSpPr/>
          <p:nvPr/>
        </p:nvSpPr>
        <p:spPr>
          <a:xfrm>
            <a:off x="5643720" y="4643280"/>
            <a:ext cx="25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měna napětí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3525-3501)/ 35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0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ovéPole 27"/>
          <p:cNvSpPr/>
          <p:nvPr/>
        </p:nvSpPr>
        <p:spPr>
          <a:xfrm>
            <a:off x="1143000" y="5786280"/>
            <a:ext cx="72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ozdíl v kontaktní tuhosti o 4 řády vede ke změně penetrace o 4 řády, ale napětí se mění o méně než jedno procento – výsledek je uspokojivý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Zástupný symbol pro číslo snímku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4468-6BAD-4A7D-9985-95BA70BECB7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8"/>
          <p:cNvSpPr/>
          <p:nvPr/>
        </p:nvSpPr>
        <p:spPr>
          <a:xfrm>
            <a:off x="857160" y="723960"/>
            <a:ext cx="72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lastnosti  penalty algorit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ovéPole 5"/>
          <p:cNvSpPr/>
          <p:nvPr/>
        </p:nvSpPr>
        <p:spPr>
          <a:xfrm>
            <a:off x="928800" y="1785960"/>
            <a:ext cx="77151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lba kontaktní tuhosti má tedy dvojí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otichůdný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liv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liš nízká hodnota vede k vysoké penetraci a nepřesným výsledkům kontaktní úlo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liš vysoká hodnota naopak způsobí problémy s konvergencí. V následujících iteracích dochází opakovaně k oscilacím mezi stykovými body, střídá se periodicky stav otevřený - uzavřený kontak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rávná volba je proto vždy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mpromisem mezi přesností a rychlost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realizovatelností) výpočtu a u komplikovanějších úloh se řešitel nevyhne opakování výpočtu s různou volbou parametru FKN a následným srovnáním výsledků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1419120" y="3373560"/>
            <a:ext cx="1866600" cy="1459080"/>
            <a:chOff x="1419120" y="3373560"/>
            <a:chExt cx="1866600" cy="1459080"/>
          </a:xfrm>
        </p:grpSpPr>
        <p:sp>
          <p:nvSpPr>
            <p:cNvPr id="306" name="Text Box 7"/>
            <p:cNvSpPr/>
            <p:nvPr/>
          </p:nvSpPr>
          <p:spPr>
            <a:xfrm>
              <a:off x="1611360" y="4464360"/>
              <a:ext cx="15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Group 8"/>
            <p:cNvGrpSpPr/>
            <p:nvPr/>
          </p:nvGrpSpPr>
          <p:grpSpPr>
            <a:xfrm>
              <a:off x="2376720" y="4076640"/>
              <a:ext cx="126360" cy="155520"/>
              <a:chOff x="2376720" y="4076640"/>
              <a:chExt cx="126360" cy="155520"/>
            </a:xfrm>
          </p:grpSpPr>
          <p:sp>
            <p:nvSpPr>
              <p:cNvPr id="308" name="Line 9"/>
              <p:cNvSpPr/>
              <p:nvPr/>
            </p:nvSpPr>
            <p:spPr>
              <a:xfrm>
                <a:off x="2440080" y="4180320"/>
                <a:ext cx="0" cy="5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10"/>
              <p:cNvSpPr/>
              <p:nvPr/>
            </p:nvSpPr>
            <p:spPr>
              <a:xfrm>
                <a:off x="2440080" y="4111200"/>
                <a:ext cx="63000" cy="1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11"/>
              <p:cNvSpPr/>
              <p:nvPr/>
            </p:nvSpPr>
            <p:spPr>
              <a:xfrm flipV="1">
                <a:off x="2376720" y="4128480"/>
                <a:ext cx="126360" cy="3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12"/>
              <p:cNvSpPr/>
              <p:nvPr/>
            </p:nvSpPr>
            <p:spPr>
              <a:xfrm flipH="1" flipV="1">
                <a:off x="2376720" y="4162680"/>
                <a:ext cx="63360" cy="1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3"/>
              <p:cNvSpPr/>
              <p:nvPr/>
            </p:nvSpPr>
            <p:spPr>
              <a:xfrm>
                <a:off x="2440080" y="4076640"/>
                <a:ext cx="0" cy="3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341080" y="3460680"/>
              <a:ext cx="1080" cy="275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2369160" y="3373560"/>
              <a:ext cx="40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5" name="AutoShape 16"/>
            <p:cNvCxnSpPr/>
            <p:nvPr/>
          </p:nvCxnSpPr>
          <p:spPr>
            <a:xfrm>
              <a:off x="1430640" y="4083120"/>
              <a:ext cx="4636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316" name="AutoShape 17"/>
            <p:cNvCxnSpPr/>
            <p:nvPr/>
          </p:nvCxnSpPr>
          <p:spPr>
            <a:xfrm>
              <a:off x="1893960" y="4083120"/>
              <a:ext cx="4636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317" name="AutoShape 18"/>
            <p:cNvCxnSpPr/>
            <p:nvPr/>
          </p:nvCxnSpPr>
          <p:spPr>
            <a:xfrm>
              <a:off x="2356920" y="4083120"/>
              <a:ext cx="46512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318" name="AutoShape 19"/>
            <p:cNvCxnSpPr/>
            <p:nvPr/>
          </p:nvCxnSpPr>
          <p:spPr>
            <a:xfrm>
              <a:off x="2821680" y="4083120"/>
              <a:ext cx="4636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319" name="Line 20"/>
            <p:cNvSpPr/>
            <p:nvPr/>
          </p:nvSpPr>
          <p:spPr>
            <a:xfrm>
              <a:off x="1426680" y="4116600"/>
              <a:ext cx="1080" cy="2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1893960" y="4083480"/>
              <a:ext cx="1440" cy="2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2356920" y="4083480"/>
              <a:ext cx="1080" cy="32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2821680" y="4083480"/>
              <a:ext cx="1440" cy="2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3284640" y="4083480"/>
              <a:ext cx="1080" cy="32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25"/>
            <p:cNvSpPr/>
            <p:nvPr/>
          </p:nvSpPr>
          <p:spPr>
            <a:xfrm>
              <a:off x="1419120" y="4356000"/>
              <a:ext cx="1853640" cy="496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Group 26"/>
            <p:cNvGrpSpPr/>
            <p:nvPr/>
          </p:nvGrpSpPr>
          <p:grpSpPr>
            <a:xfrm>
              <a:off x="1534680" y="3552120"/>
              <a:ext cx="1617840" cy="696240"/>
              <a:chOff x="1534680" y="3552120"/>
              <a:chExt cx="1617840" cy="696240"/>
            </a:xfrm>
          </p:grpSpPr>
          <p:cxnSp>
            <p:nvCxnSpPr>
              <p:cNvPr id="326" name="AutoShape 27"/>
              <p:cNvCxnSpPr/>
              <p:nvPr/>
            </p:nvCxnSpPr>
            <p:spPr>
              <a:xfrm>
                <a:off x="1580400" y="3899880"/>
                <a:ext cx="239400" cy="23256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27" name="AutoShape 28"/>
              <p:cNvCxnSpPr/>
              <p:nvPr/>
            </p:nvCxnSpPr>
            <p:spPr>
              <a:xfrm>
                <a:off x="1819440" y="4132080"/>
                <a:ext cx="333720" cy="1166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28" name="AutoShape 29"/>
              <p:cNvCxnSpPr/>
              <p:nvPr/>
            </p:nvCxnSpPr>
            <p:spPr>
              <a:xfrm>
                <a:off x="2152800" y="4247640"/>
                <a:ext cx="38196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29" name="AutoShape 30"/>
              <p:cNvCxnSpPr/>
              <p:nvPr/>
            </p:nvCxnSpPr>
            <p:spPr>
              <a:xfrm flipV="1">
                <a:off x="2534400" y="4131720"/>
                <a:ext cx="334800" cy="1166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30" name="AutoShape 31"/>
              <p:cNvCxnSpPr/>
              <p:nvPr/>
            </p:nvCxnSpPr>
            <p:spPr>
              <a:xfrm flipV="1">
                <a:off x="2868480" y="3899520"/>
                <a:ext cx="238320" cy="23256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331" name="Line 32"/>
              <p:cNvSpPr/>
              <p:nvPr/>
            </p:nvSpPr>
            <p:spPr>
              <a:xfrm flipH="1" flipV="1">
                <a:off x="1534680" y="3552120"/>
                <a:ext cx="45720" cy="3474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33"/>
              <p:cNvSpPr/>
              <p:nvPr/>
            </p:nvSpPr>
            <p:spPr>
              <a:xfrm flipV="1">
                <a:off x="1812240" y="3647520"/>
                <a:ext cx="61560" cy="4514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34"/>
              <p:cNvSpPr/>
              <p:nvPr/>
            </p:nvSpPr>
            <p:spPr>
              <a:xfrm flipV="1">
                <a:off x="2151000" y="3750480"/>
                <a:ext cx="30600" cy="4885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35"/>
              <p:cNvSpPr/>
              <p:nvPr/>
            </p:nvSpPr>
            <p:spPr>
              <a:xfrm>
                <a:off x="2501640" y="3759480"/>
                <a:ext cx="23040" cy="48024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36"/>
              <p:cNvSpPr/>
              <p:nvPr/>
            </p:nvSpPr>
            <p:spPr>
              <a:xfrm flipH="1" flipV="1">
                <a:off x="2782440" y="3651120"/>
                <a:ext cx="76680" cy="467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37"/>
              <p:cNvSpPr/>
              <p:nvPr/>
            </p:nvSpPr>
            <p:spPr>
              <a:xfrm flipV="1">
                <a:off x="3106080" y="3552120"/>
                <a:ext cx="46080" cy="3474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38"/>
              <p:cNvSpPr/>
              <p:nvPr/>
            </p:nvSpPr>
            <p:spPr>
              <a:xfrm>
                <a:off x="1838880" y="3858840"/>
                <a:ext cx="323280" cy="1281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39"/>
              <p:cNvSpPr/>
              <p:nvPr/>
            </p:nvSpPr>
            <p:spPr>
              <a:xfrm>
                <a:off x="2170440" y="3987000"/>
                <a:ext cx="338760" cy="39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Line 40"/>
              <p:cNvSpPr/>
              <p:nvPr/>
            </p:nvSpPr>
            <p:spPr>
              <a:xfrm flipV="1">
                <a:off x="2517120" y="3858840"/>
                <a:ext cx="311760" cy="1238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41"/>
              <p:cNvSpPr/>
              <p:nvPr/>
            </p:nvSpPr>
            <p:spPr>
              <a:xfrm>
                <a:off x="1550160" y="3697200"/>
                <a:ext cx="292680" cy="1569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42"/>
              <p:cNvSpPr/>
              <p:nvPr/>
            </p:nvSpPr>
            <p:spPr>
              <a:xfrm flipV="1">
                <a:off x="2821320" y="3697200"/>
                <a:ext cx="307800" cy="1569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43"/>
              <p:cNvSpPr/>
              <p:nvPr/>
            </p:nvSpPr>
            <p:spPr>
              <a:xfrm>
                <a:off x="1535040" y="3552480"/>
                <a:ext cx="1617480" cy="20376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Group 44"/>
          <p:cNvGrpSpPr/>
          <p:nvPr/>
        </p:nvGrpSpPr>
        <p:grpSpPr>
          <a:xfrm>
            <a:off x="4087800" y="2725560"/>
            <a:ext cx="1841400" cy="2062440"/>
            <a:chOff x="4087800" y="2725560"/>
            <a:chExt cx="1841400" cy="2062440"/>
          </a:xfrm>
        </p:grpSpPr>
        <p:sp>
          <p:nvSpPr>
            <p:cNvPr id="344" name="Text Box 45"/>
            <p:cNvSpPr/>
            <p:nvPr/>
          </p:nvSpPr>
          <p:spPr>
            <a:xfrm>
              <a:off x="4116240" y="441972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5" name="AutoShape 46"/>
            <p:cNvCxnSpPr/>
            <p:nvPr/>
          </p:nvCxnSpPr>
          <p:spPr>
            <a:xfrm>
              <a:off x="4098600" y="4055760"/>
              <a:ext cx="44820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346" name="AutoShape 47"/>
            <p:cNvCxnSpPr/>
            <p:nvPr/>
          </p:nvCxnSpPr>
          <p:spPr>
            <a:xfrm>
              <a:off x="4546080" y="4055760"/>
              <a:ext cx="4467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347" name="AutoShape 48"/>
            <p:cNvCxnSpPr/>
            <p:nvPr/>
          </p:nvCxnSpPr>
          <p:spPr>
            <a:xfrm>
              <a:off x="4992480" y="4055760"/>
              <a:ext cx="45000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348" name="AutoShape 49"/>
            <p:cNvCxnSpPr/>
            <p:nvPr/>
          </p:nvCxnSpPr>
          <p:spPr>
            <a:xfrm>
              <a:off x="5441400" y="4055760"/>
              <a:ext cx="4467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349" name="Line 50"/>
            <p:cNvSpPr/>
            <p:nvPr/>
          </p:nvSpPr>
          <p:spPr>
            <a:xfrm>
              <a:off x="4095720" y="4092480"/>
              <a:ext cx="144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51"/>
            <p:cNvSpPr/>
            <p:nvPr/>
          </p:nvSpPr>
          <p:spPr>
            <a:xfrm>
              <a:off x="4546440" y="4056120"/>
              <a:ext cx="180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52"/>
            <p:cNvSpPr/>
            <p:nvPr/>
          </p:nvSpPr>
          <p:spPr>
            <a:xfrm>
              <a:off x="4992480" y="4056120"/>
              <a:ext cx="1800" cy="34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53"/>
            <p:cNvSpPr/>
            <p:nvPr/>
          </p:nvSpPr>
          <p:spPr>
            <a:xfrm>
              <a:off x="5441760" y="4056120"/>
              <a:ext cx="180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54"/>
            <p:cNvSpPr/>
            <p:nvPr/>
          </p:nvSpPr>
          <p:spPr>
            <a:xfrm>
              <a:off x="5887800" y="4056120"/>
              <a:ext cx="1800" cy="34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4087800" y="4352760"/>
              <a:ext cx="1788840" cy="540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56"/>
            <p:cNvSpPr/>
            <p:nvPr/>
          </p:nvSpPr>
          <p:spPr>
            <a:xfrm>
              <a:off x="4956120" y="2820960"/>
              <a:ext cx="1440" cy="299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57"/>
            <p:cNvSpPr/>
            <p:nvPr/>
          </p:nvSpPr>
          <p:spPr>
            <a:xfrm>
              <a:off x="4981320" y="2725560"/>
              <a:ext cx="3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Group 58"/>
            <p:cNvGrpSpPr/>
            <p:nvPr/>
          </p:nvGrpSpPr>
          <p:grpSpPr>
            <a:xfrm>
              <a:off x="4179600" y="2925360"/>
              <a:ext cx="1568520" cy="759600"/>
              <a:chOff x="4179600" y="2925360"/>
              <a:chExt cx="1568520" cy="759600"/>
            </a:xfrm>
          </p:grpSpPr>
          <p:cxnSp>
            <p:nvCxnSpPr>
              <p:cNvPr id="358" name="AutoShape 59"/>
              <p:cNvCxnSpPr/>
              <p:nvPr/>
            </p:nvCxnSpPr>
            <p:spPr>
              <a:xfrm>
                <a:off x="4223880" y="3304440"/>
                <a:ext cx="232200" cy="2534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59" name="AutoShape 60"/>
              <p:cNvCxnSpPr/>
              <p:nvPr/>
            </p:nvCxnSpPr>
            <p:spPr>
              <a:xfrm>
                <a:off x="4455360" y="3557520"/>
                <a:ext cx="323640" cy="12672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60" name="AutoShape 61"/>
              <p:cNvCxnSpPr/>
              <p:nvPr/>
            </p:nvCxnSpPr>
            <p:spPr>
              <a:xfrm>
                <a:off x="4778640" y="3684240"/>
                <a:ext cx="37044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61" name="AutoShape 62"/>
              <p:cNvCxnSpPr/>
              <p:nvPr/>
            </p:nvCxnSpPr>
            <p:spPr>
              <a:xfrm flipV="1">
                <a:off x="5148360" y="3557520"/>
                <a:ext cx="324360" cy="12672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62" name="AutoShape 63"/>
              <p:cNvCxnSpPr/>
              <p:nvPr/>
            </p:nvCxnSpPr>
            <p:spPr>
              <a:xfrm flipV="1">
                <a:off x="5472720" y="3304440"/>
                <a:ext cx="231120" cy="2534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363" name="Line 64"/>
              <p:cNvSpPr/>
              <p:nvPr/>
            </p:nvSpPr>
            <p:spPr>
              <a:xfrm flipH="1" flipV="1">
                <a:off x="4179600" y="2925360"/>
                <a:ext cx="44640" cy="3790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65"/>
              <p:cNvSpPr/>
              <p:nvPr/>
            </p:nvSpPr>
            <p:spPr>
              <a:xfrm flipV="1">
                <a:off x="4448520" y="3029400"/>
                <a:ext cx="59400" cy="4924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66"/>
              <p:cNvSpPr/>
              <p:nvPr/>
            </p:nvSpPr>
            <p:spPr>
              <a:xfrm flipV="1">
                <a:off x="4776840" y="3141720"/>
                <a:ext cx="29520" cy="5331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67"/>
              <p:cNvSpPr/>
              <p:nvPr/>
            </p:nvSpPr>
            <p:spPr>
              <a:xfrm>
                <a:off x="5116680" y="3151440"/>
                <a:ext cx="22320" cy="52380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68"/>
              <p:cNvSpPr/>
              <p:nvPr/>
            </p:nvSpPr>
            <p:spPr>
              <a:xfrm flipH="1" flipV="1">
                <a:off x="5389200" y="3033720"/>
                <a:ext cx="74520" cy="5104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69"/>
              <p:cNvSpPr/>
              <p:nvPr/>
            </p:nvSpPr>
            <p:spPr>
              <a:xfrm flipV="1">
                <a:off x="5703120" y="2925360"/>
                <a:ext cx="44640" cy="3790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70"/>
              <p:cNvSpPr/>
              <p:nvPr/>
            </p:nvSpPr>
            <p:spPr>
              <a:xfrm>
                <a:off x="4474440" y="3259800"/>
                <a:ext cx="313560" cy="140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71"/>
              <p:cNvSpPr/>
              <p:nvPr/>
            </p:nvSpPr>
            <p:spPr>
              <a:xfrm>
                <a:off x="4795560" y="3399840"/>
                <a:ext cx="328320" cy="43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72"/>
              <p:cNvSpPr/>
              <p:nvPr/>
            </p:nvSpPr>
            <p:spPr>
              <a:xfrm flipV="1">
                <a:off x="5131800" y="3259800"/>
                <a:ext cx="302040" cy="1353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73"/>
              <p:cNvSpPr/>
              <p:nvPr/>
            </p:nvSpPr>
            <p:spPr>
              <a:xfrm>
                <a:off x="4194360" y="3083760"/>
                <a:ext cx="283680" cy="1713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 flipV="1">
                <a:off x="5427000" y="3083760"/>
                <a:ext cx="298440" cy="1713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75"/>
              <p:cNvSpPr/>
              <p:nvPr/>
            </p:nvSpPr>
            <p:spPr>
              <a:xfrm>
                <a:off x="4179600" y="2925720"/>
                <a:ext cx="1568520" cy="22212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Line 76"/>
            <p:cNvSpPr/>
            <p:nvPr/>
          </p:nvSpPr>
          <p:spPr>
            <a:xfrm flipV="1">
              <a:off x="4951440" y="3639600"/>
              <a:ext cx="1440" cy="3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77"/>
            <p:cNvSpPr/>
            <p:nvPr/>
          </p:nvSpPr>
          <p:spPr>
            <a:xfrm>
              <a:off x="5011560" y="3784680"/>
              <a:ext cx="91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78"/>
          <p:cNvGrpSpPr/>
          <p:nvPr/>
        </p:nvGrpSpPr>
        <p:grpSpPr>
          <a:xfrm>
            <a:off x="6608880" y="3449520"/>
            <a:ext cx="1892160" cy="1397160"/>
            <a:chOff x="6608880" y="3449520"/>
            <a:chExt cx="1892160" cy="1397160"/>
          </a:xfrm>
        </p:grpSpPr>
        <p:grpSp>
          <p:nvGrpSpPr>
            <p:cNvPr id="378" name="Group 79"/>
            <p:cNvGrpSpPr/>
            <p:nvPr/>
          </p:nvGrpSpPr>
          <p:grpSpPr>
            <a:xfrm>
              <a:off x="7545600" y="3449520"/>
              <a:ext cx="430200" cy="398880"/>
              <a:chOff x="7545600" y="3449520"/>
              <a:chExt cx="430200" cy="398880"/>
            </a:xfrm>
          </p:grpSpPr>
          <p:sp>
            <p:nvSpPr>
              <p:cNvPr id="379" name="Line 80"/>
              <p:cNvSpPr/>
              <p:nvPr/>
            </p:nvSpPr>
            <p:spPr>
              <a:xfrm>
                <a:off x="7545600" y="3542400"/>
                <a:ext cx="0" cy="2934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81"/>
              <p:cNvSpPr/>
              <p:nvPr/>
            </p:nvSpPr>
            <p:spPr>
              <a:xfrm>
                <a:off x="7571520" y="3449520"/>
                <a:ext cx="40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33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1" name="AutoShape 82"/>
            <p:cNvCxnSpPr/>
            <p:nvPr/>
          </p:nvCxnSpPr>
          <p:spPr>
            <a:xfrm>
              <a:off x="6627960" y="4063320"/>
              <a:ext cx="4618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382" name="AutoShape 83"/>
            <p:cNvCxnSpPr/>
            <p:nvPr/>
          </p:nvCxnSpPr>
          <p:spPr>
            <a:xfrm>
              <a:off x="7089120" y="4063320"/>
              <a:ext cx="4618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383" name="AutoShape 84"/>
            <p:cNvCxnSpPr/>
            <p:nvPr/>
          </p:nvCxnSpPr>
          <p:spPr>
            <a:xfrm>
              <a:off x="7551000" y="4063320"/>
              <a:ext cx="4629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384" name="AutoShape 85"/>
            <p:cNvCxnSpPr/>
            <p:nvPr/>
          </p:nvCxnSpPr>
          <p:spPr>
            <a:xfrm>
              <a:off x="8012880" y="4063320"/>
              <a:ext cx="4618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385" name="Line 86"/>
            <p:cNvSpPr/>
            <p:nvPr/>
          </p:nvSpPr>
          <p:spPr>
            <a:xfrm>
              <a:off x="6624360" y="4098960"/>
              <a:ext cx="1080" cy="29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87"/>
            <p:cNvSpPr/>
            <p:nvPr/>
          </p:nvSpPr>
          <p:spPr>
            <a:xfrm>
              <a:off x="7089480" y="4063680"/>
              <a:ext cx="1080" cy="29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88"/>
            <p:cNvSpPr/>
            <p:nvPr/>
          </p:nvSpPr>
          <p:spPr>
            <a:xfrm>
              <a:off x="7551000" y="4063680"/>
              <a:ext cx="1080" cy="34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89"/>
            <p:cNvSpPr/>
            <p:nvPr/>
          </p:nvSpPr>
          <p:spPr>
            <a:xfrm>
              <a:off x="8013240" y="4063680"/>
              <a:ext cx="1080" cy="29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0"/>
            <p:cNvSpPr/>
            <p:nvPr/>
          </p:nvSpPr>
          <p:spPr>
            <a:xfrm>
              <a:off x="8474760" y="4063680"/>
              <a:ext cx="1080" cy="34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91"/>
            <p:cNvSpPr/>
            <p:nvPr/>
          </p:nvSpPr>
          <p:spPr>
            <a:xfrm>
              <a:off x="6616440" y="4353840"/>
              <a:ext cx="1846080" cy="52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92"/>
            <p:cNvGrpSpPr/>
            <p:nvPr/>
          </p:nvGrpSpPr>
          <p:grpSpPr>
            <a:xfrm>
              <a:off x="6721200" y="3629880"/>
              <a:ext cx="1611000" cy="740880"/>
              <a:chOff x="6721200" y="3629880"/>
              <a:chExt cx="1611000" cy="740880"/>
            </a:xfrm>
          </p:grpSpPr>
          <p:cxnSp>
            <p:nvCxnSpPr>
              <p:cNvPr id="392" name="AutoShape 93"/>
              <p:cNvCxnSpPr/>
              <p:nvPr/>
            </p:nvCxnSpPr>
            <p:spPr>
              <a:xfrm>
                <a:off x="6767280" y="3999600"/>
                <a:ext cx="238320" cy="24732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93" name="AutoShape 94"/>
              <p:cNvCxnSpPr/>
              <p:nvPr/>
            </p:nvCxnSpPr>
            <p:spPr>
              <a:xfrm>
                <a:off x="7004880" y="4246920"/>
                <a:ext cx="332280" cy="123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94" name="AutoShape 95"/>
              <p:cNvCxnSpPr/>
              <p:nvPr/>
            </p:nvCxnSpPr>
            <p:spPr>
              <a:xfrm>
                <a:off x="7336800" y="4370040"/>
                <a:ext cx="38016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95" name="AutoShape 96"/>
              <p:cNvCxnSpPr/>
              <p:nvPr/>
            </p:nvCxnSpPr>
            <p:spPr>
              <a:xfrm flipV="1">
                <a:off x="7716600" y="4246560"/>
                <a:ext cx="333360" cy="123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96" name="AutoShape 97"/>
              <p:cNvCxnSpPr/>
              <p:nvPr/>
            </p:nvCxnSpPr>
            <p:spPr>
              <a:xfrm flipV="1">
                <a:off x="8048880" y="3999240"/>
                <a:ext cx="237240" cy="24732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397" name="Line 98"/>
              <p:cNvSpPr/>
              <p:nvPr/>
            </p:nvSpPr>
            <p:spPr>
              <a:xfrm flipH="1" flipV="1">
                <a:off x="6721200" y="3629880"/>
                <a:ext cx="45720" cy="3697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9"/>
              <p:cNvSpPr/>
              <p:nvPr/>
            </p:nvSpPr>
            <p:spPr>
              <a:xfrm flipV="1">
                <a:off x="6997680" y="3731400"/>
                <a:ext cx="61200" cy="4802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100"/>
              <p:cNvSpPr/>
              <p:nvPr/>
            </p:nvSpPr>
            <p:spPr>
              <a:xfrm flipV="1">
                <a:off x="7335000" y="3841560"/>
                <a:ext cx="30600" cy="5198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101"/>
              <p:cNvSpPr/>
              <p:nvPr/>
            </p:nvSpPr>
            <p:spPr>
              <a:xfrm>
                <a:off x="7683840" y="3850560"/>
                <a:ext cx="23040" cy="51084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02"/>
              <p:cNvSpPr/>
              <p:nvPr/>
            </p:nvSpPr>
            <p:spPr>
              <a:xfrm flipH="1" flipV="1">
                <a:off x="7963920" y="3735360"/>
                <a:ext cx="76320" cy="4978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03"/>
              <p:cNvSpPr/>
              <p:nvPr/>
            </p:nvSpPr>
            <p:spPr>
              <a:xfrm flipV="1">
                <a:off x="8286120" y="3629880"/>
                <a:ext cx="46080" cy="3697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04"/>
              <p:cNvSpPr/>
              <p:nvPr/>
            </p:nvSpPr>
            <p:spPr>
              <a:xfrm>
                <a:off x="7024320" y="3956040"/>
                <a:ext cx="322200" cy="1364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105"/>
              <p:cNvSpPr/>
              <p:nvPr/>
            </p:nvSpPr>
            <p:spPr>
              <a:xfrm>
                <a:off x="7354080" y="4092840"/>
                <a:ext cx="337320" cy="39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106"/>
              <p:cNvSpPr/>
              <p:nvPr/>
            </p:nvSpPr>
            <p:spPr>
              <a:xfrm flipV="1">
                <a:off x="7699320" y="3955680"/>
                <a:ext cx="310320" cy="1321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107"/>
              <p:cNvSpPr/>
              <p:nvPr/>
            </p:nvSpPr>
            <p:spPr>
              <a:xfrm>
                <a:off x="6736680" y="3784320"/>
                <a:ext cx="291240" cy="167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Line 108"/>
              <p:cNvSpPr/>
              <p:nvPr/>
            </p:nvSpPr>
            <p:spPr>
              <a:xfrm flipV="1">
                <a:off x="8002440" y="3784320"/>
                <a:ext cx="306720" cy="167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109"/>
              <p:cNvSpPr/>
              <p:nvPr/>
            </p:nvSpPr>
            <p:spPr>
              <a:xfrm>
                <a:off x="6721560" y="3630240"/>
                <a:ext cx="1610640" cy="21672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110"/>
            <p:cNvGrpSpPr/>
            <p:nvPr/>
          </p:nvGrpSpPr>
          <p:grpSpPr>
            <a:xfrm>
              <a:off x="7408800" y="4063680"/>
              <a:ext cx="113760" cy="307440"/>
              <a:chOff x="7408800" y="4063680"/>
              <a:chExt cx="113760" cy="307440"/>
            </a:xfrm>
          </p:grpSpPr>
          <p:sp>
            <p:nvSpPr>
              <p:cNvPr id="410" name="Line 111"/>
              <p:cNvSpPr/>
              <p:nvPr/>
            </p:nvSpPr>
            <p:spPr>
              <a:xfrm>
                <a:off x="7467480" y="4316040"/>
                <a:ext cx="0" cy="55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112"/>
              <p:cNvSpPr/>
              <p:nvPr/>
            </p:nvSpPr>
            <p:spPr>
              <a:xfrm flipV="1">
                <a:off x="7412400" y="4259520"/>
                <a:ext cx="11016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113"/>
              <p:cNvSpPr/>
              <p:nvPr/>
            </p:nvSpPr>
            <p:spPr>
              <a:xfrm flipH="1" flipV="1">
                <a:off x="7412400" y="4296960"/>
                <a:ext cx="54720" cy="1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Group 114"/>
              <p:cNvGrpSpPr/>
              <p:nvPr/>
            </p:nvGrpSpPr>
            <p:grpSpPr>
              <a:xfrm>
                <a:off x="7451640" y="4063680"/>
                <a:ext cx="55080" cy="54720"/>
                <a:chOff x="7451640" y="4063680"/>
                <a:chExt cx="55080" cy="54720"/>
              </a:xfrm>
            </p:grpSpPr>
            <p:sp>
              <p:nvSpPr>
                <p:cNvPr id="414" name="Line 115"/>
                <p:cNvSpPr/>
                <p:nvPr/>
              </p:nvSpPr>
              <p:spPr>
                <a:xfrm>
                  <a:off x="7451640" y="4101120"/>
                  <a:ext cx="55080" cy="17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116"/>
                <p:cNvSpPr/>
                <p:nvPr/>
              </p:nvSpPr>
              <p:spPr>
                <a:xfrm>
                  <a:off x="7451640" y="4063680"/>
                  <a:ext cx="0" cy="37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6" name="Line 117"/>
              <p:cNvSpPr/>
              <p:nvPr/>
            </p:nvSpPr>
            <p:spPr>
              <a:xfrm flipV="1">
                <a:off x="7412400" y="4185360"/>
                <a:ext cx="11016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Line 118"/>
              <p:cNvSpPr/>
              <p:nvPr/>
            </p:nvSpPr>
            <p:spPr>
              <a:xfrm>
                <a:off x="7408800" y="4227840"/>
                <a:ext cx="10980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Line 119"/>
              <p:cNvSpPr/>
              <p:nvPr/>
            </p:nvSpPr>
            <p:spPr>
              <a:xfrm>
                <a:off x="7408800" y="4153680"/>
                <a:ext cx="10980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Line 120"/>
              <p:cNvSpPr/>
              <p:nvPr/>
            </p:nvSpPr>
            <p:spPr>
              <a:xfrm flipV="1">
                <a:off x="7412400" y="4122000"/>
                <a:ext cx="11016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Text Box 121"/>
            <p:cNvSpPr/>
            <p:nvPr/>
          </p:nvSpPr>
          <p:spPr>
            <a:xfrm>
              <a:off x="6608880" y="4478400"/>
              <a:ext cx="189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53:28Z</dcterms:created>
  <dc:creator>Jindřich Petruška</dc:creator>
  <dc:description/>
  <dc:language>en-US</dc:language>
  <cp:lastModifiedBy>Prof. Jindrich Petruska</cp:lastModifiedBy>
  <dcterms:modified xsi:type="dcterms:W3CDTF">2010-01-07T13:25:56Z</dcterms:modified>
  <cp:revision>33</cp:revision>
  <dc:subject/>
  <dc:title>Contact Problems </dc:title>
</cp:coreProperties>
</file>