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FDB-1B50-415B-A4C4-BC2EC2F9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19C-FB05-485B-B376-76E73FB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3CB-E477-4404-968E-0BDC6725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E4A-5E4E-4AED-AAB1-CF93EC13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4E3-E1C4-4F2B-9AA4-BEE4AEC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ABB-9400-41E2-B7DF-1AE907D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BFE-E97B-4BDB-9D83-8BAC3A8B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15B-373A-455D-AF9B-7EEF360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D94-F1C4-4C7D-B930-C9E9E26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55F-D8EF-444D-8FED-AFA7A2D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E78-6ED4-4044-BBF3-609A31F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7DD-ABA5-40C1-A683-BD1BC29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1D8-C07A-4AE4-9A75-E817DCFBB0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(logaritmický) tenzor konečných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4"/>
              <p:cNvSpPr txBox="1"/>
              <p:nvPr/>
            </p:nvSpPr>
            <p:spPr>
              <a:xfrm>
                <a:off x="971640" y="4797360"/>
                <a:ext cx="67294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" name="Rectangle 5"/>
          <p:cNvSpPr/>
          <p:nvPr/>
        </p:nvSpPr>
        <p:spPr>
          <a:xfrm>
            <a:off x="468360" y="1382760"/>
            <a:ext cx="813600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dostatky tenzorů konečných přetvoř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Green-Lagrange: změny délek jsou stále vztahovány k původním hodnotám, zatímco aktuální již mohou být v průběhu procesu zatěžování významně odliš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mansi-Hamel: změny délek jsou stále vztahovány ke konečným (deformovaným) hodnotám délek, zatímco aktuální od nich mohou být v průběhu procesu zatěžování ještě podstatně odliš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auchyho definice přetvoření je exaktnější v tom, že infinitezimální přírůstek délky vztahuje vždy k aktuální délce v daném stadiu zatěžovacího proc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úsečky o původní délce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0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která se vlivem zatížení mění na aktuální hodnotu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až dosáhne konečné (deformované) délky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určíme integrací přírůstků její délky d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viz obráze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39640" y="5925960"/>
            <a:ext cx="813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Hlavní souřadnice tohoto tenzoru jsou tedy rovny přirozeným  logaritmům odpovídajících souřadnic tenzoru deformačního gradie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44:05Z</dcterms:created>
  <dc:creator>Jiri Bursa</dc:creator>
  <dc:description/>
  <dc:language>en-US</dc:language>
  <cp:lastModifiedBy>Prof. Jindrich Petruska</cp:lastModifiedBy>
  <dcterms:modified xsi:type="dcterms:W3CDTF">2010-01-08T11:54:25Z</dcterms:modified>
  <cp:revision>6</cp:revision>
  <dc:subject/>
  <dc:title>Cauchyho (logaritmický) tenzor přetvoření</dc:title>
</cp:coreProperties>
</file>