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C59-9DB1-41C1-91B9-8DBD5209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0F8-4307-42AF-A12C-D83E57F6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883-E6A8-4198-8F82-E233EF2D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547-FDA7-4518-8430-53127EC1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1D7-C9CC-4C1F-9F3F-5A877049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CE9-4B32-4E24-BF5D-F0B25B4E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5EB-7B1F-463B-B0CA-5A5698C6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9FD4-BC53-40CA-B479-5B687223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3EC-32AE-4756-BAE9-6895BCD7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108-78F8-4E91-81A2-F4C85DC9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CF3-ED65-4997-AE2B-6CFF89A1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2CF-8C77-4D4A-9209-67568A1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6D93-BDC6-4609-A036-6FD9F9FCDFD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nergeticky konjugované tenz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tenzorech napětí a přetvoření říkáme, že jso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nergeticky konjug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družené),  jestliže jejich skalární součin integrovaný přes odpovídající vztažnou geometrickou konfigurac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ává práci vnitřních  si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Uvedené tenzory přitom nelze kombinovat libovolně. Energeticky konjugované jsou např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een-Lagrangeův tenzor přetvoření a 2. Piola-Kirchhoffův tenzor napětí, ne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mansiho tenzor přetvoření a Cauchyho tenzor (skutečných) napět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jich prostřednictvím lze vyjádřit virtuální práci vnitřních sil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 V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počáteční, V finální geometrická konfigu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á jiná kombinace tenzorů či vztažných geometrií by poskytla nesprávný výsle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1692360" y="4349880"/>
                <a:ext cx="50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∂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∂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51:50Z</dcterms:created>
  <dc:creator>Jiri Bursa</dc:creator>
  <dc:description/>
  <dc:language>en-US</dc:language>
  <cp:lastModifiedBy>Prof. Jindrich Petruska</cp:lastModifiedBy>
  <dcterms:modified xsi:type="dcterms:W3CDTF">2010-01-08T11:53:08Z</dcterms:modified>
  <cp:revision>5</cp:revision>
  <dc:subject/>
  <dc:title>Energeticky konjugované tenzory</dc:title>
</cp:coreProperties>
</file>