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539-D9C3-4167-8BC3-2AF9FEE7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002-C458-44D9-97C3-B813ECA8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F1F-97EC-44DD-8E48-26126736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BC0-695D-48FC-8410-633D96EC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DF4-8835-4ED0-8257-9C62C4BE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9C1-D30B-4FD6-B9B6-89ACE19F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8D9-A69A-48B5-9FCA-F97639A1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CE5-3148-42AF-86BF-0691F3CC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C43-095F-4BBF-859E-1C4A89AF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623-5F2B-48F6-BF25-67FF6537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B8F-F3FB-4EAC-B14D-03855429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0E1-05E1-4AF1-B222-B6ACCBFD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2A8F-65A6-4D54-B99D-7A46468DD61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insteinovo sčítací pravid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507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Einsteinovo sčítací pravidlo se používá pro zjednodušení obecných tenzorových zápisů. Vyskytuje-li se v některém členu opakovaný index (tzv. sčítací index, v našem případě index k) pak se provádí sumace přes tento index. Např. obecný zápis Green-Lagrangeova tenzoru přetvoření ve tv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je třeba interpretovat následovn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5"/>
              <p:cNvSpPr txBox="1"/>
              <p:nvPr/>
            </p:nvSpPr>
            <p:spPr>
              <a:xfrm>
                <a:off x="3241800" y="2603520"/>
                <a:ext cx="39942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2268360" y="4205160"/>
                <a:ext cx="4116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4:19:40Z</dcterms:created>
  <dc:creator>Jiri Bursa</dc:creator>
  <dc:description/>
  <dc:language>en-US</dc:language>
  <cp:lastModifiedBy>Prof. Jindrich Petruska</cp:lastModifiedBy>
  <dcterms:modified xsi:type="dcterms:W3CDTF">2010-01-08T11:52:55Z</dcterms:modified>
  <cp:revision>4</cp:revision>
  <dc:subject/>
  <dc:title>Einsteinovo sčítací pravidlo</dc:title>
</cp:coreProperties>
</file>