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26C-EA3D-43B5-859C-8BA99F99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EA4-67E2-4238-9588-20F74352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865-7B1C-48EA-B688-8E100A20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047-C873-4A21-BEEA-E8754466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9A6-5799-4519-B379-93FD8053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1BD-9550-4DF3-9221-B53D3828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FED-695E-4E0A-B640-E9B5AE77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810-B046-4695-9189-06968194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C7A-FC36-4660-9ED4-CEE2E72F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B0E-142F-44BD-B4BD-F2AAA38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8E3-7B59-496F-B5B8-6B6B147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6CF-71F8-407F-81C5-9180E5F4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F351-8E23-4EBD-84D8-BA74CCBD88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-Greenův tenzor de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847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to definice nepracuje s přetvořeními, ale s poměrnými protaženími, podobně jako tenzor deformačního gradien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 nějž se odvozuje pomocí vztah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ý Cauchy-Greenův tenzor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vý Cauchy-Greenův tenzor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ložkovém tvaru lze například pravý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uchy-Greenův tenzor deformace zapsat následovně (s využitím Einsteinova sčítacího pravid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mi souřadnicemi tohoto tenzoru jsou tedy kvadráty poměrných protažení v hlavních směr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22"/>
              <p:cNvSpPr txBox="1"/>
              <p:nvPr/>
            </p:nvSpPr>
            <p:spPr>
              <a:xfrm>
                <a:off x="6041880" y="2421000"/>
                <a:ext cx="1554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19"/>
              <p:cNvSpPr txBox="1"/>
              <p:nvPr/>
            </p:nvSpPr>
            <p:spPr>
              <a:xfrm>
                <a:off x="6059520" y="1773360"/>
                <a:ext cx="1608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36"/>
              <p:cNvSpPr txBox="1"/>
              <p:nvPr/>
            </p:nvSpPr>
            <p:spPr>
              <a:xfrm>
                <a:off x="2411280" y="3645000"/>
                <a:ext cx="1548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38"/>
              <p:cNvSpPr txBox="1"/>
              <p:nvPr/>
            </p:nvSpPr>
            <p:spPr>
              <a:xfrm>
                <a:off x="4573440" y="4581360"/>
                <a:ext cx="23749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Invarianty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-Greenova tenzoru de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07552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arianty tohoto tenzoru lze v hlavním souřadnicovém systému vyjádřit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J je třetí invariant tenzoru deformačního gradientu. Třetí invariant tedy i u Cauchy-Greenova tenzoru deformace vyjadřuje změnu objemu (je roven jedné, pokud se při deformaci objem nemění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vztazích pro funkce měrné energie napjatosti se kromě něj používají tzv. modifikované invarianty Cauchy-Greenova tenzoru deformace, případně modifikované hodnoty hlavních poměrných protažení, které vyjadřují pouze tvarovou (deviátorovou) část tenzoru de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4"/>
              <p:cNvSpPr txBox="1"/>
              <p:nvPr/>
            </p:nvSpPr>
            <p:spPr>
              <a:xfrm>
                <a:off x="2927520" y="2589120"/>
                <a:ext cx="2796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5"/>
              <p:cNvSpPr txBox="1"/>
              <p:nvPr/>
            </p:nvSpPr>
            <p:spPr>
              <a:xfrm>
                <a:off x="684360" y="2301840"/>
                <a:ext cx="1965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6"/>
              <p:cNvSpPr txBox="1"/>
              <p:nvPr/>
            </p:nvSpPr>
            <p:spPr>
              <a:xfrm>
                <a:off x="5940360" y="2949480"/>
                <a:ext cx="2041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6:56:55Z</dcterms:created>
  <dc:creator>Jiri Bursa</dc:creator>
  <dc:description/>
  <dc:language>en-US</dc:language>
  <cp:lastModifiedBy>Prof. Jindrich Petruska</cp:lastModifiedBy>
  <dcterms:modified xsi:type="dcterms:W3CDTF">2010-01-08T11:51:54Z</dcterms:modified>
  <cp:revision>10</cp:revision>
  <dc:subject/>
  <dc:title>Tenzor deformačního gradientu</dc:title>
</cp:coreProperties>
</file>