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15A-6A76-419D-93A5-972BAE35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965-83FB-4A37-94BB-F1A8BFCD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BF4-6BE0-4BE0-AEA8-B4801C94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648-7E7E-459B-BEF2-BC357118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9C5-8854-42FD-B99D-886C99A0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42F-F61E-42E7-9B4F-9D336C4D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E4A-2E8C-4A63-B58C-7A0CE784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AA3-1F7F-4CEC-AB8F-275D2DF1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B98-7890-41A1-BBF8-13960E91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D06-5676-4BCD-9D7B-11B3A7F1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31B-9D14-4ECD-A318-9942D688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82C-35E8-4F2F-B1A5-8FB4D17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E5E-38FC-4BD4-9D84-B47C4C586C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P&#345;etvo&#345;en&#237;-obr&#225;zek Almansi.ppt" TargetMode="External"/><Relationship Id="rId2" Type="http://schemas.openxmlformats.org/officeDocument/2006/relationships/hyperlink" Target="p&#345;etvo&#345;en&#237;_Green-Lagrang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Einsteinovo pravidlo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mansi-Hamelův tenzor 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Eulerově popisu deformace se poměrné přetvoření vztahuje ke konečným rozměrům, které tak definují výchozí vztažnou geometrickou konfiguraci – 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ráz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Pak délkové přetvoření lze vyjád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ým postupem s využitím binomické řady jako pr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een-Lagrangeův tenzor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me výraz upravit na t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928800" y="2070000"/>
                <a:ext cx="73357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</m:num>
                          <m:den/>
                        </m:f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9"/>
              <p:cNvSpPr txBox="1"/>
              <p:nvPr/>
            </p:nvSpPr>
            <p:spPr>
              <a:xfrm>
                <a:off x="746280" y="3573360"/>
                <a:ext cx="7354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f>
                          <m:num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2"/>
              <p:cNvSpPr txBox="1"/>
              <p:nvPr/>
            </p:nvSpPr>
            <p:spPr>
              <a:xfrm>
                <a:off x="755640" y="4595760"/>
                <a:ext cx="3220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" name="Rectangle 13"/>
          <p:cNvSpPr/>
          <p:nvPr/>
        </p:nvSpPr>
        <p:spPr>
          <a:xfrm>
            <a:off x="473400" y="5300640"/>
            <a:ext cx="57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ostatní složky délkových přetvoření platí analog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14"/>
              <p:cNvSpPr txBox="1"/>
              <p:nvPr/>
            </p:nvSpPr>
            <p:spPr>
              <a:xfrm>
                <a:off x="803160" y="5667480"/>
                <a:ext cx="3264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5"/>
              <p:cNvSpPr txBox="1"/>
              <p:nvPr/>
            </p:nvSpPr>
            <p:spPr>
              <a:xfrm>
                <a:off x="4572000" y="5676840"/>
                <a:ext cx="3529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979640" y="2492280"/>
                <a:ext cx="41083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Rectangle 8"/>
          <p:cNvSpPr/>
          <p:nvPr/>
        </p:nvSpPr>
        <p:spPr>
          <a:xfrm>
            <a:off x="468360" y="54514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použití Almansiho tenzoru je omezeno tím, že konečné (deformované) souřadnice obvykle předem nezn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24000" y="1557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zobecnění na všechny složky je možné Almansiho tenzor přetvoření zapsat v kompaktní podobě pomoc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insteinova sčítacího pravid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mansi-Hamelův tenzor 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95280" y="3645000"/>
            <a:ext cx="8280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gorózní odvození tohoto tenzoru včetně mimodiagonálních složek je možno nalézt v literatuře, např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.A. Holzapfel: Nonlinear Solid Mechanics, Wiley and Sons,  20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Okrouhlík a kol.: Mechanika poddajných těles, numerická matematika a superpočítače, Ústav termomechaniky AV ČR, Praha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25:54Z</dcterms:created>
  <dc:creator>Jiri Bursa</dc:creator>
  <dc:description/>
  <dc:language>en-US</dc:language>
  <cp:lastModifiedBy>Prof. Jindrich Petruska</cp:lastModifiedBy>
  <dcterms:modified xsi:type="dcterms:W3CDTF">2010-01-08T11:54:14Z</dcterms:modified>
  <cp:revision>6</cp:revision>
  <dc:subject/>
  <dc:title>Almansi-Hamelův tenzor konečných deformací</dc:title>
</cp:coreProperties>
</file>