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16C-0CAD-46EF-966D-B83BA165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5F1-3017-4151-9152-9F9904F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B4A-287E-498B-B016-87695EA6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2FB-3955-465D-A5D3-AF6FFFDC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5AC-D4FD-4C3A-AE40-8B731C9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AAA-BA0E-425F-A14F-808B43E9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97A-DB14-47C1-8A6B-9BEE56E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8A0-9327-41FB-AF53-0D0CED7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5C5-63E6-4293-9D0D-39F8081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BB8-97C4-4779-956C-F4F4228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27F-1822-4083-AEE1-4A61DFD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937-A1E5-411E-87AC-09CAE45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ABA-53A3-4EC6-9410-3C3ABB1952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nap&#283;t&#237;-Cauchy.ppt" TargetMode="External"/><Relationship Id="rId2" Type="http://schemas.openxmlformats.org/officeDocument/2006/relationships/hyperlink" Target="nap&#283;t&#237;-1.Piola-Kirchhoff.ppt" TargetMode="External"/><Relationship Id="rId3" Type="http://schemas.openxmlformats.org/officeDocument/2006/relationships/hyperlink" Target="nap&#283;t&#237;-2.Piola-Kirchhoff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48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68360" y="1382760"/>
            <a:ext cx="813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18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18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, tedy složky tenzoru deformačního gradientu. V hlavním souřadnicovém systému platí následující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Hlavn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auchyho (skutečné) napě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lze vyjádřit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1.P.K.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ro nestlačitelný materiál pla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a tedy napětí jsou ve vzta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odobně lze vyjádřit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Cauchyho napětí lze vyjádřit i pomocí 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bo jednodušeji pro nestlačitelný mater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8"/>
              <p:cNvSpPr txBox="1"/>
              <p:nvPr/>
            </p:nvSpPr>
            <p:spPr>
              <a:xfrm>
                <a:off x="3454560" y="2421000"/>
                <a:ext cx="4070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9"/>
              <p:cNvSpPr txBox="1"/>
              <p:nvPr/>
            </p:nvSpPr>
            <p:spPr>
              <a:xfrm>
                <a:off x="3708360" y="3189240"/>
                <a:ext cx="129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10"/>
              <p:cNvSpPr txBox="1"/>
              <p:nvPr/>
            </p:nvSpPr>
            <p:spPr>
              <a:xfrm>
                <a:off x="1332000" y="3500280"/>
                <a:ext cx="18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1"/>
              <p:cNvSpPr txBox="1"/>
              <p:nvPr/>
            </p:nvSpPr>
            <p:spPr>
              <a:xfrm>
                <a:off x="4356000" y="3933720"/>
                <a:ext cx="290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2"/>
              <p:cNvSpPr txBox="1"/>
              <p:nvPr/>
            </p:nvSpPr>
            <p:spPr>
              <a:xfrm>
                <a:off x="6149880" y="4903920"/>
                <a:ext cx="202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3"/>
              <p:cNvSpPr txBox="1"/>
              <p:nvPr/>
            </p:nvSpPr>
            <p:spPr>
              <a:xfrm>
                <a:off x="5219640" y="5689440"/>
                <a:ext cx="1567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3:58Z</dcterms:created>
  <dc:creator>Jiri Bursa</dc:creator>
  <dc:description/>
  <dc:language>en-US</dc:language>
  <cp:lastModifiedBy>Prof. Jindrich Petruska</cp:lastModifiedBy>
  <dcterms:modified xsi:type="dcterms:W3CDTF">2010-01-08T11:54:03Z</dcterms:modified>
  <cp:revision>6</cp:revision>
  <dc:subject/>
  <dc:title>Vzájemné přepočtové vztahy pro tenzory napětí</dc:title>
</cp:coreProperties>
</file>