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78A-E2A9-4F2F-89AB-38CF5079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66C-66AC-4DC4-8716-ECEC78BC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367-0F19-480E-8EB8-4B03043C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39E-5D27-4838-B0FE-3C4BFAA3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C1E-1BD7-42E1-913E-9A227F25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495-AFC6-4044-B2FB-012620A1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AB9-DFDD-43CA-8760-D441F995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146-E812-4470-AF5E-D42D5256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787D-9D9C-4684-B9E6-78A99B56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B8C-A935-45D2-A3A2-E0483DA1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E1D-6945-4388-BA61-47CD85F5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B4B-3984-48B3-A99B-F588CBF3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62C4-EB63-42C0-A246-61092626C6F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auchyho tenzor napě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Cauchyho tenzor napětí (označovaný také jako Eulerův, v praxi často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kutečná napětí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 – true stress) je definován jako skutečná elementární síla vztažená na skutečnou (tj. deformovanou) plochu elementu podle vztahu (platí pro hlavní napětí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Konkrétně pro hlavní napětí ve směru 1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5"/>
              <p:cNvSpPr txBox="1"/>
              <p:nvPr/>
            </p:nvSpPr>
            <p:spPr>
              <a:xfrm>
                <a:off x="3193920" y="3429000"/>
                <a:ext cx="16812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7"/>
              <p:cNvSpPr txBox="1"/>
              <p:nvPr/>
            </p:nvSpPr>
            <p:spPr>
              <a:xfrm>
                <a:off x="3686040" y="4869000"/>
                <a:ext cx="17049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26:19Z</dcterms:created>
  <dc:creator>Jiri Bursa</dc:creator>
  <dc:description/>
  <dc:language>en-US</dc:language>
  <cp:lastModifiedBy>Prof. Jindrich Petruska</cp:lastModifiedBy>
  <dcterms:modified xsi:type="dcterms:W3CDTF">2010-01-08T11:53:54Z</dcterms:modified>
  <cp:revision>5</cp:revision>
  <dc:subject/>
  <dc:title>Piola-Kirchhoffův tenzor napětí 1. druhu </dc:title>
</cp:coreProperties>
</file>