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B90-8B78-4768-BDDA-0CDD9CB5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7F3-D102-443C-B0AD-4AA1F8DB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168-B144-4D62-BA46-95891EAC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750-DA3E-49D5-A839-5B3DABAC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C250-E831-4B6F-AC4A-11919BAF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2A26-DE24-4DBD-BBBC-F1779FAE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B20C-346C-4639-9F4C-965BDD66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7E00-8DED-44BB-A593-FD6AE73D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65FF-4C79-4169-93F3-A14FC44B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723A-51FC-4736-9E38-B3B93D6C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9D1E-3614-456F-ACB3-B596BCE4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C63-D2CA-437A-B2D3-C90B13B9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744A-9AC8-46BB-B9BF-B1198833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D5F8-6C76-4601-9113-B3692853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966B-0A0E-41C3-BF73-2FE7600D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E707-C803-4DDA-81F0-112DCABA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E3C3-2D24-442C-B709-E9A17812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7ED5-1FAA-4060-8A5E-ADC7F511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E70-908D-4861-B479-8366F4EE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64C-BC5A-4EC6-85FB-7A8B1DF6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349-EB0A-4B1D-9A0A-B446477A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C44-1920-4B9D-97A0-2025A1F8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AE6-8BEA-4FE2-AF98-DDC397C8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FAC-5A66-4175-94D3-C64B7819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0DDC-9027-4A5C-9DDB-E14B2F34F98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9934-B0AC-4132-B39B-38ADBAB5050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3357720"/>
            <a:ext cx="3743280" cy="2519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lasticit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346720" y="4508640"/>
                <a:ext cx="2104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B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dy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1331280"/>
            <a:ext cx="79869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Je charakterizovaná nevratnou plastickou deformací, která vzniká po překročení meze kluzu (Yield stress). Nelineární závislost mezi napětím a přetvořením přitom nastává již po překročení meze úměrnosti (Proportional limit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zhledem k blízkosti obou těchto mezních bodů nejsou v praxi rozlišovány a pracuje se pouze s hodnotou meze kluz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lasticita je nekonzervativní proces jehož výsledek je závislý na celé historii zatěžování. Vyžaduje proto při výpočtovém řešení správně zadat celou sekvenci zatěžovacích (a odlehčovacích) kroků s dostatečně jemným rozdělením zatěžovacích přírůstků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3645000"/>
            <a:ext cx="3286080" cy="1933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292720" y="5300640"/>
                <a:ext cx="1279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716360" y="2924280"/>
            <a:ext cx="3816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ávislost matice tuhosti na aktuální deformaci je zprostředkována pomocí matice materiálových charakteristik D, která vyjadřuje závislost mezi napětím a přetvořením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= D.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 V případě elastoplastického stavu je tato matice závislá na dosažené úrovni a historii průběhu deformace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4941720"/>
            <a:ext cx="216000" cy="287640"/>
          </a:xfrm>
          <a:prstGeom prst="downArrow">
            <a:avLst>
              <a:gd name="adj1" fmla="val 50000"/>
              <a:gd name="adj2" fmla="val 33292"/>
            </a:avLst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681-BFE8-46F1-A905-5D5B99A54EC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260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stic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48320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krementální (přírůstková) teorie plasticity poskytuje matematický aparát, umožňující výpočtově modelovat elastoplastickou odezvu materiálu na zatížení. Tři základní komponenty teorie plasticity jsou: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mínka plasticity, zákon teče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zpevně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4760" y="299628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Podmínka plasticity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3407040"/>
            <a:ext cx="7394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hoduje o úrovni napjatosti, při které je iniciován proces plastizace. Pro obecnou napjatost je kriteriální veličinou ekvivalentní (redukované) napětí 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0360" y="4437000"/>
            <a:ext cx="2089080" cy="17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740720" y="4797360"/>
            <a:ext cx="287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5878440"/>
            <a:ext cx="9349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4415040"/>
            <a:ext cx="43480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mínka plasticity má 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 prostoru hlavních napětí je reprezentována plochou plasticity, která má pro nejčastěji používanou podmínku HMH válcový tvar dle 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362-88E6-4EAB-908C-CCA2C01DC52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260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stic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78920" y="126756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Zákon teče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69920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rčuje velikost přírůstku složek plastického přetvoření v závislosti na přírůstku napětí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6848640" cy="160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940360" y="4437000"/>
            <a:ext cx="2089080" cy="17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7164360" y="5950080"/>
            <a:ext cx="863640" cy="215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40720" y="4797360"/>
            <a:ext cx="287280" cy="216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3427560"/>
            <a:ext cx="6624720" cy="8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stický multiplikátor (rozhoduje o velikosti přírůstk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plastický potenciál, obvykle ztotožněn s plochou plastici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22D-F42B-4921-BFB4-255F3A373A4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548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Zpevně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971640"/>
            <a:ext cx="777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změnu plochy plasticity během procesu plastické deformace, aby bylo možno formulovat následné podmínky plasticity při opakované, cyklické plastizaci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va základní modely jsou izotropní zpevnění, při kterém se plocha plasticity rovnoměrně „nafukuje“ všemi směry, a kinematické zpevnění, při kterém dochází k jejímu posunu ve směru působícího napětí. Bližší realitě je kinematické zpevnění, které odpovídá experimentálně prokázanému jevu označovanému jako Bauschingerův efek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63640" y="3475080"/>
            <a:ext cx="5451480" cy="26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 flipV="1">
            <a:off x="2556000" y="4901760"/>
            <a:ext cx="576000" cy="73080"/>
          </a:xfrm>
          <a:prstGeom prst="line">
            <a:avLst/>
          </a:prstGeom>
          <a:ln cap="sq" w="2844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959360" y="4941360"/>
            <a:ext cx="669960" cy="73080"/>
          </a:xfrm>
          <a:prstGeom prst="line">
            <a:avLst/>
          </a:prstGeom>
          <a:ln cap="sq" w="2844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463716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33"/>
                </a:solidFill>
                <a:latin typeface="Times New Roman"/>
              </a:rPr>
              <a:t>Loading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64000" y="465300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33"/>
                </a:solidFill>
                <a:latin typeface="Times New Roman"/>
              </a:rPr>
              <a:t>Loading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051-5247-49BB-8F0B-70C9072E6B9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260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stic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2360" y="2132280"/>
            <a:ext cx="292536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uschinge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ů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f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k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2232000" cy="1865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84760" y="50839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nemat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ké zpevně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43280" y="2755800"/>
          <a:ext cx="3097440" cy="240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755800"/>
                    <a:ext cx="30974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4713840" y="5083920"/>
            <a:ext cx="228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rop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pevně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3A02-9098-4B31-8E31-11CDF34FA3A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lastic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177156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proximace tahového diagr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ilin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árn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Multilin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ár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76360" y="2924280"/>
            <a:ext cx="5975280" cy="297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58C-69AD-4512-A6BC-7ABDCD74439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11206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stic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základní modely zpevnění: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- bilineární kinematický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- multilineární kinematický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- bilineární izotropní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- multilineární izotrop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4319640" cy="38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389-8502-40AD-872C-F02DA0C9BCA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7:15:50Z</dcterms:created>
  <dc:creator>Rudolf Fret</dc:creator>
  <dc:description/>
  <dc:language>en-US</dc:language>
  <cp:lastModifiedBy>Jindřich Petruška</cp:lastModifiedBy>
  <dcterms:modified xsi:type="dcterms:W3CDTF">2010-01-06T18:02:18Z</dcterms:modified>
  <cp:revision>111</cp:revision>
  <dc:subject/>
  <dc:title>STRUKTURNÍ STABILITA ŽÁRUPEVNÝCH OCELÍ A JEJICH SVAROVÝCH SPOJŮ</dc:title>
</cp:coreProperties>
</file>