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7E5-2398-43D6-8D9F-3A9EE1F3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316-0818-427B-B922-95DE09DC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DCF-867E-499B-87F3-A461496B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A46-47AE-4A35-A2C8-F1E5196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623-5199-4706-8AB9-D8B1542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431-8B7C-4FAB-88D6-641793C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4F8-17E8-4A8C-93A9-8104D54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377-96CA-428A-AF10-0E7B25D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818-3D70-4381-A5D8-D291290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FEA-DE29-4C42-B40D-39DF7F3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243-A6BC-41FC-9F75-F488810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BE0-B12C-4A71-88D9-4A6410D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359-EC34-44E4-8C0F-31F606357B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insteinovo%20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(poměrná deformace) je vztažena k původním (nedeformovaným) rozměrům, ale je respektováno i natáčení elementu. Pak je délkové přetvoření (označení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ormovaná délka elementu dx se zde počítá aplikací Pythagorovy věty ve 3D prostoru (není v obrázku zakresleno). Pro zjednodušení vztahu použijeme první dva členy binomické řad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ak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o ostatní složky délkových přetvoření platí analogic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600120" y="1919160"/>
                <a:ext cx="7894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4572000" y="3154320"/>
                <a:ext cx="2462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κ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5092560" y="4484520"/>
                <a:ext cx="32212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8"/>
              <p:cNvSpPr txBox="1"/>
              <p:nvPr/>
            </p:nvSpPr>
            <p:spPr>
              <a:xfrm>
                <a:off x="687240" y="3745080"/>
                <a:ext cx="6356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99540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0"/>
              <p:cNvSpPr txBox="1"/>
              <p:nvPr/>
            </p:nvSpPr>
            <p:spPr>
              <a:xfrm>
                <a:off x="508644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ecnění na všechny složky tenzoru přetvoření je možné pomocí tenzorového záp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zápis používá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o sčítací pravid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979640" y="192564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Rectangle 6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3:28Z</dcterms:created>
  <dc:creator>Jiri Bursa</dc:creator>
  <dc:description/>
  <dc:language>en-US</dc:language>
  <cp:lastModifiedBy>Prof. Jindrich Petruska</cp:lastModifiedBy>
  <dcterms:modified xsi:type="dcterms:W3CDTF">2010-01-08T11:54:35Z</dcterms:modified>
  <cp:revision>6</cp:revision>
  <dc:subject/>
  <dc:title>Green-Lagrangeův tenzor konečných deformací</dc:title>
</cp:coreProperties>
</file>