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58E-781A-4AF2-9666-DFDDAF1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66F-FA1B-4664-A0E4-6E31274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9B7-9A10-4A4B-9643-23763038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D76-7FBF-41ED-A418-1CC7F3C8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1BF-B998-492B-9B41-1ACC943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0F7-BA4A-459C-BFD2-CA884B63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773-6A75-41AF-884E-D48AB207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99E-25F1-4512-BCCA-6EBEEAF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109-20D0-48AA-9643-CC2B17B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331-8309-48AE-B810-163D966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30D-9D6F-40D0-A4F3-F57B3D5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B0-DC3F-4532-A28B-64445F2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F01-00C3-4C06-BBA8-134B425BFB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značení deformovaných a nedeformovaných souřad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068480" y="2006640"/>
            <a:ext cx="724860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1:44Z</dcterms:created>
  <dc:creator>Jiri Bursa</dc:creator>
  <dc:description/>
  <dc:language>en-US</dc:language>
  <cp:lastModifiedBy>Prof. Jindrich Petruska</cp:lastModifiedBy>
  <dcterms:modified xsi:type="dcterms:W3CDTF">2010-01-08T11:52:40Z</dcterms:modified>
  <cp:revision>2</cp:revision>
  <dc:subject/>
  <dc:title>Označení deformovaných a nedeformovaných souřadnic</dc:title>
</cp:coreProperties>
</file>