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3E11-247C-4BC9-A7EF-FE13272F82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E9FA-ACE4-4BB5-8864-3675FDCD43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CDA-2BED-4D41-951F-1CE142C9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171-B603-4915-AAC4-7DE8CC11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F78-7504-4F80-BB4E-9975867E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31D-EE1D-4FDD-A58C-986FD275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390-2508-4806-B7C7-41717F21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CDC-7542-4D06-8E78-49A00802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F24-1694-4C96-AFC2-DE927EBE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75E-7D54-4018-8255-8A60735E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0AC-3979-48E8-AED8-EC053128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97F-31D3-43CC-A99B-CF6D3363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0DB-BAA0-4629-81A2-BD194833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A1C-AF40-49B6-BF8C-76EF2D86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2461-EBDA-418D-ACC0-9C8A3460EE4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zájemné přepočtové vztahy pro tenzory přetvoř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1979640" y="4941720"/>
                <a:ext cx="113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Rectangle 4"/>
          <p:cNvSpPr/>
          <p:nvPr/>
        </p:nvSpPr>
        <p:spPr>
          <a:xfrm>
            <a:off x="468360" y="1525680"/>
            <a:ext cx="81360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Nejvhodnější pro vzájemný přepočet tenzorů přetvoření jsou poměrná protažení </a:t>
            </a:r>
            <a:r>
              <a:rPr b="0" lang="el-GR" sz="2000" spc="-1" strike="noStrike">
                <a:solidFill>
                  <a:srgbClr val="333333"/>
                </a:solidFill>
                <a:latin typeface="Tahoma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Tahoma"/>
                <a:ea typeface="Tahoma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, tedy složky tenzoru deformačního gradientu. Pro jednoduchost jsou uvedena jen hlavní přetvoření jako funkce hlavních poměrných protažení </a:t>
            </a: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Smluvní přetvoření - vztah se odvozuje v základní P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Green-Lagran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Almansi-Ham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Cauc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6769080" y="2587680"/>
                <a:ext cx="11160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2838600" y="3230640"/>
                <a:ext cx="53337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2690640" y="4005360"/>
                <a:ext cx="5481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zdíly mezi jednotlivými definicemi tenzoru přetvoř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457200" y="2743200"/>
          <a:ext cx="479268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47926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7"/>
          <p:cNvSpPr/>
          <p:nvPr/>
        </p:nvSpPr>
        <p:spPr>
          <a:xfrm>
            <a:off x="1187280" y="2492280"/>
            <a:ext cx="302436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187280" y="2708280"/>
            <a:ext cx="453708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211640" y="2540160"/>
            <a:ext cx="15112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268360" y="2133720"/>
            <a:ext cx="6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916360" y="2781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572000" y="21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3"/>
              <p:cNvSpPr txBox="1"/>
              <p:nvPr/>
            </p:nvSpPr>
            <p:spPr>
              <a:xfrm>
                <a:off x="5187960" y="2708280"/>
                <a:ext cx="31161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4"/>
              <p:cNvSpPr txBox="1"/>
              <p:nvPr/>
            </p:nvSpPr>
            <p:spPr>
              <a:xfrm>
                <a:off x="5243400" y="3645000"/>
                <a:ext cx="3000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5"/>
              <p:cNvSpPr txBox="1"/>
              <p:nvPr/>
            </p:nvSpPr>
            <p:spPr>
              <a:xfrm>
                <a:off x="5289480" y="4292640"/>
                <a:ext cx="1874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6"/>
              <p:cNvSpPr txBox="1"/>
              <p:nvPr/>
            </p:nvSpPr>
            <p:spPr>
              <a:xfrm>
                <a:off x="5381640" y="4946760"/>
                <a:ext cx="214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28"/>
          <p:cNvSpPr/>
          <p:nvPr/>
        </p:nvSpPr>
        <p:spPr>
          <a:xfrm>
            <a:off x="1619280" y="1700280"/>
            <a:ext cx="46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01:20Z</dcterms:created>
  <dc:creator>Jiri Bursa</dc:creator>
  <dc:description/>
  <dc:language>en-US</dc:language>
  <cp:lastModifiedBy>Prof. Jindrich Petruska</cp:lastModifiedBy>
  <dcterms:modified xsi:type="dcterms:W3CDTF">2010-01-08T11:55:01Z</dcterms:modified>
  <cp:revision>7</cp:revision>
  <dc:subject/>
  <dc:title>Vzájemné přepočtové vztahy pro tenzory přetvoření</dc:title>
</cp:coreProperties>
</file>